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B56-8294-4AC1-94ED-A9DBEE82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384-F134-4DEF-AF9A-4C7CE44E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A2F-73C9-4108-BB44-05C31885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E17-9039-4B96-833E-6F6AFD55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B09-3EAF-42A9-A497-B1FB0E1C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6F2-447A-4A40-8170-6DE6DB29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CDCA-CE3C-4A80-8895-338D6D2B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DF5-5736-4A91-BC9E-684FB6E2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051-C6AF-45AF-BD4F-5BD21958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2AF-50FD-42E7-A3FD-6D23745F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7F1-2051-4DD2-9797-BBB8A283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6066-E06D-4905-BFE5-7D425989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B828-9299-4CE0-9816-658B1861A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krimov18"/>
          <p:cNvPicPr/>
          <p:nvPr/>
        </p:nvPicPr>
        <p:blipFill>
          <a:blip r:embed="rId1"/>
          <a:stretch/>
        </p:blipFill>
        <p:spPr>
          <a:xfrm>
            <a:off x="0" y="0"/>
            <a:ext cx="9144000" cy="7605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оль стихии в судьбе героев повести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.С. Пушкина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Метел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newyearphotos_(137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3716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виридов романс 2.wav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1782[1]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387520" y="533520"/>
            <a:ext cx="484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ЯТИСТИШ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607760" y="1447920"/>
            <a:ext cx="6855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ель (сущ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прилага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глаг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откая фраза по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00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006cb5aa1f85f097da8f3cd866f88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ратимся к финалу повести, когда метель улеглась и Марья Гавриловна и Бурмин встретились. Все уже пережито, супруги нашли друг друга, их ждет счастье... А может, все не так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ушкин оставил своих героев в саду, дальнейшая их судьба нам неизвестна. А что же случилось после объяснения?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будьте немного автором и допишите повесть до конца. Представьте и опишите, что произошло после объяс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ера</cp:lastModifiedBy>
  <dcterms:modified xsi:type="dcterms:W3CDTF">2014-12-10T15:13:0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