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9E5-93ED-4A61-B93C-B5DFD657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3E7-0C9A-4A52-90D4-BF8027A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F2C-20D6-4B44-91B5-F15B429D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423-0108-4B5D-A378-9D06CDB3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67B-4DE0-412D-9D78-9BD2424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A88-9068-46F1-9188-EBBBE06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4AB-AFB5-4E89-9E8B-66E9B45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A42-47D1-4505-BE9B-0DB47D7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F61-53A1-4A87-9A7A-71CFFED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4D4-6BD3-49CC-95A4-B2CB149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327-34B6-491A-AC32-F2D87F9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078-6AE7-47EC-AFA3-1A6CDFE7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A4C-CEAD-499D-8FBF-3CE177F7BF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arvingrascal.com/images/Other/Sandwich/1211115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young.rzd.ru/dbmm/images/41/4080/1652867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055.radikal.ru/1002/e1/16accb714466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ve4.ru/board/img_Alenka159_74_0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рыбы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 дайында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айындаған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ехнология мұғалімі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ухтарова М.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09480" y="3987720"/>
            <a:ext cx="396252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рдел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i?id=21106374-00"/>
          <p:cNvPicPr/>
          <p:nvPr/>
        </p:nvPicPr>
        <p:blipFill>
          <a:blip r:embed="rId2"/>
          <a:stretch/>
        </p:blipFill>
        <p:spPr>
          <a:xfrm>
            <a:off x="3048120" y="1295280"/>
            <a:ext cx="3124080" cy="236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i?id=68304864-10"/>
          <p:cNvPicPr/>
          <p:nvPr/>
        </p:nvPicPr>
        <p:blipFill>
          <a:blip r:embed="rId3"/>
          <a:stretch/>
        </p:blipFill>
        <p:spPr>
          <a:xfrm>
            <a:off x="5257800" y="3962520"/>
            <a:ext cx="3124080" cy="268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04920" y="387180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ық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i?id=62345854-08"/>
          <p:cNvPicPr/>
          <p:nvPr/>
        </p:nvPicPr>
        <p:blipFill>
          <a:blip r:embed="rId2"/>
          <a:stretch/>
        </p:blipFill>
        <p:spPr>
          <a:xfrm>
            <a:off x="685800" y="12193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?id=68485581-15"/>
          <p:cNvPicPr/>
          <p:nvPr/>
        </p:nvPicPr>
        <p:blipFill>
          <a:blip r:embed="rId3"/>
          <a:stretch/>
        </p:blipFill>
        <p:spPr>
          <a:xfrm>
            <a:off x="5105520" y="1247760"/>
            <a:ext cx="3124080" cy="24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i?id=20301428-03"/>
          <p:cNvPicPr/>
          <p:nvPr/>
        </p:nvPicPr>
        <p:blipFill>
          <a:blip r:embed="rId4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volna.org/wp-content/uploads/2014/11/kulinariia_4.png"/>
          <p:cNvPicPr/>
          <p:nvPr/>
        </p:nvPicPr>
        <p:blipFill>
          <a:blip r:embed="rId2"/>
          <a:stretch/>
        </p:blipFill>
        <p:spPr>
          <a:xfrm>
            <a:off x="2362320" y="167652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тың жаңа түрі– женіл ас </a:t>
            </a:r>
            <a:br>
              <a:rPr sz="4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2133720" y="1219320"/>
            <a:ext cx="4295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НАП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11" descr="kanape"/>
          <p:cNvPicPr/>
          <p:nvPr/>
        </p:nvPicPr>
        <p:blipFill>
          <a:blip r:embed="rId1"/>
          <a:stretch/>
        </p:blipFill>
        <p:spPr>
          <a:xfrm>
            <a:off x="380880" y="2209680"/>
            <a:ext cx="4267440" cy="222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i?id=126226564-15"/>
          <p:cNvPicPr/>
          <p:nvPr/>
        </p:nvPicPr>
        <p:blipFill>
          <a:blip r:embed="rId2"/>
          <a:stretch/>
        </p:blipFill>
        <p:spPr>
          <a:xfrm>
            <a:off x="5638680" y="4452840"/>
            <a:ext cx="304812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4724280" y="2362320"/>
            <a:ext cx="411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лыңдығы – 0,8 см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і – 3- 4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?id=24149875-01"/>
          <p:cNvPicPr/>
          <p:nvPr/>
        </p:nvPicPr>
        <p:blipFill>
          <a:blip r:embed="rId3"/>
          <a:stretch/>
        </p:blipFill>
        <p:spPr>
          <a:xfrm>
            <a:off x="1447920" y="4800600"/>
            <a:ext cx="236196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айын бутербродтың сапасына қойлатын талап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765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тарды берер алдыңда дайындай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 аса жіңішке немесе қалын болмау кер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 азық-түлікпен толықтай жабулы болу кере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тарды тоңазытқышта 3 сағ. кем сақтауға болмай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мандық жұмы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765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нды турау (қалындығы 0,8-1 с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үрленіп пісірілген шұжықты турау (қалындығы 0,3-0,5 см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Ірімшікті турау (қалындығы 0,2-0,3 см)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Жұмыртқаны турау. (тілімдеп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Қызанақты, қиярды турау (тілімдеп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Аскөк (ұсақтап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ұмыстың орындалу реті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99036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ық бутерброд. Нанның қыртысын кесіп алу. Бірнеше қабатқа турау, нанның бір жағына май жағып, ірімшік салу, үстін нанмен жабу. Дайындалған үлкен бутербродты ұзындығы 7-8см, ені 5-6см етіп, кішкене бутербродқа тура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үрделі бутерброд. Май жағылған нанға бір тілім шұжық, бір бөлек жұмыртқа, бір тілім қияр салып аскөкпен әсемдеу.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утерброд дайындалып болған соң «Таңертеңгі астың дастарқанын әзірлеу» плакатының көмегімен топтың бір адамға дастарқан әзірлеу тапсырыла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ұл қызық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кад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ты 45  ұзындықпен дайында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Картинка 73 из 19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971800"/>
            <a:ext cx="4952880" cy="37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яд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үлкен гамбургерді дайында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Картинка 11 из 67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752480"/>
            <a:ext cx="792468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9"/>
          <p:cNvSpPr txBox="1"/>
          <p:nvPr/>
        </p:nvSpPr>
        <p:spPr>
          <a:xfrm>
            <a:off x="1676520" y="220968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Асың дәмді болсын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тың мақса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6520" y="1295280"/>
            <a:ext cx="6858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мділік мақсаты - бутерброд дайындау мен безендіру технологиясымен таныстыру; мамандыққа бағыттауда аспаз мамандығы туралы білімін көтер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мытушылық мақсаты — алған білімін іс жүзінде қолдануды, тамақты безендіруге үйрет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иелік мақсаты - тамаққа, азық-түлікке жауапкершілікпен қарауға,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ым арасында этикетті сақтауға, т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іппен еңбек етуге тәрбиеле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Картинка 45 из 19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55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04760" y="228240"/>
            <a:ext cx="6553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ыту әдіс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өрнекілікпен түсіндіру, сарамандық әдіспен алған білімді бекіту, нұсқау және сарамандық жұмы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тың тип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ралас саба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әнаралық байланыс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әдебиет, дүние тану - нан адам тіршілігінің негіз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калық көрнекі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электрондық тақта, моноблок, жұмыс дәптері, «Бутерброд түрлері» презентациясы, «Таңертеңгі астың дастарқанын әзірлеу» плака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ралдар мен жабдықтар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дық тақта, моноблок, көкөністер үшін тақтайшалар мен пышақтар, азық-түліктерге арналған тарелкел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ық-түліктер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н, шұжық, ірімшік, пісірілген жұмыртқа, қызанақ, қияр, аскө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ктың бары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Ұйымдастыру кезеңі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ілім дағдыларын тексе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Жаңа сабақ (10 мин). Презентация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мандық жұмыс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2 мин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флексия (2 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Қорытынды (3 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Үйге тапсырма (1 м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Ас - адамның арқауы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Черногория, достопримечательности, новости"/>
          <p:cNvPicPr/>
          <p:nvPr/>
        </p:nvPicPr>
        <p:blipFill>
          <a:blip r:embed="rId1"/>
          <a:srcRect l="0" t="3998" r="0" b="3998"/>
          <a:stretch/>
        </p:blipFill>
        <p:spPr>
          <a:xfrm>
            <a:off x="2895480" y="2666880"/>
            <a:ext cx="3664080" cy="3505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295280" y="76212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Бутербродта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Picture 6" descr="Февраль &quot; 2011 &quot; Организация питания"/>
          <p:cNvPicPr/>
          <p:nvPr/>
        </p:nvPicPr>
        <p:blipFill>
          <a:blip r:embed="rId1"/>
          <a:stretch/>
        </p:blipFill>
        <p:spPr>
          <a:xfrm>
            <a:off x="2666880" y="3124080"/>
            <a:ext cx="4000680" cy="299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анымдық ақпарл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65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утербродтың негіз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утербр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м.) – нан мен м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гізіне қосымшала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әмі бойынша сәйкес азық-түлектер, бутербродтың қоспалар және майла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утербродтард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бес немесе жеңіл ас түрінде қолдан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824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Бутерброд</a:t>
            </a:r>
            <a:r>
              <a:rPr b="1" lang="kk-KZ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дайындау технологиясы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"/>
          <p:cNvGrpSpPr/>
          <p:nvPr/>
        </p:nvGrpSpPr>
        <p:grpSpPr>
          <a:xfrm>
            <a:off x="184320" y="1147680"/>
            <a:ext cx="8575920" cy="5050080"/>
            <a:chOff x="184320" y="1147680"/>
            <a:chExt cx="8575920" cy="5050080"/>
          </a:xfrm>
        </p:grpSpPr>
        <p:sp>
          <p:nvSpPr>
            <p:cNvPr id="57" name="Rectangle 5"/>
            <p:cNvSpPr/>
            <p:nvPr/>
          </p:nvSpPr>
          <p:spPr>
            <a:xfrm>
              <a:off x="2285640" y="3357360"/>
              <a:ext cx="4267080" cy="472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Бутербродтардың түрлер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492840" y="1147680"/>
              <a:ext cx="1530360" cy="6314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шы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3708720" y="1147680"/>
              <a:ext cx="1530000" cy="6314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абық (сандви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6924240" y="1147680"/>
              <a:ext cx="1530000" cy="6314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еніл 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799200" y="2093760"/>
              <a:ext cx="1224000" cy="474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қарапайы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799200" y="2883600"/>
              <a:ext cx="1225080" cy="473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үрдел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799200" y="3671640"/>
              <a:ext cx="1225080" cy="474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ысты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799200" y="4461480"/>
              <a:ext cx="1225080" cy="473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уы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13"/>
            <p:cNvCxnSpPr>
              <a:stCxn id="58" idx="1"/>
              <a:endCxn id="64" idx="1"/>
            </p:cNvCxnSpPr>
            <p:nvPr/>
          </p:nvCxnSpPr>
          <p:spPr>
            <a:xfrm flipH="1" flipV="1" rot="10800000">
              <a:off x="478800" y="1463040"/>
              <a:ext cx="307800" cy="3234960"/>
            </a:xfrm>
            <a:prstGeom prst="bentConnector3">
              <a:avLst>
                <a:gd name="adj1" fmla="val -95784"/>
              </a:avLst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66" name="Line 14"/>
            <p:cNvSpPr/>
            <p:nvPr/>
          </p:nvSpPr>
          <p:spPr>
            <a:xfrm>
              <a:off x="187200" y="3829680"/>
              <a:ext cx="612000" cy="1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>
              <a:off x="187200" y="3199320"/>
              <a:ext cx="612000" cy="1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>
              <a:off x="187200" y="2409480"/>
              <a:ext cx="612000" cy="1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6933960" y="2132280"/>
              <a:ext cx="1225440" cy="474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анап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924240" y="2883600"/>
              <a:ext cx="1225080" cy="473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арти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AutoShape 19"/>
            <p:cNvCxnSpPr>
              <a:stCxn id="60" idx="3"/>
              <a:endCxn id="70" idx="3"/>
            </p:cNvCxnSpPr>
            <p:nvPr/>
          </p:nvCxnSpPr>
          <p:spPr>
            <a:xfrm flipH="1">
              <a:off x="8161200" y="1463040"/>
              <a:ext cx="306360" cy="1657080"/>
            </a:xfrm>
            <a:prstGeom prst="bentConnector3">
              <a:avLst>
                <a:gd name="adj1" fmla="val -95764"/>
              </a:avLst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72" name="Line 20"/>
            <p:cNvSpPr/>
            <p:nvPr/>
          </p:nvSpPr>
          <p:spPr>
            <a:xfrm flipH="1">
              <a:off x="8114040" y="2408400"/>
              <a:ext cx="612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V="1">
              <a:off x="4474440" y="1778760"/>
              <a:ext cx="1080" cy="6303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V="1">
              <a:off x="5392800" y="1463400"/>
              <a:ext cx="1531440" cy="946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 flipV="1">
              <a:off x="2024280" y="1463400"/>
              <a:ext cx="1377720" cy="946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4"/>
            <p:cNvSpPr/>
            <p:nvPr/>
          </p:nvSpPr>
          <p:spPr>
            <a:xfrm>
              <a:off x="2637000" y="2409480"/>
              <a:ext cx="3521520" cy="4726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айындау тәсілі бойын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 flipV="1">
              <a:off x="4474440" y="2883600"/>
              <a:ext cx="0" cy="47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2666520" y="4266000"/>
              <a:ext cx="3521520" cy="572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Азық-түлік пайдалануы бойын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4474440" y="3829680"/>
              <a:ext cx="0" cy="47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492840" y="5724000"/>
              <a:ext cx="1071720" cy="472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етп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5546520" y="5724000"/>
              <a:ext cx="1501560" cy="472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көкөністерм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2177280" y="5724000"/>
              <a:ext cx="1263240" cy="472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балықп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3862080" y="5725080"/>
              <a:ext cx="1071720" cy="4726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тәтт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7383960" y="5724000"/>
              <a:ext cx="1224000" cy="472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8000"/>
                  </a:solidFill>
                  <a:latin typeface="Arial"/>
                </a:rPr>
                <a:t>сүтп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 flipH="1">
              <a:off x="1104840" y="4777200"/>
              <a:ext cx="1685160" cy="946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 flipH="1">
              <a:off x="2637000" y="4777200"/>
              <a:ext cx="459360" cy="946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5"/>
            <p:cNvSpPr/>
            <p:nvPr/>
          </p:nvSpPr>
          <p:spPr>
            <a:xfrm>
              <a:off x="6006240" y="4777200"/>
              <a:ext cx="1990080" cy="946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6"/>
            <p:cNvSpPr/>
            <p:nvPr/>
          </p:nvSpPr>
          <p:spPr>
            <a:xfrm>
              <a:off x="5700240" y="4777200"/>
              <a:ext cx="458280" cy="946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7"/>
            <p:cNvSpPr/>
            <p:nvPr/>
          </p:nvSpPr>
          <p:spPr>
            <a:xfrm>
              <a:off x="4474440" y="4777200"/>
              <a:ext cx="1080" cy="9475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артинка 147 из 44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581280"/>
            <a:ext cx="4114800" cy="293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443700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рапайы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дина</cp:lastModifiedBy>
  <dcterms:modified xsi:type="dcterms:W3CDTF">2015-01-13T14:24:53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