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9FBF-C97F-48C1-8974-610A598F0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6779-B175-4CC6-8BD4-66B0B22F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0AD2-785A-4288-AA85-F24406D2F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D239-D94F-4A79-917B-DBD54D40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61BA-5AAC-4C7C-95B1-F9BB9166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80D9-7104-4087-9DA2-08C01884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1C88-917A-4A74-B944-2129DD84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C4D7-8844-40AC-8567-EDB41270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C4B9-50AF-470A-A639-ECC81F57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4CA9-3238-4606-93FA-DF89D4A2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2EB1-07F2-408E-A607-463794FE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6E15-FFF4-4212-8388-8B7FD6F6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5606-EEA2-45E4-883D-77D97AA8B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11280" y="1484280"/>
            <a:ext cx="734544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члены  предлож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1763640" y="5157720"/>
            <a:ext cx="67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я учителя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олы №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. Павлод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льц Е.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140360" y="1357200"/>
            <a:ext cx="47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едлож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ля разб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63240" y="1557360"/>
            <a:ext cx="344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2106720" cy="2205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39640" y="3357720"/>
            <a:ext cx="80647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В синем небе звёзды блещут,   В синем море волны хлещу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А.С.Пушк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/>
          <p:nvPr/>
        </p:nvCxnSpPr>
        <p:spPr>
          <a:xfrm flipV="1" rot="10800000">
            <a:off x="538920" y="7243920"/>
            <a:ext cx="432720" cy="144720"/>
          </a:xfrm>
          <a:prstGeom prst="curvedConnector5">
            <a:avLst>
              <a:gd name="adj1" fmla="val 49958"/>
              <a:gd name="adj2" fmla="val 49875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5" name=""/>
          <p:cNvGrpSpPr/>
          <p:nvPr/>
        </p:nvGrpSpPr>
        <p:grpSpPr>
          <a:xfrm>
            <a:off x="1042920" y="4005360"/>
            <a:ext cx="7201080" cy="1008000"/>
            <a:chOff x="1042920" y="4005360"/>
            <a:chExt cx="7201080" cy="1008000"/>
          </a:xfrm>
        </p:grpSpPr>
        <p:sp>
          <p:nvSpPr>
            <p:cNvPr id="96" name=""/>
            <p:cNvSpPr/>
            <p:nvPr/>
          </p:nvSpPr>
          <p:spPr>
            <a:xfrm>
              <a:off x="6227640" y="4221000"/>
              <a:ext cx="2016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042920" y="4005360"/>
              <a:ext cx="7201080" cy="863280"/>
              <a:chOff x="1042920" y="4005360"/>
              <a:chExt cx="7201080" cy="86328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042920" y="4005360"/>
                <a:ext cx="7201080" cy="144360"/>
                <a:chOff x="1042920" y="4005360"/>
                <a:chExt cx="7201080" cy="14436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4427640" y="4076640"/>
                  <a:ext cx="1655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227640" y="4076640"/>
                  <a:ext cx="20163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059280" y="4076640"/>
                  <a:ext cx="1223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042920" y="4076640"/>
                  <a:ext cx="4334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30"/>
                <p:cNvSpPr/>
                <p:nvPr/>
              </p:nvSpPr>
              <p:spPr>
                <a:xfrm>
                  <a:off x="1619280" y="4005360"/>
                  <a:ext cx="1224000" cy="144360"/>
                </a:xfrm>
                <a:prstGeom prst="pie">
                  <a:avLst/>
                </a:pr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1042920" y="4724280"/>
                <a:ext cx="7201080" cy="144360"/>
                <a:chOff x="1042920" y="4724280"/>
                <a:chExt cx="7201080" cy="1443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4427640" y="4795560"/>
                  <a:ext cx="1655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6227640" y="4795560"/>
                  <a:ext cx="20163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59280" y="4795560"/>
                  <a:ext cx="12236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042920" y="4795560"/>
                  <a:ext cx="4334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30"/>
                <p:cNvSpPr/>
                <p:nvPr/>
              </p:nvSpPr>
              <p:spPr>
                <a:xfrm>
                  <a:off x="1619280" y="4724280"/>
                  <a:ext cx="1224000" cy="144360"/>
                </a:xfrm>
                <a:prstGeom prst="pie">
                  <a:avLst/>
                </a:pr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" name=""/>
            <p:cNvSpPr/>
            <p:nvPr/>
          </p:nvSpPr>
          <p:spPr>
            <a:xfrm>
              <a:off x="6227640" y="5013360"/>
              <a:ext cx="2016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26920" y="1844640"/>
            <a:ext cx="7345440" cy="223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чись  на  отличн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68360" y="907560"/>
            <a:ext cx="5832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ЛЕНЫ 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64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131640" y="1916280"/>
            <a:ext cx="3818520" cy="1800000"/>
            <a:chOff x="3131640" y="1916280"/>
            <a:chExt cx="3818520" cy="1800000"/>
          </a:xfrm>
        </p:grpSpPr>
        <p:sp>
          <p:nvSpPr>
            <p:cNvPr id="46" name=""/>
            <p:cNvSpPr/>
            <p:nvPr/>
          </p:nvSpPr>
          <p:spPr>
            <a:xfrm>
              <a:off x="5437080" y="1916280"/>
              <a:ext cx="1513080" cy="180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3131640" y="1916280"/>
              <a:ext cx="1513080" cy="180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26920" y="4005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ЛАВ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51280" y="4076640"/>
            <a:ext cx="50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ТОРОСТЕП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158400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57200" y="274680"/>
          <a:ext cx="8229600" cy="5813280"/>
        </p:xfrm>
        <a:graphic>
          <a:graphicData uri="http://schemas.openxmlformats.org/drawingml/2006/table">
            <a:tbl>
              <a:tblPr/>
              <a:tblGrid>
                <a:gridCol w="3538440"/>
                <a:gridCol w="4691160"/>
              </a:tblGrid>
              <a:tr h="14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вные  члены  предлож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торостепенные  члены  предлож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подлежаще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ени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сказуемое</a:t>
                      </a:r>
                      <a:r>
                        <a:rPr b="0" lang="en-US" sz="4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олнени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стоятельств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подлежаще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длежащее  обозначает, о  ком  или  о  чем  говорится  в  предложении, отвечает  на  вопросы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КТО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или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ЧТ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>
            <a:off x="7667640" y="47628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5" h="21600">
                <a:moveTo>
                  <a:pt x="4861" y="10800"/>
                </a:moveTo>
                <a:lnTo>
                  <a:pt x="18874" y="3794"/>
                </a:lnTo>
                <a:lnTo>
                  <a:pt x="188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158400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казуемо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казуемое  обозначает, что в  предложении  говорится  о  подлежащем; отвечает  на  вопросы  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ЧТО  ДЕЛАЕТ?  ЧТО  СДЕЛАЕТ?  ЧТО  ДЕЛАЮТ?  ЧТО  СДЕЛАЮТ?  ЧТО  ДЕЛАЛ?  ЧТО  СДЕЛАЛ?  ЧТ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СДЕЛАЛИ ?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и  друг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7640" y="620640"/>
            <a:ext cx="649440" cy="72072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720720"/>
              <a:gd name="textAreaBottom" fmla="*/ 678960 h 720720"/>
            </a:gdLst>
            <a:ahLst/>
            <a:rect l="textAreaLeft" t="textAreaTop" r="textAreaRight" b="textAreaBottom"/>
            <a:pathLst>
              <a:path w="21600" h="23969">
                <a:moveTo>
                  <a:pt x="0" y="0"/>
                </a:moveTo>
                <a:lnTo>
                  <a:pt x="21600" y="0"/>
                </a:lnTo>
                <a:lnTo>
                  <a:pt x="21600" y="23969"/>
                </a:lnTo>
                <a:lnTo>
                  <a:pt x="0" y="23969"/>
                </a:lnTo>
                <a:close/>
              </a:path>
              <a:path fill="lightenLess" w="21600" h="239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69">
                <a:moveTo>
                  <a:pt x="21600" y="0"/>
                </a:moveTo>
                <a:lnTo>
                  <a:pt x="21600" y="23969"/>
                </a:lnTo>
                <a:lnTo>
                  <a:pt x="20200" y="22569"/>
                </a:lnTo>
                <a:lnTo>
                  <a:pt x="20200" y="1400"/>
                </a:lnTo>
                <a:close/>
              </a:path>
              <a:path fill="darkenLess" w="21600" h="23969">
                <a:moveTo>
                  <a:pt x="21600" y="23969"/>
                </a:moveTo>
                <a:lnTo>
                  <a:pt x="0" y="23969"/>
                </a:lnTo>
                <a:lnTo>
                  <a:pt x="1400" y="22569"/>
                </a:lnTo>
                <a:lnTo>
                  <a:pt x="20200" y="22569"/>
                </a:lnTo>
                <a:close/>
              </a:path>
              <a:path fill="lighten" w="21600" h="23969">
                <a:moveTo>
                  <a:pt x="0" y="239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69"/>
                </a:lnTo>
                <a:close/>
              </a:path>
              <a:path fill="darken" w="21600" h="23969">
                <a:moveTo>
                  <a:pt x="3794" y="11985"/>
                </a:moveTo>
                <a:lnTo>
                  <a:pt x="17806" y="4978"/>
                </a:lnTo>
                <a:lnTo>
                  <a:pt x="17806" y="1899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5843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3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изнак  предмета  или  яв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бозначает  определ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ЧЕЙ?  КАКОЙ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ответы  просты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ишь  не  хватает  волнистой  чер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47628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15843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3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3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9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3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3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дополн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просы  косвенных  падеж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ы  безошибочно  знаешь  уж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Если  задашь  их  без  промедлень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ут  же  отыщутся  дополн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812000" y="47628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5843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3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3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90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3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3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обстоятельств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67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 вопросы: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ГДЕ? КОГ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КАК? ОТКУД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и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К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бстоятельства  всегда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адут  ответы  вам, да-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lastslide"/>
          </p:cNvPr>
          <p:cNvSpPr/>
          <p:nvPr/>
        </p:nvSpPr>
        <p:spPr>
          <a:xfrm>
            <a:off x="8317080" y="765000"/>
            <a:ext cx="647640" cy="7192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9280"/>
              <a:gd name="textAreaBottom" fmla="*/ 677520 h 719280"/>
            </a:gdLst>
            <a:ahLst/>
            <a:rect l="textAreaLeft" t="textAreaTop" r="textAreaRight" b="textAreaBottom"/>
            <a:pathLst>
              <a:path w="21600" h="23988">
                <a:moveTo>
                  <a:pt x="0" y="0"/>
                </a:moveTo>
                <a:lnTo>
                  <a:pt x="21600" y="0"/>
                </a:lnTo>
                <a:lnTo>
                  <a:pt x="21600" y="23988"/>
                </a:lnTo>
                <a:lnTo>
                  <a:pt x="0" y="23988"/>
                </a:lnTo>
                <a:close/>
              </a:path>
              <a:path fill="lightenLess" w="21600" h="239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88">
                <a:moveTo>
                  <a:pt x="21600" y="0"/>
                </a:moveTo>
                <a:lnTo>
                  <a:pt x="21600" y="23988"/>
                </a:lnTo>
                <a:lnTo>
                  <a:pt x="20200" y="22588"/>
                </a:lnTo>
                <a:lnTo>
                  <a:pt x="20200" y="1400"/>
                </a:lnTo>
                <a:close/>
              </a:path>
              <a:path fill="darkenLess" w="21600" h="23988">
                <a:moveTo>
                  <a:pt x="21600" y="23988"/>
                </a:moveTo>
                <a:lnTo>
                  <a:pt x="0" y="23988"/>
                </a:lnTo>
                <a:lnTo>
                  <a:pt x="1400" y="22588"/>
                </a:lnTo>
                <a:lnTo>
                  <a:pt x="20200" y="22588"/>
                </a:lnTo>
                <a:close/>
              </a:path>
              <a:path fill="lighten" w="21600" h="23988">
                <a:moveTo>
                  <a:pt x="0" y="239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88"/>
                </a:lnTo>
                <a:close/>
              </a:path>
              <a:path fill="darken" w="21600" h="23988">
                <a:moveTo>
                  <a:pt x="14299" y="11994"/>
                </a:moveTo>
                <a:lnTo>
                  <a:pt x="3794" y="19000"/>
                </a:lnTo>
                <a:lnTo>
                  <a:pt x="3794" y="4988"/>
                </a:lnTo>
                <a:close/>
              </a:path>
              <a:path fill="darken" w="21600" h="23988">
                <a:moveTo>
                  <a:pt x="16144" y="4988"/>
                </a:moveTo>
                <a:lnTo>
                  <a:pt x="16144" y="19000"/>
                </a:lnTo>
                <a:lnTo>
                  <a:pt x="17806" y="19000"/>
                </a:lnTo>
                <a:lnTo>
                  <a:pt x="17806" y="498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5843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3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6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3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90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3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3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56000" y="980640"/>
            <a:ext cx="5914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едложения для разб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2201760" cy="23036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50560" y="2924280"/>
            <a:ext cx="7993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Ветер весело шуми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Судно весело беж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Мимо острова Буян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 царству славного Салта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А.С.Пушк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00360" y="981000"/>
            <a:ext cx="5915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50920" y="2924280"/>
            <a:ext cx="799308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Ветер весело шуми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Судно весело беж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Мимо острова Буян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 царству славного Салта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А.С.Пушк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258920" y="3500280"/>
            <a:ext cx="6480000" cy="2016360"/>
            <a:chOff x="1258920" y="3500280"/>
            <a:chExt cx="6480000" cy="2016360"/>
          </a:xfrm>
        </p:grpSpPr>
        <p:sp>
          <p:nvSpPr>
            <p:cNvPr id="78" name=""/>
            <p:cNvSpPr/>
            <p:nvPr/>
          </p:nvSpPr>
          <p:spPr>
            <a:xfrm>
              <a:off x="1330200" y="3500280"/>
              <a:ext cx="1368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4498920" y="3500280"/>
              <a:ext cx="1512360" cy="144360"/>
              <a:chOff x="4498920" y="3500280"/>
              <a:chExt cx="1512360" cy="144360"/>
            </a:xfrm>
          </p:grpSpPr>
          <p:sp>
            <p:nvSpPr>
              <p:cNvPr id="80" name=""/>
              <p:cNvSpPr/>
              <p:nvPr/>
            </p:nvSpPr>
            <p:spPr>
              <a:xfrm>
                <a:off x="4498920" y="3500280"/>
                <a:ext cx="151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498920" y="3644640"/>
                <a:ext cx="1439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2914560" y="3500280"/>
              <a:ext cx="13680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258920" y="4147920"/>
              <a:ext cx="1368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4354200" y="4148280"/>
              <a:ext cx="1512720" cy="215640"/>
              <a:chOff x="4354200" y="4148280"/>
              <a:chExt cx="1512720" cy="215640"/>
            </a:xfrm>
          </p:grpSpPr>
          <p:sp>
            <p:nvSpPr>
              <p:cNvPr id="85" name=""/>
              <p:cNvSpPr/>
              <p:nvPr/>
            </p:nvSpPr>
            <p:spPr>
              <a:xfrm>
                <a:off x="4354200" y="4363920"/>
                <a:ext cx="1512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354200" y="4148280"/>
                <a:ext cx="14396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2842920" y="4147920"/>
              <a:ext cx="13680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30200" y="4868640"/>
              <a:ext cx="45367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258920" y="5516640"/>
              <a:ext cx="64800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1:41:03Z</dcterms:created>
  <dc:creator>ingen</dc:creator>
  <dc:description/>
  <dc:language>en-US</dc:language>
  <cp:lastModifiedBy>Admin</cp:lastModifiedBy>
  <dcterms:modified xsi:type="dcterms:W3CDTF">2012-02-14T16:40:03Z</dcterms:modified>
  <cp:revision>12</cp:revision>
  <dc:subject/>
  <dc:title>Слайд 1</dc:title>
</cp:coreProperties>
</file>