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C9E-A8DD-4A00-B8C0-F1052BFB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9CDB-0F72-4160-BDC3-9DC27E3A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D8D-744E-4908-9BA9-692B8976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2928-3440-4BD2-B1DF-1065C9A4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3D7-492F-4D70-8E23-D682DE5E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90D-F97B-4C0A-9336-A26C7849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F9C-1325-4575-8246-72524511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677-A217-4C06-9AE7-6F2B5CFC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D2D-B0EA-4FE4-8E67-6387A9EB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CEE-8994-4A29-8F68-26F6955A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26A-58D2-41D3-8503-7226B9E4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6AC-F43A-4984-AEC1-19A7D92C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F32F-33DD-4590-8A44-C42E34DB9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685800" y="5334120"/>
            <a:ext cx="651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сказ березового листоч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212275027_i-12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BetulaPendula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pic_2007-04-27_100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0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Хитр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40_SERVER</cp:lastModifiedBy>
  <dcterms:modified xsi:type="dcterms:W3CDTF">2012-03-17T06:19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