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53B-0AD1-490F-8F12-C4AACD70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F55-85E4-434C-B40E-1F44FA8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A01-9B5E-4349-A28B-E834754A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FFC-34EA-4AAC-A184-1A395039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73D-7C65-4C35-8BAA-EC179CB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D06-4FC8-446B-A6E2-08DAC70A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4A3-DD5B-420C-B0BC-6CCB32F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0F5-CBD2-426D-A8FE-3704CF0F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A3E-EEAF-44DA-BA25-E0946B4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881-5F82-4B63-98BB-5B54C31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4EA-EEBB-427E-98B3-A99FCCD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A06-0267-4EE8-ADB9-0959C84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22F-5FEA-41C4-9EDB-15DEE9987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" y="2225520"/>
            <a:ext cx="861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901880" y="3438360"/>
            <a:ext cx="16588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908440" y="30240"/>
            <a:ext cx="260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35Z</dcterms:modified>
  <cp:revision>7</cp:revision>
  <dc:subject/>
  <dc:title>Презентация PowerPoint</dc:title>
</cp:coreProperties>
</file>