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3.png" ContentType="image/png"/>
  <Override PartName="/ppt/media/image49.gif" ContentType="image/gif"/>
  <Override PartName="/ppt/media/image48.gif" ContentType="image/gif"/>
  <Override PartName="/ppt/media/image47.gif" ContentType="image/gif"/>
  <Override PartName="/ppt/media/image46.gif" ContentType="image/gif"/>
  <Override PartName="/ppt/media/image45.jpeg" ContentType="image/jpeg"/>
  <Override PartName="/ppt/media/image44.jpeg" ContentType="image/jpeg"/>
  <Override PartName="/ppt/media/image35.gif" ContentType="image/gif"/>
  <Override PartName="/ppt/media/image42.gif" ContentType="image/gif"/>
  <Override PartName="/ppt/media/image43.gif" ContentType="image/gif"/>
  <Override PartName="/ppt/media/image36.png" ContentType="image/png"/>
  <Override PartName="/ppt/media/image33.gif" ContentType="image/gif"/>
  <Override PartName="/ppt/media/image34.gif" ContentType="image/gif"/>
  <Override PartName="/ppt/media/image31.gif" ContentType="image/gif"/>
  <Override PartName="/ppt/media/image30.jpeg" ContentType="image/jpeg"/>
  <Override PartName="/ppt/media/image58.gif" ContentType="image/gif"/>
  <Override PartName="/ppt/media/image51.gif" ContentType="image/gif"/>
  <Override PartName="/ppt/media/image13.jpeg" ContentType="image/jpeg"/>
  <Override PartName="/ppt/media/image57.gif" ContentType="image/gif"/>
  <Override PartName="/ppt/media/image27.jpeg" ContentType="image/jpeg"/>
  <Override PartName="/ppt/media/image54.jpeg" ContentType="image/jpeg"/>
  <Override PartName="/ppt/media/image20.gif" ContentType="image/gif"/>
  <Override PartName="/ppt/media/image39.gif" ContentType="image/gif"/>
  <Override PartName="/ppt/media/image9.gif" ContentType="image/gif"/>
  <Override PartName="/ppt/media/image86.gif" ContentType="image/gif"/>
  <Override PartName="/ppt/media/image59.gif" ContentType="image/gif"/>
  <Override PartName="/ppt/media/image18.jpeg" ContentType="image/jpeg"/>
  <Override PartName="/ppt/media/image22.gif" ContentType="image/gif"/>
  <Override PartName="/ppt/media/image25.png" ContentType="image/png"/>
  <Override PartName="/ppt/media/image32.gif" ContentType="image/gif"/>
  <Override PartName="/ppt/media/image69.gif" ContentType="image/gif"/>
  <Override PartName="/ppt/media/image60.jpeg" ContentType="image/jpeg"/>
  <Override PartName="/ppt/media/image74.gif" ContentType="image/gif"/>
  <Override PartName="/ppt/media/image3.jpeg" ContentType="image/jpeg"/>
  <Override PartName="/ppt/media/image23.gif" ContentType="image/gif"/>
  <Override PartName="/ppt/media/image61.jpeg" ContentType="image/jpeg"/>
  <Override PartName="/ppt/media/image84.gif" ContentType="image/gif"/>
  <Override PartName="/ppt/media/image26.gif" ContentType="image/gif"/>
  <Override PartName="/ppt/media/image63.gif" ContentType="image/gif"/>
  <Override PartName="/ppt/media/image64.gif" ContentType="image/gif"/>
  <Override PartName="/ppt/media/image65.gif" ContentType="image/gif"/>
  <Override PartName="/ppt/media/image67.jpeg" ContentType="image/jpeg"/>
  <Override PartName="/ppt/media/image66.gif" ContentType="image/gif"/>
  <Override PartName="/ppt/media/image24.jpeg" ContentType="image/jpeg"/>
  <Override PartName="/ppt/media/image62.gif" ContentType="image/gif"/>
  <Override PartName="/ppt/media/image80.jpeg" ContentType="image/jpeg"/>
  <Override PartName="/ppt/media/image72.gif" ContentType="image/gif"/>
  <Override PartName="/ppt/media/image79.gif" ContentType="image/gif"/>
  <Override PartName="/ppt/media/image78.gif" ContentType="image/gif"/>
  <Override PartName="/ppt/media/image41.gif" ContentType="image/gif"/>
  <Override PartName="/ppt/media/image21.gif" ContentType="image/gif"/>
  <Override PartName="/ppt/media/image75.gif" ContentType="image/gif"/>
  <Override PartName="/ppt/media/image71.jpeg" ContentType="image/jpeg"/>
  <Override PartName="/ppt/media/image4.wmf" ContentType="image/x-wmf"/>
  <Override PartName="/ppt/media/image38.gif" ContentType="image/gif"/>
  <Override PartName="/ppt/media/image73.png" ContentType="image/png"/>
  <Override PartName="/ppt/media/image70.gif" ContentType="image/gif"/>
  <Override PartName="/ppt/media/image68.jpeg" ContentType="image/jpeg"/>
  <Override PartName="/ppt/media/image76.gif" ContentType="image/gif"/>
  <Override PartName="/ppt/media/image50.jpeg" ContentType="image/jpeg"/>
  <Override PartName="/ppt/media/image52.png" ContentType="image/png"/>
  <Override PartName="/ppt/media/image19.png" ContentType="image/png"/>
  <Override PartName="/ppt/media/image81.gif" ContentType="image/gif"/>
  <Override PartName="/ppt/media/image16.gif" ContentType="image/gif"/>
  <Override PartName="/ppt/media/image15.jpeg" ContentType="image/jpeg"/>
  <Override PartName="/ppt/media/image2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8.gif" ContentType="image/gif"/>
  <Override PartName="/ppt/media/image85.gif" ContentType="image/gif"/>
  <Override PartName="/ppt/media/image37.gif" ContentType="image/gif"/>
  <Override PartName="/ppt/media/image28.jpeg" ContentType="image/jpeg"/>
  <Override PartName="/ppt/media/image7.jpeg" ContentType="image/jpeg"/>
  <Override PartName="/ppt/media/image17.gif" ContentType="image/gif"/>
  <Override PartName="/ppt/media/image5.gif" ContentType="image/gif"/>
  <Override PartName="/ppt/media/image82.gif" ContentType="image/gif"/>
  <Override PartName="/ppt/media/image11.png" ContentType="image/png"/>
  <Override PartName="/ppt/media/image55.gif" ContentType="image/gif"/>
  <Override PartName="/ppt/media/image12.jpeg" ContentType="image/jpeg"/>
  <Override PartName="/ppt/media/image29.jpeg" ContentType="image/jpeg"/>
  <Override PartName="/ppt/media/image77.gif" ContentType="image/gif"/>
  <Override PartName="/ppt/media/image83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BAE-B1A8-4C72-8F2B-4A81C05D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F47-941A-406C-9C22-414C6A3E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625-5201-4E65-A6B4-E524B67D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8B1-61BC-4123-ABB0-B10A6B8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541-E5B0-4A36-8D1F-F14D9E0F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E9E-203D-4F1C-BEC3-9F9D554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EFF-34C3-427D-ADB1-11E7E15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955-561D-49DB-9719-4BCE442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327-BE54-47BF-9EA3-C01A880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627-DF4B-439C-A559-AE6608C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7E7-0F14-4E69-8024-541E39E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208-1113-4A09-949B-0C0983C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158-AA43-4608-A120-8399F05E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image" Target="../media/image56.png"/><Relationship Id="rId5" Type="http://schemas.openxmlformats.org/officeDocument/2006/relationships/image" Target="../media/image57.gif"/><Relationship Id="rId6" Type="http://schemas.openxmlformats.org/officeDocument/2006/relationships/image" Target="../media/image58.gif"/><Relationship Id="rId7" Type="http://schemas.openxmlformats.org/officeDocument/2006/relationships/image" Target="../media/image59.gif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gif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gif"/><Relationship Id="rId9" Type="http://schemas.openxmlformats.org/officeDocument/2006/relationships/image" Target="../media/image70.gif"/><Relationship Id="rId10" Type="http://schemas.openxmlformats.org/officeDocument/2006/relationships/image" Target="../media/image71.jpeg"/><Relationship Id="rId11" Type="http://schemas.openxmlformats.org/officeDocument/2006/relationships/image" Target="../media/image72.gi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gif"/><Relationship Id="rId3" Type="http://schemas.openxmlformats.org/officeDocument/2006/relationships/image" Target="../media/image75.gif"/><Relationship Id="rId4" Type="http://schemas.openxmlformats.org/officeDocument/2006/relationships/image" Target="../media/image76.gif"/><Relationship Id="rId5" Type="http://schemas.openxmlformats.org/officeDocument/2006/relationships/image" Target="../media/image77.gif"/><Relationship Id="rId6" Type="http://schemas.openxmlformats.org/officeDocument/2006/relationships/image" Target="../media/image78.gif"/><Relationship Id="rId7" Type="http://schemas.openxmlformats.org/officeDocument/2006/relationships/image" Target="../media/image79.gif"/><Relationship Id="rId8" Type="http://schemas.openxmlformats.org/officeDocument/2006/relationships/image" Target="../media/image80.jpeg"/><Relationship Id="rId9" Type="http://schemas.openxmlformats.org/officeDocument/2006/relationships/image" Target="../media/image81.gif"/><Relationship Id="rId10" Type="http://schemas.openxmlformats.org/officeDocument/2006/relationships/image" Target="../media/image82.gif"/><Relationship Id="rId11" Type="http://schemas.openxmlformats.org/officeDocument/2006/relationships/image" Target="../media/image83.gi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gif"/><Relationship Id="rId2" Type="http://schemas.openxmlformats.org/officeDocument/2006/relationships/image" Target="../media/image8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89000"/>
            <a:ext cx="8820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>
                        <a:alpha val="95294"/>
                      </a:srgbClr>
                    </a:gs>
                    <a:gs pos="100000">
                      <a:srgbClr val="ff0066"/>
                    </a:gs>
                  </a:gsLst>
                  <a:lin ang="13500000"/>
                </a:gradFill>
                <a:latin typeface="Impact"/>
              </a:rPr>
              <a:t>О правах ребен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>
                        <a:alpha val="95294"/>
                      </a:srgbClr>
                    </a:gs>
                    <a:gs pos="100000">
                      <a:srgbClr val="ff0066"/>
                    </a:gs>
                  </a:gsLst>
                  <a:lin ang="13500000"/>
                </a:gradFill>
                <a:latin typeface="Impact"/>
              </a:rPr>
              <a:t>в Республике Казахста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3280" y="5445000"/>
            <a:ext cx="369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нят  8 августа 2002 года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3573360"/>
            <a:ext cx="712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 Республики Казахста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56000" y="1484280"/>
            <a:ext cx="3960720" cy="2448000"/>
          </a:xfrm>
          <a:custGeom>
            <a:avLst/>
            <a:gdLst>
              <a:gd name="textAreaLeft" fmla="*/ 0 w 3960720"/>
              <a:gd name="textAreaRight" fmla="*/ 3960720 w 396072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татья 13. Имущественные права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82296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Ребенок имеет право на получение содержания от своих родителей и других членов семьи в порядке и размерах, установленных зако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1989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чень трудно сам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жить на свете од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авом с  Мамой жить и с Пап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льзуйтесь везд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324000" y="1268280"/>
            <a:ext cx="31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24720" y="515772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4. Право ребенка на жилищ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ждый ребенок имеет право на жилище в соответствии с жилищным законодательством Республики Казахст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37440" y="5084640"/>
            <a:ext cx="2627280" cy="15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187308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752640" cy="25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148572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164360" y="98100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24000" y="299736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076720" y="1341360"/>
            <a:ext cx="2016360" cy="606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280" y="4581360"/>
            <a:ext cx="1872000" cy="18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0" y="4581360"/>
            <a:ext cx="1943280" cy="18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4941720"/>
            <a:ext cx="2376720" cy="1700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8000" y="4869000"/>
            <a:ext cx="2556000" cy="198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5. Право ребенка на образов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16286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дросла, взяла я кни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 пошла я в первый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школу ходят все детиш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Это право есть у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645000"/>
            <a:ext cx="511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тоб с наукой подружиться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 книжкой  в маленькой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авом пользуюсь уч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 родим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0360" y="981000"/>
            <a:ext cx="123192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1080" y="1125360"/>
            <a:ext cx="2338200" cy="2381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40720" y="4365720"/>
            <a:ext cx="1084320" cy="1942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28720" cy="1343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356000" y="5373720"/>
            <a:ext cx="136836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татья 15. Право ребенка на        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2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ждый ребенок имеет право на образование и ему гарантируется получение бесплатного среднего общего, начального профессионального образования… в соответствии с законодательством Республики Казахс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об образова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808360" cy="215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76364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1655640" cy="84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860640"/>
            <a:ext cx="933480" cy="1916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8000" y="836640"/>
            <a:ext cx="2987640" cy="20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12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0960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6. Право ребенка на свободу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ребенок имеет право на свободу труда, свободный выбор рода деятельности и проф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работ не должно нарушать процесс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щается принимать или привлекать ребенка на тяжелые физические работы и работы с вредными и (или) опасными условиями тру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101080" y="2637000"/>
            <a:ext cx="915840" cy="201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43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26920" y="5734080"/>
            <a:ext cx="1873440" cy="84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2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12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6. Право ребенка на свободу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24000" y="1699920"/>
            <a:ext cx="69487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и с 14 лет вправе по разрешению родителей в свободное от учебы время уча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бщественно-полезном труде,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ступном им по состоянию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вья и развит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носящем вреда физическому, нравственному и психическому состоянию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акже имеют право на получение проф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2635200" cy="357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16216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84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2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4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7. Право ребенка на государственную помощ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омощь назначается каждому ребенку, имеющему право на ее пол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, условия и порядок оказания государственной помощи устанавливаются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, оставшиеся без попечения родителей, в том числе дети-сироты, находятся на полном государственном обеспечении в соответствии с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476360" cy="763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243864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16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1628640"/>
            <a:ext cx="4032360" cy="1295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24720" y="2852640"/>
            <a:ext cx="1384200" cy="1463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56000" y="3068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. Каждый ребенок имеет право на отдых и досуг, соответствующие его возрасту, здоровью и потребно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70028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Я могу свой детский 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ак и взрослый отме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96360" y="4753080"/>
            <a:ext cx="1404720" cy="1915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2903400" cy="2735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04280" y="549360"/>
            <a:ext cx="153972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851280" y="5805360"/>
            <a:ext cx="1150920" cy="858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843280" y="5805360"/>
            <a:ext cx="790560" cy="876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08000" y="836640"/>
            <a:ext cx="2663640" cy="316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508720" y="5661000"/>
            <a:ext cx="172728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76000" y="141300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. Родители или лица, их заменяющие, обеспечивают в соответствии со своими способностями и возможностями условия жизни, необходимые для содержания и всестороннего развития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35280" y="5551560"/>
            <a:ext cx="2089080" cy="1046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1428480" cy="10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14036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920000" y="206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740720" y="3573360"/>
            <a:ext cx="1270080" cy="155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443640" y="558792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667640" y="692280"/>
            <a:ext cx="120024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956720" y="5157720"/>
            <a:ext cx="1001520" cy="1501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250920" y="1052640"/>
            <a:ext cx="1439640" cy="216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468360" y="3500280"/>
            <a:ext cx="89676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Государственными органами учреждаются и поддерживаются детские оздоровительные, спортивные, творческие и иные организации досуга, лагеря и санатории в соответствии с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Государство осуществляет мероприятия по обеспечению права детей на отдых, оздоровление и дос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692000" cy="1417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4292640"/>
            <a:ext cx="819000" cy="102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5589720"/>
            <a:ext cx="129672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236000" y="5514840"/>
            <a:ext cx="1800000" cy="114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0" y="54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948360" y="836640"/>
            <a:ext cx="9367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635280" y="5373720"/>
            <a:ext cx="1925640" cy="1284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7885080" y="4365720"/>
            <a:ext cx="1073160" cy="107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979640" y="5516640"/>
            <a:ext cx="1585800" cy="111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5796000" y="52293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48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d4dc3"/>
                </a:solidFill>
                <a:latin typeface="Arial"/>
              </a:rPr>
              <a:t>Настоящий Закон регулирует отношения, возникающие в связи с реализацией основных прав и интересов ребенка, гарантированных Конституцией Республики Казахст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20. Обязанности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аждый ребенок обязан соблюдать Конституцию и законодательство Республики Казахст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важать права, свободы, честь и достоинство других лиц, государственные символы Республ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ботиться о нетрудоспособных родителях, сохранении исторического и культурного наслед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еречь памятники истории и культуры, сохранять природу и бережно относиться к природным богатст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1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28000" y="5661000"/>
            <a:ext cx="91116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8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36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64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76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Будь ты слабым или сильным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Белым, черным все рав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Ты родился быть счастлив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Это право всем да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27370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08360" y="3284640"/>
            <a:ext cx="1600200" cy="12952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029200" y="5272200"/>
            <a:ext cx="6480" cy="366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148000" y="4292280"/>
            <a:ext cx="1143000" cy="762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92720" y="3933720"/>
            <a:ext cx="151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19280" y="2924280"/>
            <a:ext cx="1297080" cy="79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933720"/>
            <a:ext cx="1081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924280"/>
            <a:ext cx="1008360" cy="79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941720"/>
            <a:ext cx="1600200" cy="12956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Внешк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141720"/>
            <a:ext cx="16002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55736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55736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едицин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84640"/>
            <a:ext cx="1600200" cy="12956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Дет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1557360"/>
            <a:ext cx="167508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Учре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3068640"/>
            <a:ext cx="1600200" cy="14479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Органы оп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опеч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486900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рг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59280" y="4365360"/>
            <a:ext cx="865080" cy="1104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Защита прав и законных интересов ребенка в социу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1200240" cy="1780920"/>
          </a:xfrm>
          <a:prstGeom prst="rect">
            <a:avLst/>
          </a:prstGeom>
          <a:ln w="0">
            <a:noFill/>
          </a:ln>
        </p:spPr>
      </p:pic>
    </p:spTree>
  </p:cSld>
  <p:transition advTm="12000">
    <p:cover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197000"/>
            <a:ext cx="782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ва III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ава 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язанности ребен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03640" y="1125360"/>
            <a:ext cx="3816360" cy="288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татья 8. Право ребенка на охрану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Каждый ребенок имеет неотъемлемое право на охрану здоровь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62864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жар, все тело лом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 совсем не до иг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о позвать  врача на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Это право детво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303280" cy="311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34316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8000" y="5589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236000" y="2492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052640"/>
            <a:ext cx="3313080" cy="1944720"/>
          </a:xfrm>
          <a:prstGeom prst="flowChartPunchedTape">
            <a:avLst/>
          </a:prstGeom>
          <a:gradFill rotWithShape="0">
            <a:gsLst>
              <a:gs pos="0">
                <a:srgbClr val="ffff99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0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53440" y="0"/>
            <a:ext cx="790560" cy="95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татья 9. Право ребенка на индивидуальность и ее сохра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50920" y="3357360"/>
            <a:ext cx="50418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ждый ребенок с момента рождения имеет право на имя, отчество и фамилию, национальность и граждан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413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Только ты на свет род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аво первое тв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лучи, чтоб им го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мя личное с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576000">
            <a:off x="4716000" y="821880"/>
            <a:ext cx="338472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3640" y="1484280"/>
            <a:ext cx="3672000" cy="2592360"/>
          </a:xfrm>
          <a:prstGeom prst="flowChartPunchedTape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89308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Статья 10. Право ребенка на жизнь, личную свободу, неприкосновенность достоинства и частной жиз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873432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Каждый ребенок имеет право на жизнь, личную свободу, неприкосновенность достоинства и частной жиз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1916280"/>
            <a:ext cx="316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сточком не довол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ка не так си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о не смей мне делать бо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ть у нас тако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0949600">
            <a:off x="107640" y="1341000"/>
            <a:ext cx="28796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32560" y="1700280"/>
            <a:ext cx="142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43280" y="1484280"/>
            <a:ext cx="3313080" cy="194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490200">
            <a:off x="6587640" y="1265040"/>
            <a:ext cx="2378160" cy="2598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татья 11. Право ребенка на свободу слова и совести, информацию и участие в общественной жиз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3860640"/>
            <a:ext cx="82296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аждый ребенок имеет право на свободу слова и выражение своего мнения, свободу совести, развитие своей общественной активности, получение и распространение информа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1844640"/>
            <a:ext cx="38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еще так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мнить думать и тво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 другим свои раздум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ли хочешь пода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21218400">
            <a:off x="250560" y="105228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0920" y="5470560"/>
            <a:ext cx="107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92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92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2. Право ребенка на необходимый уровень жиз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076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имеет право на уровень жизни и условия, необходимые для полноценного физического, психического, нравственного и духовного разви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72540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12000" y="4797360"/>
            <a:ext cx="1087560" cy="1730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2124360" cy="25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84360" y="2276640"/>
            <a:ext cx="1147680" cy="170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258920" y="1268280"/>
            <a:ext cx="1152360" cy="922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380360" y="1125360"/>
            <a:ext cx="144144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56000" y="1341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Каждый реб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05:18Z</dcterms:created>
  <dc:creator>Галя</dc:creator>
  <dc:description/>
  <dc:language>en-US</dc:language>
  <cp:lastModifiedBy>Никита</cp:lastModifiedBy>
  <dcterms:modified xsi:type="dcterms:W3CDTF">2009-03-26T12:26:22Z</dcterms:modified>
  <cp:revision>29</cp:revision>
  <dc:subject/>
  <dc:title>Глава 3. Основные права и обязанности ребенка </dc:title>
</cp:coreProperties>
</file>