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5.gif" ContentType="image/gif"/>
  <Override PartName="/ppt/media/image11.gif" ContentType="image/gif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FD7-D2DA-41A0-B76D-73382C46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AA7-BDD5-4A46-A65F-9D4D4192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28E-72E4-4103-B204-4E277CCB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0EC-CA03-4AB1-8004-2C7492D0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4992-A3C1-46E8-9BCD-EBBCB3A4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597C-4580-47F3-8CC6-FAD4DCA4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D39-F12B-4B31-8431-2B46A9A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E336-851C-468F-ADF9-11643DF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860-EEB2-4318-8A6E-E61D6D19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0BC-D622-4F6A-BECB-E68A5F3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AC10-07FA-4498-A5AE-FE2AC61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70D-B328-46E6-8B9B-89996348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0D2B-85BF-4D75-B3E6-F30A478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6A6-624D-44D0-B7E1-0D54310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084-EDE9-425C-A63D-C59641A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1D05-3569-46A3-A89E-AE0ECCED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471-644B-4E6D-97AA-43CD1CAF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1808-1310-4C09-A469-9A0E6F9B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DDDE-B272-4308-8350-B335DD9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DB03-A62A-4C41-9F38-7D1EF52B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23AB-4FA5-4F08-BEF8-5A222FD3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65F8-5602-44C7-84C2-51F009D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45F-6C68-40FC-BD6F-9A2BEADA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45BE-AEB1-48F9-9DC8-EF07DC5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BF47-5593-4DB6-92E9-2DCF9A0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2B65-99F8-43D6-8E70-9C0E1AE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0612-0A93-4B11-89A9-B32AA16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6151-21D9-45D0-9FDA-8E94F194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EB32-0D46-46E6-B39C-FC9E8124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109A-6424-4E0E-9049-852874DD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BEC0-E5A9-4402-9C5A-345D2595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7428-3896-4ED7-B63A-225A5195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BE77-4B75-44A7-8AA7-88C4EA4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E73-1ACF-47B9-B0A4-A1B0DE0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4251-9C42-47B9-B734-47A58E9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3546-2FB1-4D12-8B10-F138BDD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E354-C290-409F-9BB4-8A480C2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37CF-EF46-4278-A717-2285B4A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E986-4111-46A5-AB93-370B371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CEF2-A626-475C-9492-A6CF92C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F8A7-899A-442C-86A2-320E118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FCED-2ED9-46BC-90D3-AC8B3540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71BE-753C-4369-909A-FFAA8165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AE7B4-94E2-459B-8135-12AB2510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B63-54C0-4B27-A5F9-94E95BD5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7280-36D6-4C2A-961F-7BF13056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9DE2-91FE-4F92-A747-961EFB5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2F17-2223-4C4F-A8EC-509DDE8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88357-F130-4F85-B8A6-DA697EB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70B1-B7DC-446D-9746-80CAF47B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DF0AB-FAAA-454E-88EF-02B10CD8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5AE0-ADB5-408F-A9B2-D7F60AF7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17BC2-9DD2-471F-8F33-128778E7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D65F9-AB86-4D2B-A637-600BBE4D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B3DA-36F8-42E1-A55F-06786D36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735-75CB-4378-B490-E84C249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C82B-B661-47B7-B378-BA632505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443-AF18-4031-B1D3-617EDEA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3BF-36A6-4565-BD26-19BA743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DC6-7D02-4C48-8D48-50D2C3B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7260-EA10-4457-B0F8-9545F84D5B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396-5016-4B0E-9D2C-E40D410625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6EB-C7CC-4B5D-9C15-E5EF052715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4D3-1656-4321-A339-E7F6A29BFA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008-3F6C-424D-AD65-9ADFF1F1D3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3680" y="228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rbel"/>
              </a:rPr>
              <a:t>ПУБЛИЧНЫЙ ДОКЛАД</a:t>
            </a: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 </a:t>
            </a:r>
            <a:br>
              <a:rPr sz="43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директора ГУ СОШ №23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г. Павлодара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Макулова Серика Имангалиевича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за 2011-2012 учебный го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2552760" cy="334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580920" y="304920"/>
            <a:ext cx="4984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емцова Надежда Александров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в городском конкурсе «Лучшее методическое пособие», обобщение педагогического опыта на город, 3 место в интернет-фестивале «Современный урок -2012», награждена благодарственным письмом управления образования Павлодарской области за подготовку призеров на областной выставке прикладного искусства «Атамұра», посвященной 20-летию Независимости Казахстана, награждена дипломом за участие в 14 городском фестивале этнической культуры и 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0" name="Рисунок 3" descr="Berds-And-Flowers-Animated-yorkshire_rose-12163728-394-419.gif"/>
          <p:cNvPicPr/>
          <p:nvPr/>
        </p:nvPicPr>
        <p:blipFill>
          <a:blip r:embed="rId2"/>
          <a:stretch/>
        </p:blipFill>
        <p:spPr>
          <a:xfrm>
            <a:off x="1486080" y="3581280"/>
            <a:ext cx="240012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200040" y="6091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куова Нуржамал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йфималик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– учитель математ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, провела семинар для слушателей курсов ИПК ПК по технологии полного усвоения, тренер по технологии полного усвоения и личностно-ориентированного обучения городского и областного масштаб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Рисунок 3" descr="8.gif"/>
          <p:cNvPicPr/>
          <p:nvPr/>
        </p:nvPicPr>
        <p:blipFill>
          <a:blip r:embed="rId1"/>
          <a:stretch/>
        </p:blipFill>
        <p:spPr>
          <a:xfrm rot="1509000">
            <a:off x="469800" y="36813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рео.jpg"/>
          <p:cNvPicPr/>
          <p:nvPr/>
        </p:nvPicPr>
        <p:blipFill>
          <a:blip r:embed="rId2"/>
          <a:stretch/>
        </p:blipFill>
        <p:spPr>
          <a:xfrm>
            <a:off x="990720" y="304920"/>
            <a:ext cx="2490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09880" y="457200"/>
            <a:ext cx="49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алова Зауреш Кабдуллов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математик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принимает 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деятельностных играх в рамках города, участница методического аукциона в газете «Ұстаздар», опубликовала в помощь учителям «Математические диктанты для 5 класса».Тренер по технологии ТИСО  городского масштаб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4509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Butterfly-and-Flowers-yorkshire_rose-26531952-355-458.gif"/>
          <p:cNvPicPr/>
          <p:nvPr/>
        </p:nvPicPr>
        <p:blipFill>
          <a:blip r:embed="rId1"/>
          <a:stretch/>
        </p:blipFill>
        <p:spPr>
          <a:xfrm rot="399000">
            <a:off x="708120" y="3101760"/>
            <a:ext cx="2438280" cy="31464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143000" y="35244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580920" y="990720"/>
            <a:ext cx="525780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епко Наталья Васильевна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Пушкинской пермии, победитель 11 Международного Пушкинского конкурса педагогов-русистов. (г. Москва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республиканского конкурса школьных сочинений «Хочешь быть журналистом?», проведенный факультетом журналистики КазНУ им. аль-Фараби ( г. Алматы); Участница областного конкурса «Кітапханалық сабақ-2011», награждена благодарственным письмом отдела культуры и развития языков за участие в городских мероприятиях, посвященных празднику Науры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5" descr="e61e0a7c750f.gif"/>
          <p:cNvPicPr/>
          <p:nvPr/>
        </p:nvPicPr>
        <p:blipFill>
          <a:blip r:embed="rId1"/>
          <a:stretch/>
        </p:blipFill>
        <p:spPr>
          <a:xfrm>
            <a:off x="1219320" y="3962520"/>
            <a:ext cx="981000" cy="1447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0040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стова Вера Иванов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мота отдела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а грамотой отдела культуры и спорта города Павлодара за значительный вклад в развитие физической культуры и спорта города Павлодара, подготовила призера по легкой атлетик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Щукина Алена – 9 класс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Рисунок 3" descr="e61e0a7c750f.gif"/>
          <p:cNvPicPr/>
          <p:nvPr/>
        </p:nvPicPr>
        <p:blipFill>
          <a:blip r:embed="rId2"/>
          <a:stretch/>
        </p:blipFill>
        <p:spPr>
          <a:xfrm>
            <a:off x="963720" y="4705200"/>
            <a:ext cx="1258920" cy="18576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e61e0a7c750f.gif"/>
          <p:cNvPicPr/>
          <p:nvPr/>
        </p:nvPicPr>
        <p:blipFill>
          <a:blip r:embed="rId3"/>
          <a:stretch/>
        </p:blipFill>
        <p:spPr>
          <a:xfrm>
            <a:off x="1757520" y="44197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0\Desktop\Фото школы\IMG_0094.JPG"/>
          <p:cNvPicPr/>
          <p:nvPr/>
        </p:nvPicPr>
        <p:blipFill>
          <a:blip r:embed="rId4"/>
          <a:stretch/>
        </p:blipFill>
        <p:spPr>
          <a:xfrm>
            <a:off x="160200" y="152280"/>
            <a:ext cx="314964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1111320" y="3716280"/>
            <a:ext cx="3200400" cy="2962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114800" y="837720"/>
            <a:ext cx="481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убаев Темиржан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«А» класса,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плом за побед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259092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038120" y="1066320"/>
            <a:ext cx="4743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угаева Асель и Мамаева Диана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9 и 8 классов - Диплом 3 степени в областной выставке декаративно-прикладного творчества «Атамура», посвященной 20-летию Независимости РК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971800" cy="40039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160020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тификат за хорошую подготовку в городском конкурсе научных проек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343040" y="990360"/>
            <a:ext cx="459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баракова Гульми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ца 9 «А» класс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ртификат за хорошую подготовк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033560" y="324000"/>
            <a:ext cx="33559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14040" y="609120"/>
            <a:ext cx="821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ркин Николай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класс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участие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ой научно- практической конференции школьников «Моя Родин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захстан» в номинации «Юный исследователь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 rot="681000">
            <a:off x="5257440" y="3124080"/>
            <a:ext cx="279252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43000" y="3045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Цели  и задачи конференц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формировать родителей (законных представителей), местную общественность об основных результатах и проблемах функционирования и развития школ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12-2013 учебном году, способствовать развитию партнерских отношений между школой и родителями (законными представителями), местной общественностью, бизнес – сообществом. Информация представленная в докладе, является достоверной, отражает реальное состояния развития школы в 2011-2012 учебном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07200" y="304920"/>
            <a:ext cx="817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желтоқсан-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зақстан Республикасының бірінші Президент күні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2373480" y="554508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32d2e"/>
                </a:solidFill>
                <a:latin typeface="Segoe Script"/>
              </a:rPr>
              <a:t>Құттықтаймыз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Рисунок 10" descr=""/>
          <p:cNvPicPr/>
          <p:nvPr/>
        </p:nvPicPr>
        <p:blipFill>
          <a:blip r:embed="rId2"/>
          <a:stretch/>
        </p:blipFill>
        <p:spPr>
          <a:xfrm>
            <a:off x="6553080" y="4890960"/>
            <a:ext cx="190512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e61e0a7c750f.gif"/>
          <p:cNvPicPr/>
          <p:nvPr/>
        </p:nvPicPr>
        <p:blipFill>
          <a:blip r:embed="rId1"/>
          <a:stretch/>
        </p:blipFill>
        <p:spPr>
          <a:xfrm rot="20880000">
            <a:off x="837720" y="91440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e61e0a7c750f.gif"/>
          <p:cNvPicPr/>
          <p:nvPr/>
        </p:nvPicPr>
        <p:blipFill>
          <a:blip r:embed="rId2"/>
          <a:stretch/>
        </p:blipFill>
        <p:spPr>
          <a:xfrm rot="20586000">
            <a:off x="175680" y="124596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e61e0a7c750f.gif"/>
          <p:cNvPicPr/>
          <p:nvPr/>
        </p:nvPicPr>
        <p:blipFill>
          <a:blip r:embed="rId3"/>
          <a:stretch/>
        </p:blipFill>
        <p:spPr>
          <a:xfrm>
            <a:off x="0" y="0"/>
            <a:ext cx="1362240" cy="200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90360" y="31680"/>
            <a:ext cx="8001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программ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единого развивающего пространства, создание условий для формирования духовно-развитой социально-адаптивной личност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ить основные  компоненты педагогического процесса и педагогических условий формирования психически здоровой, социально-активной личности, способной к самоопределению и  самореализаци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ить условия и найти способы реализации творческого потенциала педагогов при овладении ими и применении современных педагогических технологий развивающего и личностно-ориентированного характера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ершить переход  управления педагогическим процессом на диагностико- технологическую основу, подразумевающую ориентацию на личность учащегося, родителя, на конечный результат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ернуть работы творческих групп педагогов и методических объединений по реализации основных направлений программ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отработать способы самореализации, самоопределения личности, ее социальной активности, возможности различных личностно ориентированных технологий, реализующих это направл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ать модель социально - активной личности, способной к устойчивой самореализации и самоопределению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пределить и внедрить в работу наиболее оптимальные формы взаимодействия педагогов с родителями и общественностью, способствующие комплексному развитию образовательного учреждения и направленные на самоопределение, самореализацию учащихся, формирования их социальной актив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ан-график реализации Программы развития школы. 3 этап 2012-2013 учебный год.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5960" y="914400"/>
          <a:ext cx="8763120" cy="5719680"/>
        </p:xfrm>
        <a:graphic>
          <a:graphicData uri="http://schemas.openxmlformats.org/drawingml/2006/table">
            <a:tbl>
              <a:tblPr/>
              <a:tblGrid>
                <a:gridCol w="4149720"/>
                <a:gridCol w="2427480"/>
                <a:gridCol w="2185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и задачи изме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работать план следующего этапа реализации Программы развития школ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реализации третьего эта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ить мотивационную готовность учителей в создании личностно - ориентированного (дифференцированного) обучения в многопрофильных класса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ие опыта работы по новым педагогическим технолог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работать программно - методическое обеспечение реализации дифференцированного обучения по предмета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ограммно-методических разработок по предметам в клас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(ТГ), руководители М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пробировать модель дифференцированного обучения в классах в 1,2,3 ступенях образования ( по выбор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уровня мотивации учебных достижений при снижении перегрузки учащихся 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сти анализ проведенной апробации (внутренней и внешней дифференциации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е выводы и обобщение опыта по реализации "Программы развития школы"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здать необходимые ресурсы для реализации личностно- ориентированного дифференцированного подхода в обучении на следующем этап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овая площадка для начала следующего этапа.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и директора шко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-152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Финансирование 2011-2012 г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43000" y="838080"/>
          <a:ext cx="7086600" cy="5619960"/>
        </p:xfrm>
        <a:graphic>
          <a:graphicData uri="http://schemas.openxmlformats.org/drawingml/2006/table">
            <a:tbl>
              <a:tblPr/>
              <a:tblGrid>
                <a:gridCol w="5029200"/>
                <a:gridCol w="2057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т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а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канцелярских тов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горячего питания для детей из м/о семей, детей-сиро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  одежды и обуви для детей из малообеспеченных семей и детей си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портивно-оздоровительных меропри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меб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ны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Качественный состав учителе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66680" y="1447920"/>
          <a:ext cx="7391520" cy="3809880"/>
        </p:xfrm>
        <a:graphic>
          <a:graphicData uri="http://schemas.openxmlformats.org/drawingml/2006/table">
            <a:tbl>
              <a:tblPr/>
              <a:tblGrid>
                <a:gridCol w="2362320"/>
                <a:gridCol w="1447920"/>
                <a:gridCol w="2209680"/>
                <a:gridCol w="1371600"/>
              </a:tblGrid>
              <a:tr h="8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  в  количеств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спец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учите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343040" y="837720"/>
            <a:ext cx="4591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улов Серик Имангалиеви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едитель городского конкурса «Лидер в образовании - 2012» в номинации «Открытый мир»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гажден Почетной грамотой городского маслиха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C:\Users\0\Desktop\фото директора.jpg"/>
          <p:cNvPicPr/>
          <p:nvPr/>
        </p:nvPicPr>
        <p:blipFill>
          <a:blip r:embed="rId1"/>
          <a:stretch/>
        </p:blipFill>
        <p:spPr>
          <a:xfrm>
            <a:off x="977760" y="11574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008440" cy="25909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4"/>
          <p:cNvSpPr/>
          <p:nvPr/>
        </p:nvSpPr>
        <p:spPr>
          <a:xfrm>
            <a:off x="3733920" y="1295280"/>
            <a:ext cx="46479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азалина Гульбаршин Айтбеков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место в городском конкурсе «Лучшее методическое пособие»; участница республиканской научно-практической конференции «3 Шаяхметов оқулары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Экологическое воспитание школьников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победителем городского конкурса защиты научных проектов.  (Агубаев Темиржан – 8 класс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Рисунок 5" descr="Animated-Beautiful-Flowers-Pictures-25.gif"/>
          <p:cNvPicPr/>
          <p:nvPr/>
        </p:nvPicPr>
        <p:blipFill>
          <a:blip r:embed="rId2"/>
          <a:stretch/>
        </p:blipFill>
        <p:spPr>
          <a:xfrm>
            <a:off x="1219320" y="396252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puter</dc:creator>
  <dc:description/>
  <dc:language>en-US</dc:language>
  <cp:lastModifiedBy>34</cp:lastModifiedBy>
  <dcterms:modified xsi:type="dcterms:W3CDTF">2012-11-26T04:47:10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