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9A1B-36E1-4E0B-8E1D-DAAFEBFE8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BC6-6072-4376-B7C7-9C54F0CE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742-61A2-439C-A34E-847C1906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651-C989-4580-8254-46228D69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1B3-2A3E-4075-BA1B-1601E4BE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C31-11D2-46E7-A9F5-D32C56FA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7B97-3FEB-4224-969E-B34C42A4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3D2-86FB-44F4-9BDD-FF60FCB0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570-D5D6-42B2-AF87-80215EF4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39A-B273-429C-B263-998636D8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C6A-D99F-4A4C-BCD5-D5C53D02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F912-043B-41F2-BFC3-9AE22B91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2566-A54C-40C8-84E2-9EE1D59A4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1042920" y="5589720"/>
            <a:ext cx="7058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4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27"/>
          <p:cNvGrpSpPr/>
          <p:nvPr/>
        </p:nvGrpSpPr>
        <p:grpSpPr>
          <a:xfrm>
            <a:off x="250920" y="189000"/>
            <a:ext cx="539280" cy="6308280"/>
            <a:chOff x="250920" y="189000"/>
            <a:chExt cx="539280" cy="6308280"/>
          </a:xfrm>
        </p:grpSpPr>
        <p:sp>
          <p:nvSpPr>
            <p:cNvPr id="43" name="Freeform 28"/>
            <p:cNvSpPr/>
            <p:nvPr/>
          </p:nvSpPr>
          <p:spPr>
            <a:xfrm rot="16200000">
              <a:off x="490320" y="1467360"/>
              <a:ext cx="33336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29"/>
            <p:cNvSpPr/>
            <p:nvPr/>
          </p:nvSpPr>
          <p:spPr>
            <a:xfrm rot="16200000">
              <a:off x="222480" y="146628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0"/>
            <p:cNvSpPr/>
            <p:nvPr/>
          </p:nvSpPr>
          <p:spPr>
            <a:xfrm rot="16200000">
              <a:off x="78840" y="3650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31"/>
            <p:cNvSpPr/>
            <p:nvPr/>
          </p:nvSpPr>
          <p:spPr>
            <a:xfrm rot="16200000">
              <a:off x="346680" y="36612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2"/>
            <p:cNvSpPr/>
            <p:nvPr/>
          </p:nvSpPr>
          <p:spPr>
            <a:xfrm rot="16200000">
              <a:off x="345600" y="99108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33"/>
            <p:cNvSpPr/>
            <p:nvPr/>
          </p:nvSpPr>
          <p:spPr>
            <a:xfrm rot="16200000">
              <a:off x="77760" y="990000"/>
              <a:ext cx="6228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4"/>
            <p:cNvSpPr/>
            <p:nvPr/>
          </p:nvSpPr>
          <p:spPr>
            <a:xfrm rot="16200000">
              <a:off x="488880" y="4619520"/>
              <a:ext cx="33120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35"/>
            <p:cNvSpPr/>
            <p:nvPr/>
          </p:nvSpPr>
          <p:spPr>
            <a:xfrm rot="16200000">
              <a:off x="219240" y="4616280"/>
              <a:ext cx="3315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6"/>
            <p:cNvSpPr/>
            <p:nvPr/>
          </p:nvSpPr>
          <p:spPr>
            <a:xfrm rot="16200000">
              <a:off x="490320" y="1800000"/>
              <a:ext cx="3330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7"/>
            <p:cNvSpPr/>
            <p:nvPr/>
          </p:nvSpPr>
          <p:spPr>
            <a:xfrm rot="16200000">
              <a:off x="222480" y="1798920"/>
              <a:ext cx="3330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8"/>
            <p:cNvSpPr/>
            <p:nvPr/>
          </p:nvSpPr>
          <p:spPr>
            <a:xfrm rot="16200000">
              <a:off x="74880" y="35164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39"/>
            <p:cNvSpPr/>
            <p:nvPr/>
          </p:nvSpPr>
          <p:spPr>
            <a:xfrm rot="16200000">
              <a:off x="346680" y="35193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40"/>
            <p:cNvSpPr/>
            <p:nvPr/>
          </p:nvSpPr>
          <p:spPr>
            <a:xfrm rot="16200000">
              <a:off x="74880" y="28954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41"/>
            <p:cNvSpPr/>
            <p:nvPr/>
          </p:nvSpPr>
          <p:spPr>
            <a:xfrm rot="16200000">
              <a:off x="346680" y="28983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42"/>
            <p:cNvSpPr/>
            <p:nvPr/>
          </p:nvSpPr>
          <p:spPr>
            <a:xfrm rot="16200000">
              <a:off x="343440" y="4144320"/>
              <a:ext cx="6224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43"/>
            <p:cNvSpPr/>
            <p:nvPr/>
          </p:nvSpPr>
          <p:spPr>
            <a:xfrm rot="16200000">
              <a:off x="73800" y="414144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44"/>
            <p:cNvSpPr/>
            <p:nvPr/>
          </p:nvSpPr>
          <p:spPr>
            <a:xfrm rot="16200000">
              <a:off x="345600" y="227844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5"/>
            <p:cNvSpPr/>
            <p:nvPr/>
          </p:nvSpPr>
          <p:spPr>
            <a:xfrm rot="16200000">
              <a:off x="75600" y="227520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6"/>
            <p:cNvSpPr/>
            <p:nvPr/>
          </p:nvSpPr>
          <p:spPr>
            <a:xfrm rot="16200000">
              <a:off x="487800" y="4953600"/>
              <a:ext cx="33336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7"/>
            <p:cNvSpPr/>
            <p:nvPr/>
          </p:nvSpPr>
          <p:spPr>
            <a:xfrm rot="16200000">
              <a:off x="218520" y="495144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48"/>
            <p:cNvSpPr/>
            <p:nvPr/>
          </p:nvSpPr>
          <p:spPr>
            <a:xfrm rot="16200000">
              <a:off x="74880" y="60508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9"/>
            <p:cNvSpPr/>
            <p:nvPr/>
          </p:nvSpPr>
          <p:spPr>
            <a:xfrm rot="16200000">
              <a:off x="344160" y="6053400"/>
              <a:ext cx="6206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50"/>
            <p:cNvSpPr/>
            <p:nvPr/>
          </p:nvSpPr>
          <p:spPr>
            <a:xfrm rot="16200000">
              <a:off x="342720" y="5430600"/>
              <a:ext cx="62388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1"/>
            <p:cNvSpPr/>
            <p:nvPr/>
          </p:nvSpPr>
          <p:spPr>
            <a:xfrm rot="16200000">
              <a:off x="73080" y="5428080"/>
              <a:ext cx="6242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7"/>
          <p:cNvGrpSpPr/>
          <p:nvPr/>
        </p:nvGrpSpPr>
        <p:grpSpPr>
          <a:xfrm>
            <a:off x="8429760" y="214200"/>
            <a:ext cx="539280" cy="6308640"/>
            <a:chOff x="8429760" y="214200"/>
            <a:chExt cx="539280" cy="6308640"/>
          </a:xfrm>
        </p:grpSpPr>
        <p:sp>
          <p:nvSpPr>
            <p:cNvPr id="68" name="Freeform 28"/>
            <p:cNvSpPr/>
            <p:nvPr/>
          </p:nvSpPr>
          <p:spPr>
            <a:xfrm rot="16200000">
              <a:off x="8669160" y="1492560"/>
              <a:ext cx="33336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9"/>
            <p:cNvSpPr/>
            <p:nvPr/>
          </p:nvSpPr>
          <p:spPr>
            <a:xfrm rot="16200000">
              <a:off x="8401320" y="149148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0"/>
            <p:cNvSpPr/>
            <p:nvPr/>
          </p:nvSpPr>
          <p:spPr>
            <a:xfrm rot="16200000">
              <a:off x="8257680" y="3902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1"/>
            <p:cNvSpPr/>
            <p:nvPr/>
          </p:nvSpPr>
          <p:spPr>
            <a:xfrm rot="16200000">
              <a:off x="8525520" y="39132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 rot="16200000">
              <a:off x="8524440" y="101628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3"/>
            <p:cNvSpPr/>
            <p:nvPr/>
          </p:nvSpPr>
          <p:spPr>
            <a:xfrm rot="16200000">
              <a:off x="8256600" y="1015200"/>
              <a:ext cx="6228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4"/>
            <p:cNvSpPr/>
            <p:nvPr/>
          </p:nvSpPr>
          <p:spPr>
            <a:xfrm rot="16200000">
              <a:off x="8667720" y="4645080"/>
              <a:ext cx="33120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 rot="16200000">
              <a:off x="8398080" y="4641840"/>
              <a:ext cx="3315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 rot="16200000">
              <a:off x="8669160" y="1825200"/>
              <a:ext cx="3330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 rot="16200000">
              <a:off x="8401320" y="1824120"/>
              <a:ext cx="3330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 rot="16200000">
              <a:off x="8253720" y="35416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 rot="16200000">
              <a:off x="8525520" y="35445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 rot="16200000">
              <a:off x="8253720" y="29210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 rot="16200000">
              <a:off x="8525520" y="29235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2"/>
            <p:cNvSpPr/>
            <p:nvPr/>
          </p:nvSpPr>
          <p:spPr>
            <a:xfrm rot="16200000">
              <a:off x="8522280" y="4169520"/>
              <a:ext cx="6224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3"/>
            <p:cNvSpPr/>
            <p:nvPr/>
          </p:nvSpPr>
          <p:spPr>
            <a:xfrm rot="16200000">
              <a:off x="8252640" y="416664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4"/>
            <p:cNvSpPr/>
            <p:nvPr/>
          </p:nvSpPr>
          <p:spPr>
            <a:xfrm rot="16200000">
              <a:off x="8524440" y="230400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5"/>
            <p:cNvSpPr/>
            <p:nvPr/>
          </p:nvSpPr>
          <p:spPr>
            <a:xfrm rot="16200000">
              <a:off x="8254440" y="230040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6"/>
            <p:cNvSpPr/>
            <p:nvPr/>
          </p:nvSpPr>
          <p:spPr>
            <a:xfrm rot="16200000">
              <a:off x="8666640" y="4979160"/>
              <a:ext cx="33336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7"/>
            <p:cNvSpPr/>
            <p:nvPr/>
          </p:nvSpPr>
          <p:spPr>
            <a:xfrm rot="16200000">
              <a:off x="8397360" y="497664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8"/>
            <p:cNvSpPr/>
            <p:nvPr/>
          </p:nvSpPr>
          <p:spPr>
            <a:xfrm rot="16200000">
              <a:off x="8253720" y="60764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9"/>
            <p:cNvSpPr/>
            <p:nvPr/>
          </p:nvSpPr>
          <p:spPr>
            <a:xfrm rot="16200000">
              <a:off x="8523000" y="6078960"/>
              <a:ext cx="6206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0"/>
            <p:cNvSpPr/>
            <p:nvPr/>
          </p:nvSpPr>
          <p:spPr>
            <a:xfrm rot="16200000">
              <a:off x="8521560" y="5456160"/>
              <a:ext cx="62388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1"/>
            <p:cNvSpPr/>
            <p:nvPr/>
          </p:nvSpPr>
          <p:spPr>
            <a:xfrm rot="16200000">
              <a:off x="8251560" y="5453280"/>
              <a:ext cx="6246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54"/>
          <p:cNvSpPr/>
          <p:nvPr/>
        </p:nvSpPr>
        <p:spPr>
          <a:xfrm>
            <a:off x="857160" y="1071720"/>
            <a:ext cx="76438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Павлодар қаласының № 41 дене шынықтыру-сауықтыру бағытындағы жалпы орта білім беру бейіндік мектебі» Мемлекеттік мекемес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kk-K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 “В” сынып оқушы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МАГУЛОВА АРУЖ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текшісі: Ахметова А.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Э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alt"/>
          <p:cNvPicPr/>
          <p:nvPr/>
        </p:nvPicPr>
        <p:blipFill>
          <a:blip r:embed="rId2"/>
          <a:stretch/>
        </p:blipFill>
        <p:spPr>
          <a:xfrm>
            <a:off x="7956720" y="189000"/>
            <a:ext cx="1008000" cy="666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alt"/>
          <p:cNvPicPr/>
          <p:nvPr/>
        </p:nvPicPr>
        <p:blipFill>
          <a:blip r:embed="rId3"/>
          <a:stretch/>
        </p:blipFill>
        <p:spPr>
          <a:xfrm>
            <a:off x="0" y="5634000"/>
            <a:ext cx="8244000" cy="1224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4"/>
          <p:cNvSpPr/>
          <p:nvPr/>
        </p:nvSpPr>
        <p:spPr>
          <a:xfrm>
            <a:off x="1214280" y="2714760"/>
            <a:ext cx="650088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Мені жақсы көре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Күндей күліп кел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Көп ертегі біле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Маған айтып бе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D:\ДОКУМЕНТЫ!\2012-2013 уч.год\Ерботин\Аружан Исмагулова фото сайтка\06112012609.jpg"/>
          <p:cNvPicPr/>
          <p:nvPr/>
        </p:nvPicPr>
        <p:blipFill>
          <a:blip r:embed="rId4"/>
          <a:stretch/>
        </p:blipFill>
        <p:spPr>
          <a:xfrm rot="20959800">
            <a:off x="387360" y="591840"/>
            <a:ext cx="4329000" cy="376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D:\ДОКУМЕНТЫ!\2012-2013 уч.год\Ерботин\Аружан Исмагулова фото сайтка\06112012610.jpg"/>
          <p:cNvPicPr/>
          <p:nvPr/>
        </p:nvPicPr>
        <p:blipFill>
          <a:blip r:embed="rId5"/>
          <a:stretch/>
        </p:blipFill>
        <p:spPr>
          <a:xfrm rot="762000">
            <a:off x="4383000" y="735120"/>
            <a:ext cx="4337280" cy="37144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1"/>
          <p:cNvSpPr/>
          <p:nvPr/>
        </p:nvSpPr>
        <p:spPr>
          <a:xfrm>
            <a:off x="1428840" y="357120"/>
            <a:ext cx="63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Arial"/>
              </a:rPr>
              <a:t>МЕНІҢ ӘЖ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Э20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5857920" y="3786120"/>
            <a:ext cx="28573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Мен гүлдерді жұлмаймы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Торғайларды қумаймы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Айтқан  сөзін тыңдаймы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Әжешімді сыйлаймы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D:\ДОКУМЕНТЫ!\2012-2013 уч.год\Ерботин\Аружан Исмагулова фото сайтка\06112012611.jpg"/>
          <p:cNvPicPr/>
          <p:nvPr/>
        </p:nvPicPr>
        <p:blipFill>
          <a:blip r:embed="rId2"/>
          <a:stretch/>
        </p:blipFill>
        <p:spPr>
          <a:xfrm>
            <a:off x="2928960" y="142920"/>
            <a:ext cx="3071880" cy="3571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D:\ДОКУМЕНТЫ!\2012-2013 уч.год\Ерботин\Аружан Исмагулова фото сайтка\06112012612.jpg"/>
          <p:cNvPicPr/>
          <p:nvPr/>
        </p:nvPicPr>
        <p:blipFill>
          <a:blip r:embed="rId3"/>
          <a:stretch/>
        </p:blipFill>
        <p:spPr>
          <a:xfrm>
            <a:off x="142920" y="142920"/>
            <a:ext cx="2786040" cy="3571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D:\ДОКУМЕНТЫ!\2012-2013 уч.год\Ерботин\Аружан Исмагулова фото сайтка\06112012613.jpg"/>
          <p:cNvPicPr/>
          <p:nvPr/>
        </p:nvPicPr>
        <p:blipFill>
          <a:blip r:embed="rId4"/>
          <a:stretch/>
        </p:blipFill>
        <p:spPr>
          <a:xfrm>
            <a:off x="5929200" y="142920"/>
            <a:ext cx="3071880" cy="357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D:\ДОКУМЕНТЫ!\2012-2013 уч.год\Ерботин\Аружан Исмагулова фото сайтка\06112012614.jpg"/>
          <p:cNvPicPr/>
          <p:nvPr/>
        </p:nvPicPr>
        <p:blipFill>
          <a:blip r:embed="rId5"/>
          <a:stretch/>
        </p:blipFill>
        <p:spPr>
          <a:xfrm>
            <a:off x="142920" y="3643200"/>
            <a:ext cx="3214800" cy="3000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D:\ДОКУМЕНТЫ!\2012-2013 уч.год\Ерботин\Аружан Исмагулова фото сайтка\06112012615.jpg"/>
          <p:cNvPicPr/>
          <p:nvPr/>
        </p:nvPicPr>
        <p:blipFill>
          <a:blip r:embed="rId6"/>
          <a:stretch/>
        </p:blipFill>
        <p:spPr>
          <a:xfrm>
            <a:off x="3071880" y="3643200"/>
            <a:ext cx="30020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a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7"/>
          <p:cNvSpPr txBox="1"/>
          <p:nvPr/>
        </p:nvSpPr>
        <p:spPr>
          <a:xfrm>
            <a:off x="826920" y="765000"/>
            <a:ext cx="7705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</a:t>
            </a:r>
            <a:endParaRPr b="1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8"/>
          <p:cNvSpPr txBox="1"/>
          <p:nvPr/>
        </p:nvSpPr>
        <p:spPr>
          <a:xfrm>
            <a:off x="250920" y="2997360"/>
            <a:ext cx="8640720" cy="19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4" name="Picture 6" descr="D:\ДОКУМЕНТЫ!\2012-2013 уч.год\Ерботин\Аружан Исмагулова фото сайтка\06112012616.jpg"/>
          <p:cNvPicPr/>
          <p:nvPr/>
        </p:nvPicPr>
        <p:blipFill>
          <a:blip r:embed="rId2"/>
          <a:stretch/>
        </p:blipFill>
        <p:spPr>
          <a:xfrm rot="20782200">
            <a:off x="612360" y="458640"/>
            <a:ext cx="2513160" cy="3684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D:\ДОКУМЕНТЫ!\2012-2013 уч.год\Ерботин\Аружан Исмагулова фото сайтка\06112012617.jpg"/>
          <p:cNvPicPr/>
          <p:nvPr/>
        </p:nvPicPr>
        <p:blipFill>
          <a:blip r:embed="rId3"/>
          <a:stretch/>
        </p:blipFill>
        <p:spPr>
          <a:xfrm>
            <a:off x="3286080" y="214200"/>
            <a:ext cx="2511360" cy="3571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D:\ДОКУМЕНТЫ!\2012-2013 уч.год\Ерботин\Аружан Исмагулова фото сайтка\06112012618.jpg"/>
          <p:cNvPicPr/>
          <p:nvPr/>
        </p:nvPicPr>
        <p:blipFill>
          <a:blip r:embed="rId4"/>
          <a:stretch/>
        </p:blipFill>
        <p:spPr>
          <a:xfrm rot="672000">
            <a:off x="5896080" y="806040"/>
            <a:ext cx="2770200" cy="360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D:\ДОКУМЕНТЫ!\2012-2013 уч.год\Ерботин\Аружан Исмагулова фото сайтка\06112012619.jpg"/>
          <p:cNvPicPr/>
          <p:nvPr/>
        </p:nvPicPr>
        <p:blipFill>
          <a:blip r:embed="rId5"/>
          <a:stretch/>
        </p:blipFill>
        <p:spPr>
          <a:xfrm rot="20976000">
            <a:off x="2336400" y="3330360"/>
            <a:ext cx="2357640" cy="3160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D:\ДОКУМЕНТЫ!\2012-2013 уч.год\Ерботин\Аружан Исмагулова фото сайтка\06112012620.jpg"/>
          <p:cNvPicPr/>
          <p:nvPr/>
        </p:nvPicPr>
        <p:blipFill>
          <a:blip r:embed="rId6"/>
          <a:stretch/>
        </p:blipFill>
        <p:spPr>
          <a:xfrm rot="732000">
            <a:off x="4963680" y="3541680"/>
            <a:ext cx="24433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a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D:\ДОКУМЕНТЫ!\2012-2013 уч.год\Ерботин\Аружан Исмагулова фото сайтка\06112012622.jpg"/>
          <p:cNvPicPr/>
          <p:nvPr/>
        </p:nvPicPr>
        <p:blipFill>
          <a:blip r:embed="rId2"/>
          <a:stretch/>
        </p:blipFill>
        <p:spPr>
          <a:xfrm>
            <a:off x="214200" y="714240"/>
            <a:ext cx="3571920" cy="52182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3929040" y="642960"/>
            <a:ext cx="50720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Жақсы көріп ол мен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Әуеніме шөлд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Әй-әй бөпем әнім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Бесігімді тербей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Мен әжемнің тұлпа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Мен әжемнің сұңқ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Жаурап қалып жүрме деп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Көрпемді қымт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alt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D:\ДОКУМЕНТЫ!\2012-2013 уч.год\Ерботин\Аружан Исмагулова фото сайтка\06112012623.jpg"/>
          <p:cNvPicPr/>
          <p:nvPr/>
        </p:nvPicPr>
        <p:blipFill>
          <a:blip r:embed="rId2"/>
          <a:stretch/>
        </p:blipFill>
        <p:spPr>
          <a:xfrm rot="20796000">
            <a:off x="1058760" y="2066400"/>
            <a:ext cx="2776680" cy="4530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D:\ДОКУМЕНТЫ!\2012-2013 уч.год\Ерботин\Аружан Исмагулова фото сайтка\06112012621.jpg"/>
          <p:cNvPicPr/>
          <p:nvPr/>
        </p:nvPicPr>
        <p:blipFill>
          <a:blip r:embed="rId3"/>
          <a:stretch/>
        </p:blipFill>
        <p:spPr>
          <a:xfrm rot="575400">
            <a:off x="5138280" y="2187360"/>
            <a:ext cx="2880000" cy="4460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1143000" y="357120"/>
            <a:ext cx="6500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Өзің маған қарайсың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Нұрын шашқан ақ әж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Мен үшін сен арайсың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Басымдағы бақ, әж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lt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2" descr=""/>
          <p:cNvPicPr/>
          <p:nvPr/>
        </p:nvPicPr>
        <p:blipFill>
          <a:blip r:embed="rId2"/>
          <a:stretch/>
        </p:blipFill>
        <p:spPr>
          <a:xfrm>
            <a:off x="182520" y="665280"/>
            <a:ext cx="8626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8:30:44Z</dcterms:created>
  <dc:creator>Пользователь</dc:creator>
  <dc:description/>
  <dc:language>en-US</dc:language>
  <cp:lastModifiedBy>dashka</cp:lastModifiedBy>
  <dcterms:modified xsi:type="dcterms:W3CDTF">2012-11-28T08:32:57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f000000000001024110</vt:lpwstr>
  </property>
</Properties>
</file>