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CAE0-3A63-4E07-B3EE-60E54B9C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5E83-9930-43D7-8E0B-CFAC7FA5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4B1-CAC0-4A52-95FF-F2D9DC3A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188-0280-4F60-999A-C75537CA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E296-64CE-42E1-A8D0-A38767FE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9110-ABD8-4DCF-B475-27463E19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A516-A4E3-44C2-B6F5-60732DEE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572C-E7AB-4F65-89BA-5A7E3A10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D5B3-8DE5-4CE1-8E85-8B33C0CE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5260-4A57-4221-A899-73E2FDAF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05EB-B6D7-436C-BBFD-44ABC73F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6A0-DA69-444F-AB6B-0A96E39F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2A20-2BDA-41FD-84ED-7D92D801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E5D7-39D6-4524-A7D1-8A76EA64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A9A2-9A0D-488D-B272-0E6790EC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0A99-1F15-4863-B722-4DC8FB8C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FB14-5565-4F16-937A-F02BCF22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64D-3C67-40B5-A66F-12E833F6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AF3-F6D2-42D1-8465-5767C54D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923-8C82-49FC-B9A4-EE3B426E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E46-D3C5-493A-BF78-B1BD4E14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F221-2AB2-44BB-B3F3-1C576ABA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C06-EE94-4C54-9FA7-67412CEF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5DF-8D45-4ED2-8C1F-1DF6D431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B891-9092-4844-A2A3-F27D535C3A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1547-CC91-483F-B091-60D15700B1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80880" y="1295280"/>
          <a:ext cx="8540640" cy="4014720"/>
        </p:xfrm>
        <a:graphic>
          <a:graphicData uri="http://schemas.openxmlformats.org/drawingml/2006/table">
            <a:tbl>
              <a:tblPr/>
              <a:tblGrid>
                <a:gridCol w="4270680"/>
                <a:gridCol w="426996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Simpl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Continuou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, always, often, sometimes, seldom, never; every day</a:t>
                      </a: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week, month, year, Sunday etc.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/ does      V1 / V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the moment, n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/is/are                  Ving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601992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301680" y="228600"/>
          <a:ext cx="8540640" cy="587052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ways, usually, every year, of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Human beings/kill/our plan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Animal/disapp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A man/not cut down/tr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People/cut down/many tre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I/plant/a tr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Students/plant/tre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He/solve/environmental proble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He/live/among lit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Scientists/ala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She /not think/about environmen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The Dead Sea/become/small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Student/take/the rubbish/to the local recycling cen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 We/clean/our pa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 The average person/throw away/about 70 food c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 The forests/disappear/all over worl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 He/keep/himself informed/about environmental proble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2-11-29T03:34:2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