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7D0-3AE6-46EC-971F-17D58151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4F3-963F-4901-B12C-7603791F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0A5C-B8BE-476C-9A88-5EF0E9A5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948-13E5-426F-A5E8-F7573D63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274B-2B58-4DC7-96FC-2EABA3A4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7723-AEB8-474A-8A47-A741B709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FED9-66AF-4594-901F-D351F2BE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9969-2CB2-4B61-B688-6628F1B4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5D60-F2B2-475B-9A05-B6EF4FA2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20B7-CC33-454C-9E49-2C0E573A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4AD0-8129-4F21-91A2-348F0E3C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778-2AFA-4FE1-A0AC-F5541546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9C91-8091-47DB-880C-0BBE3F00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4A49-055B-4524-8656-16553314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278B-A135-4507-807A-DBA61ECA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2B6E-5513-43B6-9E81-1087680D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A380-A296-48E1-A4FB-4CAFD463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AD3-C943-4100-A854-2C8A0935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AEF-358A-4D9D-8BD5-F8613E8A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E90-4B66-4A2B-938F-8763EF28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57B-802D-4263-AE25-2A6C1204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42A-72E1-4941-BC44-E86B0FF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F6D-2D7B-4442-8A5C-9EBFEB35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0DE-F55F-4BDC-B1C8-6FAA783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817A-0860-4B39-9F54-3AC09F3A0B4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1608-B3D8-47EC-8AFA-09DE0DA18C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The theme of our lesson is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GB" sz="72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Statements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ancient times Nature hasn’t served 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riches are unlim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y-products of their activity clean the air we breathe, the water we drink,   the land we grow grain and vegetables 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ities suffer from snow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t parks are cut and burn in f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ew w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appear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ез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ison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troy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уш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save animals -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хран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вот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founded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ationa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l organizatio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международная организ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mma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млекопитающ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iv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ережить, выдерж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274680"/>
          <a:ext cx="9144000" cy="4930560"/>
        </p:xfrm>
        <a:graphic>
          <a:graphicData uri="http://schemas.openxmlformats.org/drawingml/2006/table">
            <a:tbl>
              <a:tblPr/>
              <a:tblGrid>
                <a:gridCol w="2449440"/>
                <a:gridCol w="2198880"/>
                <a:gridCol w="1676160"/>
                <a:gridCol w="2819520"/>
              </a:tblGrid>
              <a:tr h="277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ou knew this fact befo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√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w in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ought different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–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n’t understand, have ques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Озеро, осен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70080" y="0"/>
            <a:ext cx="643716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arth is a garde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a beautiful plac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 all living creatur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 all the human ra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lping Mother Ear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can peacefully ro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all diverse a pl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can call our ho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peat and read w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tect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защищать, охран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tected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щищённый, находящий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 защитой, охра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dangered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ходящийся под угроз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езновения (о виде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tin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тухший, увядш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stroy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уш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bita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-  мест о распространения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еал(животного, расте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se the new words to complete the senten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gers living in the Far East of Russia have become e…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amingos live in the tropics. They are water birds, so their h… is lak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ames of all pr… species of Russia  are in the Red Book of plants and anim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peace tries to stop those who d… n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people cut down forests, a lot of species become  ex…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’s not easy to p… our world from air, water and soil pol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971640" y="168120"/>
            <a:ext cx="763272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ind the explanation of the words: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836640"/>
          <a:ext cx="8147160" cy="5027760"/>
        </p:xfrm>
        <a:graphic>
          <a:graphicData uri="http://schemas.openxmlformats.org/drawingml/2006/table">
            <a:tbl>
              <a:tblPr/>
              <a:tblGrid>
                <a:gridCol w="3538440"/>
                <a:gridCol w="46087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1. protec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dead ani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2. habit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kill (animals), cut down (tree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3. extinc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keep safe from ha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4. protecte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environ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5. destro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disappearing ani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6. endangere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keeping saf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41"/>
          <p:cNvSpPr/>
          <p:nvPr/>
        </p:nvSpPr>
        <p:spPr>
          <a:xfrm>
            <a:off x="2642400" y="609300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Key: 1c, 2d, 3a, 4f, 5b, 6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1" name="Прямая со стрелкой 5"/>
          <p:cNvCxnSpPr/>
          <p:nvPr/>
        </p:nvCxnSpPr>
        <p:spPr>
          <a:xfrm>
            <a:off x="2857680" y="1357200"/>
            <a:ext cx="1643760" cy="16437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>
            <a:off x="2928960" y="2143080"/>
            <a:ext cx="1643760" cy="16437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3" name="Прямая со стрелкой 7"/>
          <p:cNvCxnSpPr/>
          <p:nvPr/>
        </p:nvCxnSpPr>
        <p:spPr>
          <a:xfrm flipV="1">
            <a:off x="2928960" y="1356840"/>
            <a:ext cx="1643760" cy="16437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4" name="Прямая со стрелкой 9"/>
          <p:cNvCxnSpPr/>
          <p:nvPr/>
        </p:nvCxnSpPr>
        <p:spPr>
          <a:xfrm>
            <a:off x="3429000" y="3929040"/>
            <a:ext cx="1000800" cy="16437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5" name="Прямая со стрелкой 11"/>
          <p:cNvCxnSpPr/>
          <p:nvPr/>
        </p:nvCxnSpPr>
        <p:spPr>
          <a:xfrm flipV="1">
            <a:off x="3857760" y="4714200"/>
            <a:ext cx="429120" cy="78660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6" name="Прямая со стрелкой 14"/>
          <p:cNvCxnSpPr/>
          <p:nvPr/>
        </p:nvCxnSpPr>
        <p:spPr>
          <a:xfrm flipV="1">
            <a:off x="3071880" y="2071080"/>
            <a:ext cx="1286640" cy="257220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ok at the new w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v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служ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al rich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риродные богат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ference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мешатель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величив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ial enterprises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мышленны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прия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-product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бочный проду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ffer from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традать от чего-либ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xygen balance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лан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сл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truction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уш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zone layer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оновый сл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eless interaction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гкомысленно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аимодейств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Questions: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has served nature since ancient tim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id people live in harmony for thousands of years wit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ollutes the air we breathe, the water we drink, the land we grow grain and vegetables 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cut and burnt in fi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man many cities suffer f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2-11-29T03:34:3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