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AF4-F71A-4AA6-9298-A2ECB1F8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5AD-D7C8-4AB8-84A3-2B24C99F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6F0-7EB0-45FA-954D-D71C2009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6D9-9AE5-4627-B25F-A3C434F4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CA32-6883-483F-8654-5621D886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1FA1-993F-46DA-9B1B-507F1C56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238E-66C7-40B7-80B7-81F41A6B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BC30-697E-4C6D-9CDD-AFC7EC6A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A64C-328E-400B-B80B-A6D5AAF5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8F1D-C461-46B0-B95C-7DC0C1F1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4814-E107-44E0-A989-979E1219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341-333D-4E1C-AE59-F6D2EA97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7D9D-A19F-4393-A287-DFE589E3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4C02-F7DA-44C1-8F21-DACF656B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A3D4-107E-4431-B50C-FF413E93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D555-FCB4-4006-9A8C-FA47C481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547A-0CA2-4131-9D6C-E660AAF7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905-5F2E-4DF3-A1C5-7965333C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648-1CD3-46A3-A9EE-8EABF802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893-2671-46BB-8517-65338213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03C-A3E6-4E41-883C-A0763D3A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284-1B95-46B1-8050-D25E42D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386-4709-4D6E-ADB0-4F3648D2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44A-F437-4FEA-A81A-A4086F8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6B1F-D859-4AAF-944A-DA28804252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6DF3-9560-4EC3-9C18-4608AB84E09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оман Л.Н.Толстого «Война и мир» - роман-эпопея: проблематика, образы, жанр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е страсти, все моменты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человеческой жизни, от крика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оворожденного ребёнка до последней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пышки чувства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умирающего старика,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е горести и радости, доступные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человеку,- всё есть в этой картине!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ритик Н. Страхов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333360"/>
          <a:ext cx="8640720" cy="619128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19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3600" spc="-1" strike="noStrike" u="sng">
                <a:solidFill>
                  <a:srgbClr val="006633"/>
                </a:solidFill>
                <a:uFillTx/>
                <a:latin typeface="Garamond"/>
              </a:rPr>
              <a:t>КУТУЗОВ И НАПОЛЕОН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1484280"/>
          <a:ext cx="8569440" cy="487440"/>
        </p:xfrm>
        <a:graphic>
          <a:graphicData uri="http://schemas.openxmlformats.org/drawingml/2006/table">
            <a:tbl>
              <a:tblPr/>
              <a:tblGrid>
                <a:gridCol w="4105440"/>
                <a:gridCol w="4464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тузов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еон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979640" y="1989000"/>
          <a:ext cx="5640480" cy="304920"/>
        </p:xfrm>
        <a:graphic>
          <a:graphicData uri="http://schemas.openxmlformats.org/drawingml/2006/table">
            <a:tbl>
              <a:tblPr/>
              <a:tblGrid>
                <a:gridCol w="5640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ость, детали портр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95280" y="2276640"/>
          <a:ext cx="8569440" cy="1554120"/>
        </p:xfrm>
        <a:graphic>
          <a:graphicData uri="http://schemas.openxmlformats.org/drawingml/2006/table">
            <a:tbl>
              <a:tblPr/>
              <a:tblGrid>
                <a:gridCol w="4105440"/>
                <a:gridCol w="44640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тяжело ступая», «по пухлому, изуродованному раной лицу», «лицо его становилось всё светлее и светлее от старческой кроткой улыб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зучастный, ограниченный и счастливый от несчастия других взгляд», «круглый живот»,»жирные ляжки коротких ног», «жёлтый, пухлый, тяжёлый, с мутными глазам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908000" y="3429000"/>
          <a:ext cx="5688360" cy="30492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9640" y="3716280"/>
          <a:ext cx="8425080" cy="822240"/>
        </p:xfrm>
        <a:graphic>
          <a:graphicData uri="http://schemas.openxmlformats.org/drawingml/2006/table">
            <a:tbl>
              <a:tblPr/>
              <a:tblGrid>
                <a:gridCol w="4032360"/>
                <a:gridCol w="4392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Он был убеждён, что ему предназначено спасение России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3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Париж был столицей мира, и французы предметом зависти всех наций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050920" y="4292640"/>
          <a:ext cx="5569200" cy="304920"/>
        </p:xfrm>
        <a:graphic>
          <a:graphicData uri="http://schemas.openxmlformats.org/drawingml/2006/table">
            <a:tbl>
              <a:tblPr/>
              <a:tblGrid>
                <a:gridCol w="556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в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8360" y="4581360"/>
          <a:ext cx="8424720" cy="1603440"/>
        </p:xfrm>
        <a:graphic>
          <a:graphicData uri="http://schemas.openxmlformats.org/drawingml/2006/table">
            <a:tbl>
              <a:tblPr/>
              <a:tblGrid>
                <a:gridCol w="4032360"/>
                <a:gridCol w="4392360"/>
              </a:tblGrid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е играл никакой роли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е делал никаких распоряжений, а только соглашался или не соглашался на то, что предлагали ему «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Роль «благодетеля мир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аполеон делал свои распоряжения, которые или уже были исполнены прежде, чем он делал их, или же не могли быть и не были исполнены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3880" y="333360"/>
          <a:ext cx="6096240" cy="431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ые сцены с участием этих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765000"/>
          <a:ext cx="8424720" cy="60897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8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Смотр войск в Брауна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-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оенный совет перед Аустерлице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устерлицкое 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ородинское 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- 16,25,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Совет в Филя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3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Главы о Кутузов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4 -4,5,6,1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устерлицкое сра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Тильзитский ми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 - 2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Переправа через Нема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 - 1  -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ородинское сра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2  - 26,29,33,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На Поклонной гор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 захваченной Москв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– 8,9,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гство Наполе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– 1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0"/>
          <p:cNvSpPr/>
          <p:nvPr/>
        </p:nvSpPr>
        <p:spPr>
          <a:xfrm>
            <a:off x="395280" y="189000"/>
            <a:ext cx="84978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 u="sng">
                <a:solidFill>
                  <a:srgbClr val="006633"/>
                </a:solidFill>
                <a:uFillTx/>
                <a:latin typeface="Arial"/>
              </a:rPr>
              <a:t>ИСТОРИЯ СОЗД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63-1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57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Встреча с Пущиным и  Волкон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Роман «Война и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25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Восстание на Сенатской площ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весть «Декабрист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1812                         Отечественная во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1805                                Война с Наполеоном в союзе с Австр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1"/>
          <p:cNvSpPr/>
          <p:nvPr/>
        </p:nvSpPr>
        <p:spPr>
          <a:xfrm flipV="1">
            <a:off x="399564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2"/>
          <p:cNvSpPr/>
          <p:nvPr/>
        </p:nvSpPr>
        <p:spPr>
          <a:xfrm>
            <a:off x="4211640" y="227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3"/>
          <p:cNvSpPr/>
          <p:nvPr/>
        </p:nvSpPr>
        <p:spPr>
          <a:xfrm>
            <a:off x="3995640" y="24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4"/>
          <p:cNvSpPr/>
          <p:nvPr/>
        </p:nvSpPr>
        <p:spPr>
          <a:xfrm>
            <a:off x="435600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5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7"/>
          <p:cNvSpPr/>
          <p:nvPr/>
        </p:nvSpPr>
        <p:spPr>
          <a:xfrm>
            <a:off x="4427640" y="4581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8"/>
          <p:cNvSpPr/>
          <p:nvPr/>
        </p:nvSpPr>
        <p:spPr>
          <a:xfrm>
            <a:off x="406728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9"/>
          <p:cNvSpPr/>
          <p:nvPr/>
        </p:nvSpPr>
        <p:spPr>
          <a:xfrm>
            <a:off x="442764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89000"/>
          <a:ext cx="8785440" cy="626436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404640"/>
            <a:ext cx="85690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«Я старался писать историю на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57 г. – после встречи с декабристами Л.Н.Толстой задумал роман об одном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25 г. – «Невольно от настоящего я перешёл к 1825 году, эпохе заблуждений и несчастий моего геро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12 г. – «Чтобы понять моего героя, мне нужно перенестись к его молодости, которая совпала со славной для России эпохой 1812 г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05 г. – «Мне совестно было писать о нашем торжестве, не описав неудач и нашего сра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: накопился огромный материал об исторических событиях 1805 – 1856 г.г. и замысел романа изменился. В центре оказались события 1812г., и героем романа стал русски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89000"/>
          <a:ext cx="8856720" cy="633564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63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Война и мир» (1805 – 1820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06 – 18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   18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12 – 18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лог   18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– второй т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-австро-француз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ойна 1805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йна между коалицией  европейских держав 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ликобритания, Россия, Австрия, Швец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 и наполеоновской Францией. Союзники ставили своей целью изгнать французские войска с захваченных ими территорий и восстановить дореволюционные порядки во Франции. Главная роль в войне возлагалась на Австрию и Россию. Наполеон, получив известие о том, что австрийские войска 27 августа вступили в Баварию, искусным маневром своих главных сил окружил армию Макка и принудил её к капитуляции. Русские войска, прибывшие 29 сентября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рауна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оказались в тяжёлом положении и были вынуждены начать отход вдоль правого берега Дуная. Наполеон попытался окружить русские войска в районе Санкт-Пельтена. Но Кутузов, разгадав замысел противника, переправился через Дунай раньше подхода французов и нанёс сокрушительный удар. 4 ноября отряд Багратиона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енграбенском бо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разил атаки 30-тысячного авангарда французских войск и обеспечил соединение главных сил с австрийскими войсками. 20 ноября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устерлицком с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юзные войска были разбиты. Австрия вышла из войны и подписала с Францией сепаратный мир. Русские войска были отведены в Росс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3280" y="620640"/>
            <a:ext cx="4043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ретий – четвёртый т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вободительная война России против наполеоновской агрессии. Вторжение войск наполеона было вызвано обострением русско-французских экономических и политических противоречий, фактическим отказом России от Континентальной блока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события 1812 г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 ию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ереход французской армии через Неман (силы сторон к началу Отечественной войны: французы - около 610 тыс. человек; русские - около 240 тыс. человек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-6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Смоленское сражение, неудачная попытка наполеона разгромить основные силы русских вой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назначение главнокомандующим М.И.Кутузо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8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Бородинское сра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сент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военный совет в Филях, решение Кутузова оставить Москву; вступление французских войск в Москв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-6 сент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ожар Москв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нтябрь-октябр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Кутузов проводит Тарутинский марш-маневр, вынуждает французов уйти из Москвы и отступать по Старой Смоленской дороге; развёртывается партизанская вой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-16 но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сражение при Берези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ябрь-декабр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гибель французской арм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 дека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изгнание остатков «великой армии» из Ро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Л. Н. ТОЛСТОЙ «Война и мир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Garamond"/>
              </a:rPr>
              <a:t>Историческая основа романа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0" y="1484280"/>
          <a:ext cx="4392720" cy="374508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37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4000" y="1628640"/>
          <a:ext cx="4105080" cy="4248360"/>
        </p:xfrm>
        <a:graphic>
          <a:graphicData uri="http://schemas.openxmlformats.org/drawingml/2006/table">
            <a:tbl>
              <a:tblPr/>
              <a:tblGrid>
                <a:gridCol w="4105080"/>
              </a:tblGrid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Жанр ром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Что такое «Война и мир»? Это не роман, ещё менее поэма, ещё менее историческая  хроника. «Война и мир» есть то, что хотел и мог выразить автор в той форме, в которой оно выразилось». (Л.Н.Толсто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..Это не роман вообще, не исторический роман, даже не историческая хроника, это хроника семейная…это быль, и быль семейная» (Н.Страхо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Оригинальное и многостороннее произведение, соединяющее в себе эпопею, исторический роман и очерк нравов» (И.С.Тургене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260280"/>
          <a:ext cx="8713800" cy="640872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50920" y="307440"/>
            <a:ext cx="86421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ман-эпопе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Романные» призна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витие сюжета, в котором есть завязка, развитие действия, кульминация, развязка – для всего повествования и для каждой сюжетной линии в отдельности; взаимодействие среды с характером героя, развитие эт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знаки эпоп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ема(эпоха больших исторических событий); идейное содержание – «моральное единение повествователя с народом в его героической деятельности, патриотизм… прославление жизни, оптимизм; сложность композиции; стремление автора к национально-историческому обобщени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литературоведы определяют «Войну и мир» как философско-исторический роман. Но надо помнить, что история и философия в романе – только составные части. Роман создавался не для воссоздания истории, а как книга о жизни всего народа, нации, создавалась художественная правда. Следовательно, это роман-эпоп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260280"/>
          <a:ext cx="8785440" cy="6121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1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«Любимые» геро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ны в динам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красивы внеш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уховно бога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вершают ошибки (духовные поис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Отечеству, общему дел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ходятся в периоде «детств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юбят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ивут не в Петербург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сть семь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частливы в финале повеств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ьи Ростовых, Болконских, Безуховых;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тузов, Тимохин, Тушин, Давыд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«Нелюбимые» геро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ны в статист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расивы внеш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ие духов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верены в себе (не совершают ошибок) – нет духовн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себ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ходятся в периоде «отрочеств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 любят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ивут в Петербург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т семь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уют в эпилог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ьи Курагиных, Карагиных, Друбецких,Бергеров; Шерер,Наполео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981000"/>
          <a:ext cx="4249800" cy="532764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53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981000"/>
          <a:ext cx="4392720" cy="532764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532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br>
              <a:rPr sz="3800"/>
            </a:br>
            <a:r>
              <a:rPr b="0" lang="ru-RU" sz="2400" spc="-1" strike="noStrike">
                <a:solidFill>
                  <a:srgbClr val="006633"/>
                </a:solidFill>
                <a:latin typeface="Franklin Gothic Demi"/>
              </a:rPr>
              <a:t>Пути исканий смысла жизни Пьером и князем Андреем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постичь смысл жизни, необходимо пройти через множество разочарований, кризисов, потерь и обретений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Ь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16280"/>
          <a:ext cx="4280040" cy="4681440"/>
        </p:xfrm>
        <a:graphic>
          <a:graphicData uri="http://schemas.openxmlformats.org/drawingml/2006/table">
            <a:tbl>
              <a:tblPr/>
              <a:tblGrid>
                <a:gridCol w="216000"/>
                <a:gridCol w="406404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Ь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 отца, женитьба на Элен и дуэль с Долохов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лечение масонств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 с Андреем на пароме в Богучаро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судьбе Наташи и встреча с комето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зд на Бородинское поле и жизнь на батарее Раевск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 Андреем в ночь перед сражени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бывание в захваченной французами Москве, плен, знакомство с Платоном Каратаев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итьба на Наташ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деятельности тайных обще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643280" y="1916280"/>
          <a:ext cx="4265640" cy="4681440"/>
        </p:xfrm>
        <a:graphic>
          <a:graphicData uri="http://schemas.openxmlformats.org/drawingml/2006/table">
            <a:tbl>
              <a:tblPr/>
              <a:tblGrid>
                <a:gridCol w="216000"/>
                <a:gridCol w="4049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язь АНДР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ая жизнь с Лизо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ход на войну, мечта о славе Наполео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ение под Аустерлицем и встреча с Наполеон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дение сына и смерть же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единённая жизнь в деревн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 с Пьером на пароме в Богучаро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ба у Сперанск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к Наташе и разочарование в н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дино и встреча с Пьером в ночь перед сражени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ение, встреча с Анатол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 Наташей и княжной Марь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55640" y="1268280"/>
          <a:ext cx="7561440" cy="64800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того, чтобы постичь смысл жизни, необходимо пройти через множество разочарований, кризисов, потерь и обре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40:40Z</dcterms:created>
  <dc:creator>ТАНЯ</dc:creator>
  <dc:description/>
  <dc:language>en-US</dc:language>
  <cp:lastModifiedBy>Сухарь</cp:lastModifiedBy>
  <dcterms:modified xsi:type="dcterms:W3CDTF">2013-01-03T02:16:41Z</dcterms:modified>
  <cp:revision>7</cp:revision>
  <dc:subject/>
  <dc:title>                      Л. Н. ТОЛСТОЙ «Война и мир»                    Историческая основа романа</dc:title>
</cp:coreProperties>
</file>