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3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gif" ContentType="image/gi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E1C-E997-4143-9568-199AD4A5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ABC-A1FB-405A-B8FB-DF28C74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392-62B2-4570-9F8E-010FDB5E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C6B-60C5-4DA8-976F-FED24BD7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7DB-D449-4F7F-8CD3-3F680186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D23-D4B6-4D58-BECA-4A24E538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B59-C599-473E-831C-862DDC7E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CA1-6C1B-4C73-9CFC-1A4A1C21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1FB-5D48-4843-A774-FA9C4F31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C7D-1A61-4F17-AC08-21DF885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928-ED10-4DCB-9129-9D9BFCA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246-008D-4A65-9E17-6751429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0904-64DC-4C52-8E82-36A734F6D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adikal.ru/F/i056.radikal.ru/1101/bb/8ba4210857c8.jpg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radikal.ru/F/i056.radikal.ru/1101/bb/8ba4210857c8.jpg.html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adikal.ru/F/i056.radikal.ru/1101/bb/8ba4210857c8.jpg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adikal.ru/F/i056.radikal.ru/1101/bb/8ba4210857c8.jpg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go.mail.ru/search_images?q=%EF%EE%E7%E4%F0%E0%E2%EB%E5%ED%E8%FF+%EA+17%EB%E5%F2+%E4%E5%ED%FC+%F0%EE%E6%E4%E5%ED%E8%FF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ser posted image">
            <a:hlinkClick r:id="rId1"/>
          </p:cNvPr>
          <p:cNvPicPr/>
          <p:nvPr/>
        </p:nvPicPr>
        <p:blipFill>
          <a:blip r:embed="rId2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219640" y="476280"/>
            <a:ext cx="3314880" cy="1695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4859280" y="4005360"/>
            <a:ext cx="2381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укописные данные 2" descr=""/>
          <p:cNvPicPr/>
          <p:nvPr/>
        </p:nvPicPr>
        <p:blipFill>
          <a:blip r:embed="rId1"/>
          <a:stretch/>
        </p:blipFill>
        <p:spPr>
          <a:xfrm>
            <a:off x="6734160" y="1050840"/>
            <a:ext cx="919080" cy="435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п\Pictures\5.PNG"/>
          <p:cNvPicPr/>
          <p:nvPr/>
        </p:nvPicPr>
        <p:blipFill>
          <a:blip r:embed="rId2"/>
          <a:stretch/>
        </p:blipFill>
        <p:spPr>
          <a:xfrm>
            <a:off x="5724360" y="981000"/>
            <a:ext cx="1898640" cy="1257480"/>
          </a:xfrm>
          <a:prstGeom prst="rect">
            <a:avLst/>
          </a:prstGeom>
          <a:ln w="0">
            <a:noFill/>
          </a:ln>
        </p:spPr>
      </p:pic>
      <p:pic>
        <p:nvPicPr>
          <p:cNvPr id="77" name="Рукописные данные 1" descr=""/>
          <p:cNvPicPr/>
          <p:nvPr/>
        </p:nvPicPr>
        <p:blipFill>
          <a:blip r:embed="rId3"/>
          <a:stretch/>
        </p:blipFill>
        <p:spPr>
          <a:xfrm>
            <a:off x="5603760" y="952560"/>
            <a:ext cx="2140200" cy="150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user posted image"/>
          <p:cNvPicPr/>
          <p:nvPr/>
        </p:nvPicPr>
        <p:blipFill>
          <a:blip r:embed="rId4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Айг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ла, добра, нежн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ерсидская княжн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Айка – маков цве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ше нашей Айки нет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 фантазии больш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авидует люб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энергии полн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 жизнь открыто влюблен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kukli-211"/>
          <p:cNvPicPr/>
          <p:nvPr/>
        </p:nvPicPr>
        <p:blipFill>
          <a:blip r:embed="rId1"/>
          <a:stretch/>
        </p:blipFill>
        <p:spPr>
          <a:xfrm>
            <a:off x="6180120" y="3429000"/>
            <a:ext cx="2963880" cy="3198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ser posted image">
            <a:hlinkClick r:id="rId2"/>
          </p:cNvPr>
          <p:cNvPicPr/>
          <p:nvPr/>
        </p:nvPicPr>
        <p:blipFill>
          <a:blip r:embed="rId3"/>
          <a:srcRect l="0" t="0" r="0" b="5993"/>
          <a:stretch/>
        </p:blipFill>
        <p:spPr>
          <a:xfrm>
            <a:off x="0" y="9360"/>
            <a:ext cx="8893080" cy="6732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2193840" y="2276640"/>
            <a:ext cx="446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есела, добра, нежна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к персидская княжна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о Айка – маков цвет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аше нашей Айки нет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е фантазии большой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завидует любой.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на энергии полна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 в жизнь открыто влюблена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kukli-211"/>
          <p:cNvPicPr/>
          <p:nvPr/>
        </p:nvPicPr>
        <p:blipFill>
          <a:blip r:embed="rId4"/>
          <a:stretch/>
        </p:blipFill>
        <p:spPr>
          <a:xfrm>
            <a:off x="5867280" y="3292560"/>
            <a:ext cx="29638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user posted image">
            <a:hlinkClick r:id="rId1"/>
          </p:cNvPr>
          <p:cNvPicPr/>
          <p:nvPr/>
        </p:nvPicPr>
        <p:blipFill>
          <a:blip r:embed="rId2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3702960" y="112356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сть твоя дорога будет ясной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ы не знай ни горести, ни бед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глянись, ведь жизнь прекрасн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тебе исполнилось 17 лет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к солнца луч весной сия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ак пусть сияет жизнь твоя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усть сердце горя не узнает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бе желаю счастья я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удь счастлива всег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не грусти ты никогд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сли слезы в глазах — улыбайся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ы улыбкой своей покори всех парней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верна одному лишь останься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user posted image">
            <a:hlinkClick r:id="rId1"/>
          </p:cNvPr>
          <p:cNvPicPr/>
          <p:nvPr/>
        </p:nvPicPr>
        <p:blipFill>
          <a:blip r:embed="rId2"/>
          <a:srcRect l="0" t="0" r="0" b="5993"/>
          <a:stretch/>
        </p:blipFill>
        <p:spPr>
          <a:xfrm>
            <a:off x="0" y="0"/>
            <a:ext cx="8964720" cy="675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1916280"/>
            <a:ext cx="3803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user posted image"/>
          <p:cNvPicPr/>
          <p:nvPr/>
        </p:nvPicPr>
        <p:blipFill>
          <a:blip r:embed="rId1"/>
          <a:srcRect l="0" t="0" r="0" b="5993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1916280" y="-105840"/>
            <a:ext cx="693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сли 17 тебе только лет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се по плечу - невозможного нет!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бе мы желаем удачи без мер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дости, счастья, надежды и вер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усть тебя любят все безгранично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живи свою жизнь на "отлично"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user posted image"/>
          <p:cNvPicPr/>
          <p:nvPr/>
        </p:nvPicPr>
        <p:blipFill>
          <a:blip r:embed="rId1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042920" y="692280"/>
            <a:ext cx="61214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5f0fc97c490ef1a038915e6ff529ac0_1876787305_800px"/>
          <p:cNvPicPr/>
          <p:nvPr/>
        </p:nvPicPr>
        <p:blipFill>
          <a:blip r:embed="rId1"/>
          <a:stretch/>
        </p:blipFill>
        <p:spPr>
          <a:xfrm>
            <a:off x="360360" y="341280"/>
            <a:ext cx="842328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user posted image"/>
          <p:cNvPicPr/>
          <p:nvPr/>
        </p:nvPicPr>
        <p:blipFill>
          <a:blip r:embed="rId1"/>
          <a:srcRect l="0" t="0" r="0" b="5993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3" descr="Рисунок9.png"/>
          <p:cNvPicPr/>
          <p:nvPr/>
        </p:nvPicPr>
        <p:blipFill>
          <a:blip r:embed="rId1"/>
          <a:stretch/>
        </p:blipFill>
        <p:spPr>
          <a:xfrm>
            <a:off x="4143240" y="428760"/>
            <a:ext cx="4510080" cy="151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3" name="Рисунок 25" descr="Рисунок5.png"/>
          <p:cNvPicPr/>
          <p:nvPr/>
        </p:nvPicPr>
        <p:blipFill>
          <a:blip r:embed="rId2"/>
          <a:stretch/>
        </p:blipFill>
        <p:spPr>
          <a:xfrm>
            <a:off x="539640" y="1052640"/>
            <a:ext cx="3973680" cy="5118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5" descr="Рисунок7.png"/>
          <p:cNvPicPr/>
          <p:nvPr/>
        </p:nvPicPr>
        <p:blipFill>
          <a:blip r:embed="rId3"/>
          <a:stretch/>
        </p:blipFill>
        <p:spPr>
          <a:xfrm rot="428400">
            <a:off x="5532480" y="1479240"/>
            <a:ext cx="377820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8:07:18Z</dcterms:created>
  <dc:creator>Admin</dc:creator>
  <dc:description/>
  <dc:language>en-US</dc:language>
  <cp:lastModifiedBy>21</cp:lastModifiedBy>
  <dcterms:modified xsi:type="dcterms:W3CDTF">2013-01-09T12:22:10Z</dcterms:modified>
  <cp:revision>11</cp:revision>
  <dc:subject/>
  <dc:title>Слайд 1</dc:title>
</cp:coreProperties>
</file>