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B1C2-FB7F-4902-A412-16E42E648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2158-E54B-452B-9F31-58FF2D7B594C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5E6-96F0-4C75-B7DB-90485952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F97-700E-4A4D-87A0-9BC96066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14F-45AA-461A-B1E1-35E346B9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B04-2BE4-49B0-B7D3-D93337C9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742A-52AA-4660-A14E-3F2EF578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DA56-C048-4E1C-B5A3-EA4F55BE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06A3-3F9A-4551-8703-C5CF9E59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E72A-0DED-49EB-BB89-FE48E739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250B-70A8-4332-83F9-BD30C6A9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F367-7076-472E-8F4C-5CE96EBD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620-9F79-4DA7-BC29-F494590B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3FA-C834-4A91-9994-29D2C542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37E8-B111-406D-BE15-0327D14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A1DE-BA59-43D9-9E5E-05130EF0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4EDC-01C0-44C9-A20F-838C9B83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C580-7EB4-40EB-9F35-0E6F0879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3598-7C39-4AB4-BC97-C1F9BEE9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234-1533-4CAA-A45F-8C17A878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889-DEED-422E-85E5-1939FEA9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0F4-7EC0-437A-BF1D-B0712BAB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72D-086E-4590-AEAB-3916066A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F18-42CC-4143-9E64-1AE73161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77D-94EC-472B-BEB5-D1CFBB4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92F-70F9-46C0-8A0A-18F0A9CE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3A8F-E1A2-4AB3-9071-21C4E28E6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6" name="Picture 25" descr="flagukleft"/>
          <p:cNvPicPr/>
          <p:nvPr/>
        </p:nvPicPr>
        <p:blipFill>
          <a:blip r:embed="rId2"/>
          <a:srcRect l="4850" t="1076" r="50740" b="2148"/>
          <a:stretch/>
        </p:blipFill>
        <p:spPr>
          <a:xfrm>
            <a:off x="0" y="0"/>
            <a:ext cx="47991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3" descr="flaguk3"/>
          <p:cNvPicPr/>
          <p:nvPr/>
        </p:nvPicPr>
        <p:blipFill>
          <a:blip r:embed="rId2"/>
          <a:srcRect l="5952" t="45" r="8551" b="21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8329-E3CE-4768-8F7A-7C4874906459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0" y="1914480"/>
            <a:ext cx="94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одежный сленг в английском языке 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63"/>
          <p:cNvSpPr/>
          <p:nvPr/>
        </p:nvSpPr>
        <p:spPr>
          <a:xfrm>
            <a:off x="2629080" y="24444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Ш № 13 г.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влодара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Rectangle 66"/>
          <p:cNvSpPr/>
          <p:nvPr/>
        </p:nvSpPr>
        <p:spPr>
          <a:xfrm>
            <a:off x="460800" y="4473720"/>
            <a:ext cx="50360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еница 8 «А» класса Ермагамбет Фэридэ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Руководитель: учитель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глийского языка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ейсекеева И. А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Rectangle 67"/>
          <p:cNvSpPr/>
          <p:nvPr/>
        </p:nvSpPr>
        <p:spPr>
          <a:xfrm>
            <a:off x="3673800" y="640080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Arial"/>
              </a:rPr>
              <a:t>2012 г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6000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63520" y="438480"/>
            <a:ext cx="88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3939"/>
                </a:solidFill>
                <a:latin typeface="Comic Sans MS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393939"/>
                </a:solidFill>
                <a:latin typeface="Comic Sans MS"/>
                <a:ea typeface="Times New Roman"/>
              </a:rPr>
              <a:t>Список наиболее употребляемых слов в речи школьников СОШ № 13 г. Павлодара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95360" y="1174680"/>
          <a:ext cx="7261200" cy="5537160"/>
        </p:xfrm>
        <a:graphic>
          <a:graphicData uri="http://schemas.openxmlformats.org/drawingml/2006/table">
            <a:tbl>
              <a:tblPr/>
              <a:tblGrid>
                <a:gridCol w="2484360"/>
                <a:gridCol w="2482920"/>
                <a:gridCol w="2293920"/>
              </a:tblGrid>
              <a:tr h="28260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лово в русском язык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ексическое значени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Английское слов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ойфрен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руг, парен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boyfriend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’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е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се в порядк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OK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ат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ечерин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part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герл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евочка, девуш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gir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анч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Обе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lunch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уикен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ыходны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weekend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ха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риве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hi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ул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руто, прикольн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coo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ау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упер, блистательн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wow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а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о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by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Ай</a:t>
                      </a: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’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л би бэк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Я вернус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I’ll be back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Мэйк ап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макияж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Make up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оппинг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оход по магазинам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opping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ё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Черт!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it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орэв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навсегд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orever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ейс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иц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ace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респек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Уважение, уважат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Respect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рейз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умашедши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Craz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орр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Извини, прост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orr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ат ап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Заткнись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ut up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у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лин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oot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80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ул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урак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oo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advTm="85000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30320" y="45684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939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393939"/>
                </a:solidFill>
                <a:latin typeface="Comic Sans MS"/>
              </a:rPr>
              <a:t>Результаты анкетирования     учащихся СОШ № 13 г. Павлодара</a:t>
            </a: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21920" y="1599840"/>
            <a:ext cx="7364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Как часто Вы употребляете англоязычный сленг в своей речи?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1" name="Диаграмма 3" descr=""/>
          <p:cNvPicPr/>
          <p:nvPr/>
        </p:nvPicPr>
        <p:blipFill>
          <a:blip r:embed="rId1"/>
          <a:stretch/>
        </p:blipFill>
        <p:spPr>
          <a:xfrm>
            <a:off x="1584360" y="3097080"/>
            <a:ext cx="6827760" cy="3432240"/>
          </a:xfrm>
          <a:prstGeom prst="rect">
            <a:avLst/>
          </a:prstGeom>
          <a:ln w="0">
            <a:noFill/>
          </a:ln>
        </p:spPr>
      </p:pic>
    </p:spTree>
  </p:cSld>
  <p:transition advTm="40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68080" y="1201680"/>
            <a:ext cx="721836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Где Вы наиболее часто употребляете этот сленг?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3" name="Диаграмма 3" descr=""/>
          <p:cNvPicPr/>
          <p:nvPr/>
        </p:nvPicPr>
        <p:blipFill>
          <a:blip r:embed="rId1"/>
          <a:stretch/>
        </p:blipFill>
        <p:spPr>
          <a:xfrm>
            <a:off x="858960" y="2365200"/>
            <a:ext cx="8029440" cy="421164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58640" y="325440"/>
            <a:ext cx="73278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Знаете ли Вы значения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оязычного сленга,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которые Вы употребляете в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воей речи?                     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Диаграмма 3" descr=""/>
          <p:cNvPicPr/>
          <p:nvPr/>
        </p:nvPicPr>
        <p:blipFill>
          <a:blip r:embed="rId1"/>
          <a:stretch/>
        </p:blipFill>
        <p:spPr>
          <a:xfrm>
            <a:off x="1011240" y="2766960"/>
            <a:ext cx="7840800" cy="3664080"/>
          </a:xfrm>
          <a:prstGeom prst="rect">
            <a:avLst/>
          </a:prstGeom>
          <a:ln w="0">
            <a:noFill/>
          </a:ln>
        </p:spPr>
      </p:pic>
    </p:spTree>
  </p:cSld>
  <p:transition advTm="11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176480" y="909720"/>
            <a:ext cx="77184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Почему Вы употребляете сленг в своей речи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7" name="Диаграмма 3" descr=""/>
          <p:cNvPicPr/>
          <p:nvPr/>
        </p:nvPicPr>
        <p:blipFill>
          <a:blip r:embed="rId1"/>
          <a:stretch/>
        </p:blipFill>
        <p:spPr>
          <a:xfrm>
            <a:off x="1122480" y="2548080"/>
            <a:ext cx="7399080" cy="415116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56880" y="288720"/>
            <a:ext cx="81867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Где Вы впервые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столкнулись с этими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словами?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9" name="Диаграмма 3" descr=""/>
          <p:cNvPicPr/>
          <p:nvPr/>
        </p:nvPicPr>
        <p:blipFill>
          <a:blip r:embed="rId1"/>
          <a:stretch/>
        </p:blipFill>
        <p:spPr>
          <a:xfrm>
            <a:off x="1603440" y="2328840"/>
            <a:ext cx="7321320" cy="391968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2480" y="361800"/>
            <a:ext cx="747396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лышали ли Вы в речи своих     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верстников молодежный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оязычный сленг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1" name="Диаграмма 3" descr=""/>
          <p:cNvPicPr/>
          <p:nvPr/>
        </p:nvPicPr>
        <p:blipFill>
          <a:blip r:embed="rId1"/>
          <a:stretch/>
        </p:blipFill>
        <p:spPr>
          <a:xfrm>
            <a:off x="1536840" y="2255760"/>
            <a:ext cx="7156440" cy="428472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76480" y="252000"/>
            <a:ext cx="7510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Укажите наиболее часто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употребляемые слова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ийского сленга в вашей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речи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3" name="Диаграмма 3" descr=""/>
          <p:cNvPicPr/>
          <p:nvPr/>
        </p:nvPicPr>
        <p:blipFill>
          <a:blip r:embed="rId1"/>
          <a:stretch/>
        </p:blipFill>
        <p:spPr>
          <a:xfrm>
            <a:off x="2193840" y="2584440"/>
            <a:ext cx="6181920" cy="4280040"/>
          </a:xfrm>
          <a:prstGeom prst="rect">
            <a:avLst/>
          </a:prstGeom>
          <a:ln w="0">
            <a:noFill/>
          </a:ln>
        </p:spPr>
      </p:pic>
    </p:spTree>
  </p:cSld>
  <p:transition advTm="47000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440000" y="457920"/>
            <a:ext cx="750096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  <a:ea typeface="Times New Roman"/>
              </a:rPr>
              <a:t>    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Проведенное исследование показало, что сленг является экспрессивной и эмоционально - окрашенной лексикой, что он характеризуется фамильярной окраской и делится на две группы: общеупотребительный и общеизвестный сленг, а также что жаргон молодежи имеет большое разнообразие оттенков и что многие слова непонятны для основной массы населения.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Что касается условий функционирования, то нами было выявлено, что школьники употребляют сленг в повседневной жизни для обозначения разных специальностей, для названия учебных предметов, относящихся к студенческой жизни, для обозначения различных зданий и аудиторий. 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Сленг играет очень важную роль в жизни молодежи, ее жизнь сегодня уже немыслима без сленга, который он не только помогает молодым людям общаться между собой, но и облегчает процесс усвоения новой иностранной лексики, расширяя словарный запас.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91000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:\Users\Ильмира\Desktop\картинки англ. яз\time-to-say-good-bye.jpg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12480" y="982440"/>
            <a:ext cx="7473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c4c4c"/>
                </a:solidFill>
                <a:uFillTx/>
                <a:latin typeface="Comic Sans MS"/>
              </a:rPr>
              <a:t>Молодёжный сленг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– одно из составляющих процесса развития языка, его пополнения, его многообразия. Ведь язык не может развиваться сам по себе, обладая мистической и мифической субъектностью. Его развивают. Он вбирает в себя другие языки за счет коммуникации в наш более технический век. И, безусловно, язык формируют поэты и писатели, мастера слова. Молодёжный сленг должны знать все, кто хочет более активно, на хорошем уровне взаимодействовать с окружающим нас миром, а значит, хорошо владеть основным международным языком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0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58640" y="799920"/>
            <a:ext cx="7327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Произвести комплексное описание молодёжного сленга как одной из подсистем современного русского и английского языка, выявить его дифференцирующие признаки, описать особенности употребления сленгизмов, установить значение сленговых единиц и выражений,  изучить , на сколько широко используется англоязычный </a:t>
            </a:r>
            <a:r>
              <a:rPr b="1" i="1" lang="ru-RU" sz="1800" spc="-1" strike="noStrike">
                <a:solidFill>
                  <a:srgbClr val="4c4c4c"/>
                </a:solidFill>
                <a:latin typeface="Comic Sans MS"/>
              </a:rPr>
              <a:t>сленг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 речи школьников</a:t>
            </a:r>
            <a:r>
              <a:rPr b="1" i="1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и выявить наиболее часто используемый сленг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ыше обозначенная цель была реализована через следующие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Задачи: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определить объём и содержание понятия "сленг";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ыявить место молодёжного сленга в системе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овременного русского и английского языков;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рассмотреть различные виды сленга, привести примеры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употребления сленгизмов и предоставить адекватный перевод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35000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Объект исследования</a:t>
            </a:r>
            <a:r>
              <a:rPr b="1" lang="ru-RU" sz="4400" spc="-1" strike="noStrike">
                <a:solidFill>
                  <a:srgbClr val="39393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2480" y="982440"/>
            <a:ext cx="74739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олодежный сленг как составная часть более широкого образования в современном английском языке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Предмет исследования: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ловообразовательный, лексико – фразеологический и стилистический уровни молодежного сленга, а также словосочетания, фразеологизмы, употребляющиеся для экспрессивного обозначение предметов, понятий, признаков действий и состояний, связанных с учебной  деятельностью, общекультурными интересами и бытом современной молодежи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9000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Гипотеза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76120" y="1599840"/>
            <a:ext cx="7667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              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Если изучить сленгизмы, пришедшие из английского                                                                                                               языка в русский язык, тогда можно выявить способы образования сленгизмов, а также пути пополнения словарного запаса школьника.   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4c4c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Методы исследования: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анкетирование;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наблюдение;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сравнительный анализ;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обобщение.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c4c4c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21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:\Users\Ильмира\Desktop\картинки англ. яз\English_Songs_For_Kids.jpg"/>
          <p:cNvPicPr/>
          <p:nvPr/>
        </p:nvPicPr>
        <p:blipFill>
          <a:blip r:embed="rId1"/>
          <a:stretch/>
        </p:blipFill>
        <p:spPr>
          <a:xfrm>
            <a:off x="5907240" y="3614760"/>
            <a:ext cx="3260520" cy="300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Молодёжная культура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49200" y="1417320"/>
            <a:ext cx="7437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c4c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4c4c4c"/>
                </a:solidFill>
                <a:latin typeface="Comic Sans MS"/>
              </a:rPr>
              <a:t>это свой, ни на что не похожий мир. Он отличается от взрослого своей экспрессивной, порой даже резкой и грубой, манерой выражать мысли, который могут употреблять только молодые люди, смелые и решительные, создавшие свой неповторимый мир. Как следствие этого - возникновение молодёжного сленга.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27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85920" y="507600"/>
            <a:ext cx="7400880" cy="63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c4c4c"/>
                </a:solidFill>
                <a:uFillTx/>
                <a:latin typeface="Comic Sans MS"/>
              </a:rPr>
              <a:t>Сленг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- это не литературная лексика, т.е. это слова и сочетания, находящиеся за пределами литературного английского (Standard English), он возник и употребляется прежде всего в устной речи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Это эмоционально окрашенная лексика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Фамильярная эмоциональная окраска многих слов и выражений сленга отличается большим разнообразием оттенков (шутливая, ироническая, насмешливая, пренебрежительная, презрительная, грубая и даже вульгарная)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ногие слова и выражения сленга непонятны или малопонятны для основной массы населения (особенно в период их возникновения и перехода в более широкую сферу употребления), потому что они, прежде всего, связаны со своеобразной формой выражения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ленг - это живой, подвижный язык, который идет в ногу со временем и реагирует на любые перемены в жизни страны и общества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9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Факторы, влияющие на развитие сленга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85920" y="1599840"/>
            <a:ext cx="7400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Развитие компьютерных технологий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Современная музыкальная культура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Английский язык, немецкий и французский язык   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компьютерные игры, видео, мультфильмы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хобби и увлечения молодых людей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3" name="Picture 2" descr="C:\Users\Ильмира\Desktop\картинки англ. яз\animated_pencil_3.gif"/>
          <p:cNvPicPr/>
          <p:nvPr/>
        </p:nvPicPr>
        <p:blipFill>
          <a:blip r:embed="rId1"/>
          <a:stretch/>
        </p:blipFill>
        <p:spPr>
          <a:xfrm>
            <a:off x="7153200" y="4925880"/>
            <a:ext cx="1533600" cy="1533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advTm="18000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Ильмира\Desktop\картинки англ. яз\85716532_KopiyalogoSpeakEnglish1283x300.jpg"/>
          <p:cNvPicPr/>
          <p:nvPr/>
        </p:nvPicPr>
        <p:blipFill>
          <a:blip r:embed="rId1"/>
          <a:stretch/>
        </p:blipFill>
        <p:spPr>
          <a:xfrm>
            <a:off x="5850000" y="4560840"/>
            <a:ext cx="1968480" cy="208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Роль молодежного сленга в английском языке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32080" y="1599840"/>
            <a:ext cx="7254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олодежный сленг в английском языке играет достаточно важную роль, которая определяет развитие всего языка в целом, его своеобразие  и отличие от других языков мира. Кроме этого молодежный сленг в английском языке позволяет общаться совершенно на новом уровне, не используя классических конструкций предложений и грамматических основ. А это говорит о том, что молодежь может общаться более раскованно и понимать друг друга  с полуслова. Надо также отметить, что сленг постоянно совершенствуется  и развивается, появляются новые выражения, которые быстро становятся популярными и активно используются  в речи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7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Ильмира</cp:lastModifiedBy>
  <dcterms:modified xsi:type="dcterms:W3CDTF">2012-10-31T10:13:36Z</dcterms:modified>
  <cp:revision>164</cp:revision>
  <dc:subject/>
  <dc:title>British Flag powerpoint template</dc:title>
</cp:coreProperties>
</file>