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Times New Roman"/>
              </a:rPr>
              <a:t>Площадь  круга  </a:t>
            </a:r>
            <a:br>
              <a:rPr sz="4400"/>
            </a:br>
            <a:r>
              <a:rPr b="1" i="1" lang="ru-RU" sz="4400" spc="-1" strike="noStrike">
                <a:solidFill>
                  <a:srgbClr val="003300"/>
                </a:solidFill>
                <a:latin typeface="Times New Roman"/>
              </a:rPr>
              <a:t>и  кругового  сектора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5" descr="ANTN069"/>
          <p:cNvPicPr/>
          <p:nvPr/>
        </p:nvPicPr>
        <p:blipFill>
          <a:blip r:embed="rId1"/>
          <a:stretch/>
        </p:blipFill>
        <p:spPr>
          <a:xfrm>
            <a:off x="684360" y="2009880"/>
            <a:ext cx="41036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Arial Narrow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2771640" y="4219560"/>
            <a:ext cx="1886040" cy="26384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826920" y="1413000"/>
            <a:ext cx="30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метр осн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арь-колокола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ящего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ом Кремл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 6,6 м. Найди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 осн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око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5435640" y="3860640"/>
            <a:ext cx="27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окруж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овой арены равна  41 м. Найдите диамет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лощадь аре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0" descr="j0234310"/>
          <p:cNvPicPr/>
          <p:nvPr/>
        </p:nvPicPr>
        <p:blipFill>
          <a:blip r:embed="rId2"/>
          <a:stretch/>
        </p:blipFill>
        <p:spPr>
          <a:xfrm>
            <a:off x="5651640" y="1125360"/>
            <a:ext cx="26272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0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 Narrow"/>
              </a:rPr>
              <a:t>Задача № 3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Picture 4" descr="1"/>
          <p:cNvPicPr/>
          <p:nvPr/>
        </p:nvPicPr>
        <p:blipFill>
          <a:blip r:embed="rId1"/>
          <a:stretch/>
        </p:blipFill>
        <p:spPr>
          <a:xfrm>
            <a:off x="611280" y="1844640"/>
            <a:ext cx="3529080" cy="3459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494080" y="3357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7"/>
          <p:cNvSpPr/>
          <p:nvPr/>
        </p:nvSpPr>
        <p:spPr>
          <a:xfrm rot="4494000">
            <a:off x="2258280" y="3296160"/>
            <a:ext cx="1046160" cy="914400"/>
          </a:xfrm>
          <a:custGeom>
            <a:avLst/>
            <a:gdLst/>
            <a:ahLst/>
            <a:rect l="l" t="t" r="r" b="b"/>
            <a:pathLst>
              <a:path fill="none" w="24742" h="21600">
                <a:moveTo>
                  <a:pt x="-1" y="264"/>
                </a:moveTo>
                <a:cubicBezTo>
                  <a:pt x="1115" y="88"/>
                  <a:pt x="2242" y="-1"/>
                  <a:pt x="3372" y="0"/>
                </a:cubicBezTo>
                <a:cubicBezTo>
                  <a:pt x="14085" y="0"/>
                  <a:pt x="23180" y="7853"/>
                  <a:pt x="24741" y="18453"/>
                </a:cubicBezTo>
              </a:path>
              <a:path stroke="0" w="24742" h="21600">
                <a:moveTo>
                  <a:pt x="-1" y="264"/>
                </a:moveTo>
                <a:cubicBezTo>
                  <a:pt x="1115" y="88"/>
                  <a:pt x="2242" y="-1"/>
                  <a:pt x="3372" y="0"/>
                </a:cubicBezTo>
                <a:cubicBezTo>
                  <a:pt x="14085" y="0"/>
                  <a:pt x="23180" y="7853"/>
                  <a:pt x="24741" y="18453"/>
                </a:cubicBezTo>
                <a:lnTo>
                  <a:pt x="3372" y="21600"/>
                </a:lnTo>
                <a:lnTo>
                  <a:pt x="-1" y="264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08680" y="1628640"/>
            <a:ext cx="58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  круга,  радиус  которого  10 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езан  сектор  с  дугой  в   6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площадь  оставшей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асти  кру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485440" y="270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926800" y="3933720"/>
            <a:ext cx="4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3440" y="21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198080" y="3429000"/>
            <a:ext cx="95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7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Arial Narrow"/>
              </a:rPr>
              <a:t>Домашнее  задание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5" name="Picture 4" descr="OWL"/>
          <p:cNvPicPr/>
          <p:nvPr/>
        </p:nvPicPr>
        <p:blipFill>
          <a:blip r:embed="rId1"/>
          <a:stretch/>
        </p:blipFill>
        <p:spPr>
          <a:xfrm>
            <a:off x="611280" y="1628640"/>
            <a:ext cx="3159000" cy="4876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4193280" y="2317680"/>
            <a:ext cx="341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п. 111;  1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114;  1120;  112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Цели  урока: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4" descr="ANTN070"/>
          <p:cNvPicPr/>
          <p:nvPr/>
        </p:nvPicPr>
        <p:blipFill>
          <a:blip r:embed="rId1"/>
          <a:stretch/>
        </p:blipFill>
        <p:spPr>
          <a:xfrm>
            <a:off x="468360" y="3645000"/>
            <a:ext cx="3273480" cy="2695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558880" y="1844640"/>
            <a:ext cx="60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Дать  представление  о  выво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формулы  площади  круга  и  на  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основе  получить  формулу  площа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кругового  секто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784320" y="3933720"/>
            <a:ext cx="502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Научиться  решать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задач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на  применение  форму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лощади  круга  и  круговог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секто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 Narrow"/>
              </a:rPr>
              <a:t>Проверка  выполнения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Arial Narrow"/>
              </a:rPr>
              <a:t>  домашнего  зад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1116000" y="2565360"/>
                <a:ext cx="1728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π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1116000" y="3213000"/>
                <a:ext cx="38876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⋅</m:t>
                    </m:r>
                    <m:r>
                      <m:t xml:space="preserve">π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9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 Box 4"/>
          <p:cNvSpPr/>
          <p:nvPr/>
        </p:nvSpPr>
        <p:spPr>
          <a:xfrm>
            <a:off x="664920" y="195912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№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11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11280" y="2565360"/>
            <a:ext cx="690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то  означает  один  оборот  колеса  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матической  точки  зрен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14520" y="3573360"/>
            <a:ext cx="700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) Чему  равно  расстояние,  пройденно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втомобилем,  если  колесо  автомоби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делало  один  оборо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1042920" y="3716280"/>
                <a:ext cx="460872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(</m:t>
                    </m:r>
                    <m:r>
                      <m:t xml:space="preserve">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13"/>
          <p:cNvSpPr/>
          <p:nvPr/>
        </p:nvSpPr>
        <p:spPr>
          <a:xfrm>
            <a:off x="4790880" y="472428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Ответ: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0,63 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 Narrow"/>
              </a:rPr>
              <a:t>Задача № 1111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395280" y="1628640"/>
            <a:ext cx="2736720" cy="2543400"/>
            <a:chOff x="395280" y="1628640"/>
            <a:chExt cx="2736720" cy="2543400"/>
          </a:xfrm>
        </p:grpSpPr>
        <p:sp>
          <p:nvSpPr>
            <p:cNvPr id="73" name="AutoShape 6"/>
            <p:cNvSpPr/>
            <p:nvPr/>
          </p:nvSpPr>
          <p:spPr>
            <a:xfrm>
              <a:off x="395280" y="1628640"/>
              <a:ext cx="2736720" cy="25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668520" y="1777680"/>
              <a:ext cx="2326320" cy="22449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1811520" y="1833480"/>
              <a:ext cx="460440" cy="1071360"/>
            </a:xfrm>
            <a:custGeom>
              <a:avLst/>
              <a:gdLst/>
              <a:ahLst/>
              <a:rect l="l" t="t" r="r" b="b"/>
              <a:pathLst>
                <a:path w="606" h="1289">
                  <a:moveTo>
                    <a:pt x="0" y="1289"/>
                  </a:moveTo>
                  <a:lnTo>
                    <a:pt x="60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823040" y="2917800"/>
              <a:ext cx="1035360" cy="505440"/>
            </a:xfrm>
            <a:custGeom>
              <a:avLst/>
              <a:gdLst/>
              <a:ahLst/>
              <a:rect l="l" t="t" r="r" b="b"/>
              <a:pathLst>
                <a:path w="1362" h="609">
                  <a:moveTo>
                    <a:pt x="0" y="0"/>
                  </a:moveTo>
                  <a:lnTo>
                    <a:pt x="1362" y="60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10"/>
          <p:cNvSpPr/>
          <p:nvPr/>
        </p:nvSpPr>
        <p:spPr>
          <a:xfrm>
            <a:off x="3349080" y="1743120"/>
            <a:ext cx="536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Что  нужно  знать  д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ычисления  длины  дуг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296160" y="2997360"/>
            <a:ext cx="55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66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Каким  образом  можн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ычислить  радиус  камн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762360" y="419112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Ответ: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≈ 59,189 (см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844360" y="20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1844640" y="249228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17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 Narrow"/>
              </a:rPr>
              <a:t>Самостоятельная  работа: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025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1 вариант.                                   2 вариант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844640"/>
          <a:ext cx="8713800" cy="4664160"/>
        </p:xfrm>
        <a:graphic>
          <a:graphicData uri="http://schemas.openxmlformats.org/drawingml/2006/table">
            <a:tbl>
              <a:tblPr/>
              <a:tblGrid>
                <a:gridCol w="4319640"/>
                <a:gridCol w="4394160"/>
              </a:tblGrid>
              <a:tr h="22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ите  длины  дуг  на  которые  разбивают  окружность два радиуса.  Угол  между  радиусами  равен  120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радиус  окружности 6 д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 Найдите  длины  дуг  на  которые  разбивают  окружность  два  радиуса.  Угол  между  радиусами  равен  36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 радиус  окружности  5 с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ите  длину  окружности  в  которую  вписан  квадрат  со  стороной  5 с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 окружности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ной около квадрата,  равна  12</a:t>
                      </a:r>
                      <a:r>
                        <a:rPr b="1" i="1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м.  Найдите  длину  окружности,  вписанной  в  этот  квадра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 Narrow"/>
              </a:rPr>
              <a:t>Площадь  круга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6920" y="1628280"/>
            <a:ext cx="74170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ая  геометрическая  фигур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зывается  кругом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Oval 4"/>
          <p:cNvSpPr/>
          <p:nvPr/>
        </p:nvSpPr>
        <p:spPr>
          <a:xfrm>
            <a:off x="755640" y="1557360"/>
            <a:ext cx="2232000" cy="2087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76720" y="1628640"/>
            <a:ext cx="5040360" cy="1152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Часть  плоскости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Ограниченная  окружн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8" descr="CRTN054"/>
          <p:cNvPicPr/>
          <p:nvPr/>
        </p:nvPicPr>
        <p:blipFill>
          <a:blip r:embed="rId1"/>
          <a:stretch/>
        </p:blipFill>
        <p:spPr>
          <a:xfrm>
            <a:off x="3708360" y="2997360"/>
            <a:ext cx="35290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 Narrow"/>
              </a:rPr>
              <a:t>Площадь  круга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4"/>
              <p:cNvSpPr txBox="1"/>
              <p:nvPr/>
            </p:nvSpPr>
            <p:spPr>
              <a:xfrm>
                <a:off x="3203640" y="4076640"/>
                <a:ext cx="2160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7"/>
              <p:cNvSpPr txBox="1"/>
              <p:nvPr/>
            </p:nvSpPr>
            <p:spPr>
              <a:xfrm>
                <a:off x="6300720" y="4292640"/>
                <a:ext cx="1944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30"/>
              <p:cNvSpPr txBox="1"/>
              <p:nvPr/>
            </p:nvSpPr>
            <p:spPr>
              <a:xfrm>
                <a:off x="900000" y="5013360"/>
                <a:ext cx="136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Oval 8"/>
          <p:cNvSpPr/>
          <p:nvPr/>
        </p:nvSpPr>
        <p:spPr>
          <a:xfrm>
            <a:off x="684360" y="1484280"/>
            <a:ext cx="2592360" cy="2500200"/>
          </a:xfrm>
          <a:prstGeom prst="ellipse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684360" y="1700280"/>
            <a:ext cx="2592360" cy="2089080"/>
          </a:xfrm>
          <a:prstGeom prst="hexagon">
            <a:avLst>
              <a:gd name="adj" fmla="val 31023"/>
              <a:gd name="vf" fmla="val 115470"/>
            </a:avLst>
          </a:prstGeom>
          <a:solidFill>
            <a:srgbClr val="ccecff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900000" y="1700280"/>
            <a:ext cx="2140200" cy="20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763920" y="3789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59200" y="26370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627280" y="371628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229200" y="1413000"/>
            <a:ext cx="5533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…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правильный  п – уголь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 площадью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271680" y="2060640"/>
            <a:ext cx="58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р. (О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)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ружность  с  площад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 описанная  около  много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3276720" y="2781360"/>
            <a:ext cx="5867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р. (О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 – окружность  с   площадью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 вписанная  в   многоугольн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910160" y="2421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3220200" y="3573360"/>
            <a:ext cx="379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)  Сравните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, 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3708360" y="3573360"/>
            <a:ext cx="3600360" cy="576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lt;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lt;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12720" y="436572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)  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2340000" y="4508640"/>
            <a:ext cx="792000" cy="21744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6"/>
          <p:cNvSpPr/>
          <p:nvPr/>
        </p:nvSpPr>
        <p:spPr>
          <a:xfrm>
            <a:off x="5435640" y="4508640"/>
            <a:ext cx="792000" cy="21744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9"/>
          <p:cNvSpPr/>
          <p:nvPr/>
        </p:nvSpPr>
        <p:spPr>
          <a:xfrm>
            <a:off x="8352000" y="4508640"/>
            <a:ext cx="612720" cy="217440"/>
          </a:xfrm>
          <a:custGeom>
            <a:avLst/>
            <a:gdLst>
              <a:gd name="textAreaLeft" fmla="*/ 95760 w 612720"/>
              <a:gd name="textAreaRight" fmla="*/ 536400 w 6127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2"/>
          <p:cNvSpPr/>
          <p:nvPr/>
        </p:nvSpPr>
        <p:spPr>
          <a:xfrm>
            <a:off x="2556000" y="5157720"/>
            <a:ext cx="792000" cy="21744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3"/>
              <p:cNvSpPr txBox="1"/>
              <p:nvPr/>
            </p:nvSpPr>
            <p:spPr>
              <a:xfrm>
                <a:off x="3419640" y="5013360"/>
                <a:ext cx="129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6"/>
              <p:cNvSpPr txBox="1"/>
              <p:nvPr/>
            </p:nvSpPr>
            <p:spPr>
              <a:xfrm>
                <a:off x="5940360" y="4724280"/>
                <a:ext cx="180036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AutoShape 37"/>
          <p:cNvSpPr/>
          <p:nvPr/>
        </p:nvSpPr>
        <p:spPr>
          <a:xfrm>
            <a:off x="5003640" y="5157720"/>
            <a:ext cx="792360" cy="21744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38"/>
          <p:cNvSpPr/>
          <p:nvPr/>
        </p:nvSpPr>
        <p:spPr>
          <a:xfrm>
            <a:off x="2003400" y="2728800"/>
            <a:ext cx="14400" cy="1059120"/>
          </a:xfrm>
          <a:custGeom>
            <a:avLst/>
            <a:gdLst/>
            <a:ahLst/>
            <a:rect l="l" t="t" r="r" b="b"/>
            <a:pathLst>
              <a:path w="9" h="667">
                <a:moveTo>
                  <a:pt x="9" y="66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1981440" y="3068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40"/>
          <p:cNvSpPr/>
          <p:nvPr/>
        </p:nvSpPr>
        <p:spPr>
          <a:xfrm>
            <a:off x="1333440" y="2728800"/>
            <a:ext cx="669960" cy="1060560"/>
          </a:xfrm>
          <a:custGeom>
            <a:avLst/>
            <a:gdLst/>
            <a:ahLst/>
            <a:rect l="l" t="t" r="r" b="b"/>
            <a:pathLst>
              <a:path w="422" h="668">
                <a:moveTo>
                  <a:pt x="422" y="0"/>
                </a:moveTo>
                <a:lnTo>
                  <a:pt x="0" y="6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1"/>
          <p:cNvSpPr/>
          <p:nvPr/>
        </p:nvSpPr>
        <p:spPr>
          <a:xfrm>
            <a:off x="1260720" y="29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2"/>
          <p:cNvSpPr/>
          <p:nvPr/>
        </p:nvSpPr>
        <p:spPr>
          <a:xfrm>
            <a:off x="619920" y="5734080"/>
            <a:ext cx="41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)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.к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,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2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3"/>
          <p:cNvSpPr/>
          <p:nvPr/>
        </p:nvSpPr>
        <p:spPr>
          <a:xfrm>
            <a:off x="4716360" y="5877000"/>
            <a:ext cx="792360" cy="21744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4"/>
              <p:cNvSpPr txBox="1"/>
              <p:nvPr/>
            </p:nvSpPr>
            <p:spPr>
              <a:xfrm>
                <a:off x="5580000" y="5445000"/>
                <a:ext cx="3313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46"/>
          <p:cNvSpPr/>
          <p:nvPr/>
        </p:nvSpPr>
        <p:spPr>
          <a:xfrm>
            <a:off x="6372360" y="692280"/>
            <a:ext cx="2160360" cy="72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3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 Narrow"/>
              </a:rPr>
              <a:t>Круговой  сектор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27640" y="1628280"/>
            <a:ext cx="4030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руговым  сектором  называется  часть  круга,  ограниченная  дугой  и  двумя  радиусами,  соединяющими  концы  дуги  с  центром  круга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4" name="Picture 11" descr="2"/>
          <p:cNvPicPr/>
          <p:nvPr/>
        </p:nvPicPr>
        <p:blipFill>
          <a:blip r:embed="rId1"/>
          <a:stretch/>
        </p:blipFill>
        <p:spPr>
          <a:xfrm>
            <a:off x="539640" y="17002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Freeform 12"/>
          <p:cNvSpPr/>
          <p:nvPr/>
        </p:nvSpPr>
        <p:spPr>
          <a:xfrm>
            <a:off x="2395440" y="2494080"/>
            <a:ext cx="881280" cy="1120680"/>
          </a:xfrm>
          <a:custGeom>
            <a:avLst/>
            <a:gdLst/>
            <a:ahLst/>
            <a:rect l="l" t="t" r="r" b="b"/>
            <a:pathLst>
              <a:path w="555" h="706">
                <a:moveTo>
                  <a:pt x="0" y="706"/>
                </a:moveTo>
                <a:lnTo>
                  <a:pt x="555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98180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320544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5"/>
          <p:cNvSpPr/>
          <p:nvPr/>
        </p:nvSpPr>
        <p:spPr>
          <a:xfrm>
            <a:off x="2409840" y="3614760"/>
            <a:ext cx="1154160" cy="750960"/>
          </a:xfrm>
          <a:custGeom>
            <a:avLst/>
            <a:gdLst/>
            <a:ahLst/>
            <a:rect l="l" t="t" r="r" b="b"/>
            <a:pathLst>
              <a:path w="727" h="473">
                <a:moveTo>
                  <a:pt x="0" y="0"/>
                </a:moveTo>
                <a:lnTo>
                  <a:pt x="727" y="473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3494160" y="429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988720" y="1628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Сектор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 flipH="1">
            <a:off x="3058920" y="2060640"/>
            <a:ext cx="1368360" cy="1297080"/>
          </a:xfrm>
          <a:prstGeom prst="line">
            <a:avLst/>
          </a:prstGeom>
          <a:ln w="31680">
            <a:solidFill>
              <a:srgbClr val="0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736200" y="53211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Сектор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 flipH="1" flipV="1">
            <a:off x="1618920" y="4005360"/>
            <a:ext cx="649080" cy="151128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781800" y="29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2987640" y="4869000"/>
            <a:ext cx="5472000" cy="647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уга  АВС – дуга  кругового  сектора 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68652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2987640" y="5734080"/>
            <a:ext cx="5472000" cy="57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уга  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– дуга  кругового  сектора 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 Narrow"/>
              </a:rPr>
              <a:t>Площадь  кругового  сектора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6" descr="3"/>
          <p:cNvPicPr/>
          <p:nvPr/>
        </p:nvPicPr>
        <p:blipFill>
          <a:blip r:embed="rId1"/>
          <a:stretch/>
        </p:blipFill>
        <p:spPr>
          <a:xfrm>
            <a:off x="468360" y="1484280"/>
            <a:ext cx="3189240" cy="3189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3832920" y="15764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)  Площадь  круг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284720" y="1557360"/>
            <a:ext cx="2520720" cy="576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140280" y="198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701520" y="2349360"/>
            <a:ext cx="48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ощадь  кругового  сектора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граниченного  дугой  в  1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4284720" y="2205000"/>
            <a:ext cx="331164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3688200" y="3500280"/>
            <a:ext cx="485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ощадь  кругового  сектор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граниченного  дугой  в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4284720" y="3500280"/>
            <a:ext cx="3311640" cy="1152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7"/>
              <p:cNvSpPr txBox="1"/>
              <p:nvPr/>
            </p:nvSpPr>
            <p:spPr>
              <a:xfrm>
                <a:off x="4356000" y="2151000"/>
                <a:ext cx="331164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0"/>
              <p:cNvSpPr txBox="1"/>
              <p:nvPr/>
            </p:nvSpPr>
            <p:spPr>
              <a:xfrm>
                <a:off x="4653000" y="3429000"/>
                <a:ext cx="25336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WordArt 40"/>
          <p:cNvSpPr txBox="1"/>
          <p:nvPr/>
        </p:nvSpPr>
        <p:spPr>
          <a:xfrm>
            <a:off x="1116000" y="4869000"/>
            <a:ext cx="6912000" cy="10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дачи  в  решении  задач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5:54:23Z</dcterms:created>
  <dc:creator>Марина</dc:creator>
  <dc:description/>
  <dc:language>en-US</dc:language>
  <cp:lastModifiedBy>Баймурунова </cp:lastModifiedBy>
  <dcterms:modified xsi:type="dcterms:W3CDTF">2013-01-31T05:10:49Z</dcterms:modified>
  <cp:revision>7</cp:revision>
  <dc:subject/>
  <dc:title>Площадь  круга   и  кругового  сектора.</dc:title>
</cp:coreProperties>
</file>