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364-6EE3-4CDA-AB6F-B67BA19A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468-BA88-4527-ACA7-EBB2FC98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079-24A7-46A7-8DE8-08C60516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0D6-AFE7-4552-BAF7-7C322793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7FD2-E189-44D2-9372-E5CFCBB4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BFF2-C2A4-4F4A-A458-888CBCE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C20A-83F4-4504-B58A-2058177E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D3AC-1D84-4908-B50B-F4D97653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DF58-E48C-45CB-97F9-A71A4ED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C7AB-6E49-462C-BE6E-82D048B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480-12BE-4843-AA46-018B807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15A-FC3A-4BB0-A814-A743C186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A694-C7AD-4DEC-ACEC-2335709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7EF1-8A05-43D1-AD5D-1D8033AA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0E28-3EDD-42F4-AA0F-6C40E4F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11E9-48EE-4055-8D3F-4B6F823C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148E-F5B5-42ED-A738-05615EF8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60E-2F3E-48F6-9803-89E696D8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A39-7113-40C5-AED5-161C34B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8C5-8FDA-421C-8C86-511A99EE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F2A-870E-476A-A60D-ECC4BE1D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3DC-6AC6-4135-B976-65CF26F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E4B-98E0-4B77-B74B-F752D54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B7E-5A85-4A8E-A0D0-3DC0AA2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A51-0318-4A0D-A5C1-E0213D95B9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471E-DD87-490A-B64E-9A6EB47D1C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14240"/>
            <a:ext cx="9601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УРОК-ЗАЧЕТ П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ЕМ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« ОСНОВ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ТРИГОНОМЕТРИИ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989880" y="5486400"/>
            <a:ext cx="12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 КАКИХ ЧЕТВЕРТЯХ СИНУС ИМЕЕТ ЗНАК «+» 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II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I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и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I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8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дите радианную меру угла, равного 45</a:t>
            </a:r>
            <a:r>
              <a:rPr b="1" lang="en-US" sz="4400" spc="-1" strike="noStrike">
                <a:solidFill>
                  <a:srgbClr val="703dff"/>
                </a:solidFill>
                <a:latin typeface="Sylfaen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40080"/>
            <a:ext cx="769608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 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9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АЯ ИЗ ЭТИХ ФУНКЦИЙ ЧЁТНА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10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БЕРИТЕ ПРАВИЛЬНУЮ ЗАВИСИМОСТЬ МЕЖДУ ТАНГЕНСОМ И КОТАНГЕНС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3430080"/>
            <a:ext cx="769608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·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q 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tq 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ри каком значении 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α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синус и косинус имеют одинаковое значени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3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6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=4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и </a:t>
            </a:r>
            <a:r>
              <a:rPr b="1" lang="el-GR" sz="40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=9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КАКАЯ ФУНКЦИЯ ИМЕЕТ ЗНАК «-» ВО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 III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четвертях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СИНУ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ОТАНГЕН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3.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НАЙТИ ГРАДУСНУЮ МЕРУ УГЛА, РАВНОГО 3</a:t>
            </a:r>
            <a:r>
              <a:rPr b="1" lang="el-GR" sz="4400" spc="-1" strike="noStrike">
                <a:solidFill>
                  <a:srgbClr val="703dff"/>
                </a:solidFill>
                <a:latin typeface="Comic Sans MS"/>
              </a:rPr>
              <a:t>Π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/4 радиан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125520"/>
            <a:ext cx="769608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150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13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06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2 ЧАСТЬ 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«ГЕОМЕТРИЯ»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найди лишнее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380880" y="0"/>
            <a:ext cx="8382240" cy="6377040"/>
          </a:xfrm>
          <a:custGeom>
            <a:avLst/>
            <a:gdLst>
              <a:gd name="textAreaLeft" fmla="*/ 413280 w 8382240"/>
              <a:gd name="textAreaRight" fmla="*/ 7968960 w 8382240"/>
              <a:gd name="textAreaTop" fmla="*/ 413280 h 6377040"/>
              <a:gd name="textAreaBottom" fmla="*/ 5963760 h 6377040"/>
            </a:gdLst>
            <a:ahLst/>
            <a:rect l="textAreaLeft" t="textAreaTop" r="textAreaRight" b="textAreaBottom"/>
            <a:pathLst>
              <a:path w="28392" h="21600">
                <a:moveTo>
                  <a:pt x="0" y="0"/>
                </a:moveTo>
                <a:lnTo>
                  <a:pt x="28392" y="0"/>
                </a:lnTo>
                <a:lnTo>
                  <a:pt x="28392" y="21600"/>
                </a:lnTo>
                <a:lnTo>
                  <a:pt x="0" y="21600"/>
                </a:lnTo>
                <a:close/>
              </a:path>
              <a:path fill="lightenLess" w="28392" h="21600">
                <a:moveTo>
                  <a:pt x="0" y="0"/>
                </a:moveTo>
                <a:lnTo>
                  <a:pt x="28392" y="0"/>
                </a:lnTo>
                <a:lnTo>
                  <a:pt x="26992" y="1400"/>
                </a:lnTo>
                <a:lnTo>
                  <a:pt x="1400" y="1400"/>
                </a:lnTo>
                <a:close/>
              </a:path>
              <a:path fill="darken" w="28392" h="21600">
                <a:moveTo>
                  <a:pt x="28392" y="0"/>
                </a:moveTo>
                <a:lnTo>
                  <a:pt x="28392" y="21600"/>
                </a:lnTo>
                <a:lnTo>
                  <a:pt x="26992" y="20200"/>
                </a:lnTo>
                <a:lnTo>
                  <a:pt x="26992" y="1400"/>
                </a:lnTo>
                <a:close/>
              </a:path>
              <a:path fill="darkenLess" w="28392" h="21600">
                <a:moveTo>
                  <a:pt x="28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92" y="20200"/>
                </a:lnTo>
                <a:close/>
              </a:path>
              <a:path fill="lighten" w="28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83120" y="3308400"/>
          <a:ext cx="977760" cy="24300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460600" y="4253040"/>
            <a:ext cx="6476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4272120"/>
            <a:ext cx="647640" cy="28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92720" y="4290120"/>
            <a:ext cx="685800" cy="257400"/>
          </a:xfrm>
          <a:custGeom>
            <a:avLst/>
            <a:gdLst>
              <a:gd name="textAreaLeft" fmla="*/ 150840 w 685800"/>
              <a:gd name="textAreaRight" fmla="*/ 534960 w 685800"/>
              <a:gd name="textAreaTop" fmla="*/ 56520 h 257400"/>
              <a:gd name="textAreaBottom" fmla="*/ 20088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595840" y="4262400"/>
            <a:ext cx="674640" cy="303120"/>
            <a:chOff x="5595840" y="4262400"/>
            <a:chExt cx="674640" cy="303120"/>
          </a:xfrm>
        </p:grpSpPr>
        <p:cxnSp>
          <p:nvCxnSpPr>
            <p:cNvPr id="198" name=""/>
            <p:cNvCxnSpPr/>
            <p:nvPr/>
          </p:nvCxnSpPr>
          <p:spPr>
            <a:xfrm>
              <a:off x="5614560" y="4290120"/>
              <a:ext cx="10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>
              <a:off x="5623560" y="4554720"/>
              <a:ext cx="5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910480" y="4423320"/>
              <a:ext cx="32328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910480" y="4270680"/>
              <a:ext cx="35964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595840" y="4262400"/>
              <a:ext cx="67464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764400" y="4262040"/>
            <a:ext cx="741240" cy="303120"/>
            <a:chOff x="6764400" y="4262040"/>
            <a:chExt cx="741240" cy="303120"/>
          </a:xfrm>
        </p:grpSpPr>
        <p:sp>
          <p:nvSpPr>
            <p:cNvPr id="204" name=""/>
            <p:cNvSpPr/>
            <p:nvPr/>
          </p:nvSpPr>
          <p:spPr>
            <a:xfrm>
              <a:off x="6764400" y="4272840"/>
              <a:ext cx="828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764400" y="4423320"/>
              <a:ext cx="74124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344000" y="4262040"/>
              <a:ext cx="150480" cy="16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764400" y="427284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460600" y="4761000"/>
            <a:ext cx="64764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0240" y="4780080"/>
            <a:ext cx="342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480852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57840" y="4741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2560" y="481824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79680" y="5335560"/>
            <a:ext cx="676440" cy="257040"/>
          </a:xfrm>
          <a:custGeom>
            <a:avLst/>
            <a:gdLst>
              <a:gd name="textAreaLeft" fmla="*/ 171000 w 676440"/>
              <a:gd name="textAreaRight" fmla="*/ 505440 w 67644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78240" y="5277600"/>
            <a:ext cx="676080" cy="314280"/>
          </a:xfrm>
          <a:custGeom>
            <a:avLst/>
            <a:gdLst>
              <a:gd name="textAreaLeft" fmla="*/ 171000 w 676080"/>
              <a:gd name="textAreaRight" fmla="*/ 505080 w 67608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478040" y="5306760"/>
            <a:ext cx="512640" cy="265320"/>
            <a:chOff x="4478040" y="5306760"/>
            <a:chExt cx="512640" cy="265320"/>
          </a:xfrm>
        </p:grpSpPr>
        <p:sp>
          <p:nvSpPr>
            <p:cNvPr id="216" name=""/>
            <p:cNvSpPr/>
            <p:nvPr/>
          </p:nvSpPr>
          <p:spPr>
            <a:xfrm>
              <a:off x="4478400" y="53071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78400" y="557208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792680" y="530712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478040" y="530676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31560" y="5326200"/>
            <a:ext cx="473760" cy="236160"/>
            <a:chOff x="5731560" y="5326200"/>
            <a:chExt cx="473760" cy="236160"/>
          </a:xfrm>
        </p:grpSpPr>
        <p:sp>
          <p:nvSpPr>
            <p:cNvPr id="221" name=""/>
            <p:cNvSpPr/>
            <p:nvPr/>
          </p:nvSpPr>
          <p:spPr>
            <a:xfrm>
              <a:off x="6205320" y="5326200"/>
              <a:ext cx="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738760" y="556236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731560" y="5326200"/>
              <a:ext cx="18324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906520" y="5326200"/>
              <a:ext cx="2988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64400" y="531648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31960" y="5805360"/>
            <a:ext cx="324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30520" y="5786280"/>
            <a:ext cx="381240" cy="35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9160" y="5776920"/>
            <a:ext cx="57132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5776920"/>
            <a:ext cx="457200" cy="3618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63920" y="5804640"/>
            <a:ext cx="676440" cy="314280"/>
          </a:xfrm>
          <a:custGeom>
            <a:avLst/>
            <a:gdLst>
              <a:gd name="textAreaLeft" fmla="*/ 171000 w 676440"/>
              <a:gd name="textAreaRight" fmla="*/ 505440 w 676440"/>
              <a:gd name="textAreaTop" fmla="*/ 79560 h 314280"/>
              <a:gd name="textAreaBottom" fmla="*/ 234720 h 3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51040" y="6342120"/>
            <a:ext cx="2952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01920" y="6361200"/>
            <a:ext cx="743040" cy="266760"/>
          </a:xfrm>
          <a:prstGeom prst="parallelogram">
            <a:avLst>
              <a:gd name="adj" fmla="val 69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58960" y="6351120"/>
            <a:ext cx="512640" cy="265320"/>
            <a:chOff x="4458960" y="6351120"/>
            <a:chExt cx="512640" cy="265320"/>
          </a:xfrm>
        </p:grpSpPr>
        <p:sp>
          <p:nvSpPr>
            <p:cNvPr id="234" name=""/>
            <p:cNvSpPr/>
            <p:nvPr/>
          </p:nvSpPr>
          <p:spPr>
            <a:xfrm>
              <a:off x="4459320" y="635148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59320" y="6616440"/>
              <a:ext cx="5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773600" y="6351480"/>
              <a:ext cx="1980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458960" y="6351120"/>
              <a:ext cx="32292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815080" y="6332400"/>
            <a:ext cx="371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02560" y="6361200"/>
            <a:ext cx="676080" cy="257040"/>
          </a:xfrm>
          <a:custGeom>
            <a:avLst/>
            <a:gdLst>
              <a:gd name="textAreaLeft" fmla="*/ 171000 w 676080"/>
              <a:gd name="textAreaRight" fmla="*/ 505080 w 676080"/>
              <a:gd name="textAreaTop" fmla="*/ 65160 h 257040"/>
              <a:gd name="textAreaBottom" fmla="*/ 191880 h 2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07" y="21600"/>
                </a:lnTo>
                <a:lnTo>
                  <a:pt x="6693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371600" y="65160"/>
          <a:ext cx="6858000" cy="6727680"/>
        </p:xfrm>
        <a:graphic>
          <a:graphicData uri="http://schemas.openxmlformats.org/drawingml/2006/table">
            <a:tbl>
              <a:tblPr/>
              <a:tblGrid>
                <a:gridCol w="216000"/>
                <a:gridCol w="500760"/>
                <a:gridCol w="1061640"/>
                <a:gridCol w="1062000"/>
                <a:gridCol w="1364760"/>
                <a:gridCol w="1137600"/>
                <a:gridCol w="15152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йдите лишне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ери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ос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редняя ли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кру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тре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рямо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пятиугольни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ом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ст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гона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уго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радиу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иаме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верш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хор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ду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1280"/>
            <a:ext cx="7315200" cy="298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 ЧАСТЬ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 ТРИГОНОМЕТРИЯ»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тест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.И.________________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828800"/>
          <a:ext cx="3813120" cy="3308040"/>
        </p:xfrm>
        <a:graphic>
          <a:graphicData uri="http://schemas.openxmlformats.org/drawingml/2006/table">
            <a:tbl>
              <a:tblPr/>
              <a:tblGrid>
                <a:gridCol w="1906200"/>
                <a:gridCol w="1906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мер вопро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риант отв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438280" y="57913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943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ценка: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Чему равен тангенс 45</a:t>
            </a:r>
            <a:r>
              <a:rPr b="1" lang="en-US" sz="5400" spc="-1" strike="noStrike">
                <a:solidFill>
                  <a:srgbClr val="703dff"/>
                </a:solidFill>
                <a:latin typeface="Sylfaen"/>
              </a:rPr>
              <a:t>°</a:t>
            </a:r>
            <a:r>
              <a:rPr b="1" lang="ru-RU" sz="5400" spc="-1" strike="noStrike">
                <a:solidFill>
                  <a:srgbClr val="703dff"/>
                </a:solidFill>
                <a:latin typeface="Sylfaen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4800"/>
            <a:ext cx="3774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41600" y="2209680"/>
            <a:ext cx="3770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ОСИНУС-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CO+SINUS. CO(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ат)-совместно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SINUS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(лат)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-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3772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ОЛУД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0" y="2696760"/>
            <a:ext cx="419112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АСТЬ КРУ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 ОСНОВНОЕ ТРИГОНОМЕТРИЧЕСКОЕ ТОЖДЕСТВО ИМЕЕТ ВИ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9800" y="2744280"/>
            <a:ext cx="69390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²X=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²X-COS²X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РИ УВЕЛИЧЕНИИ УГЛА ЗНАЧЕНИЯ КОТАНГЕНС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520" y="2771280"/>
            <a:ext cx="694044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А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Б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 И        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ВЕЛИЧИВ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МЕНЬША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МУ РАВНА ГРАДУСНАЯ МЕРА УГЛА В 1 РАДИАН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377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3,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7,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6920" y="2590560"/>
            <a:ext cx="3774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50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.  57,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 НАЗЫВАЮТСЯ ФУНКЦИИ</a:t>
            </a:r>
            <a:br>
              <a:rPr sz="4400"/>
            </a:b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SIN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и У=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COS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439720"/>
            <a:ext cx="70102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ЛОГАРИФМ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ПОКАЗАТ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ТРИГОНОМЕТРИЧЕ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ОБРАТ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риворучко</dc:creator>
  <dc:description/>
  <dc:language>en-US</dc:language>
  <cp:lastModifiedBy>Tatyana</cp:lastModifiedBy>
  <dcterms:modified xsi:type="dcterms:W3CDTF">2008-01-25T04:45:58Z</dcterms:modified>
  <cp:revision>8</cp:revision>
  <dc:subject/>
  <dc:title>криворуч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