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0C1-8604-433F-B09B-CA940CB1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625-128B-473D-8EEB-BB524AFF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59B-E170-4C5B-AA9F-1EC7C97F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0ED-BFAE-45D5-AF77-6C828380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3248-077F-46A6-846E-8ABEEAF7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9EEB-92C2-4061-9B9F-B62B59E8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A00C-0B11-4F4A-AC3C-DDFCDC44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0F39-5AAF-4FB4-939F-D6C7D905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14F2-6CA6-4E17-A714-563CBE7A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FCB3-BD3D-4214-A4CE-87CCC191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F2A2-879E-4A9E-B522-D5243CD6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3ED-307B-4D11-8692-C2671004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B5F8-8DC0-4E50-934E-A1921974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B028-098D-4A1B-86C0-EA6A24BB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5724-E697-4F21-80A2-EE708204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D355-D84C-4DF8-9357-1EF94FBE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6A56-E313-4FBC-98FC-19A6EEC0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2BE5-24CB-48FA-815F-B03C97AA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0103B-FA93-4B8F-AD40-47A141DB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186C-13EC-4E52-BD2D-9996CE67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0C97E-53C4-4021-BBE0-D5FEC8C7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0AE05-9C09-4102-9E5B-7299A8E4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BEE-F214-474E-9E9D-39C4751E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E68B6-4290-47F4-83A1-E58C504D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B436F-3151-4E2D-A096-FD1B018B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10FC-08BF-4FD1-BBE1-6DCE489B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7F38E-D8F8-40A6-8DE1-49CF1311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0DB7E-2E90-4184-9B4E-B4D2C535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AD1D-E711-40A1-981B-1D4242B3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AB652-684A-4614-B3E8-23CEAAEF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9DE03-B322-4B92-AA69-3002D0DF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C3701-9BC0-4704-AA69-F95036B9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6ED42-C32D-4391-950C-6D414FA1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D40-4280-47E6-86C2-8CA8285B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AD238-5797-4596-91ED-05220466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98B36-6F7E-4D3F-9E48-8D2FE08E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6ECF1-1054-48BC-A997-6376CA1F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561CD-C276-458F-8EBD-C38F1440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D0629-ABED-4498-B32F-B10B5FA3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CEA69-CB2F-4C85-8747-A7A60206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FAF07-C13C-413F-80C3-A33CEE58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5F558-2A96-4A71-BBDC-3236A0DE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20BDF-5ACA-4244-8742-2BAD7C37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629-AE54-4CD4-BAA8-C6033130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4CB-8CFA-44CB-ACCD-5A956C29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E30-6CD2-4374-B740-F22F51F2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50BB-1F7F-46C3-A223-A461CA95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703D-3B68-423E-8300-2557F81F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2A26-F81E-4FD5-ADF4-D535B3FEA1C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3AC1-5235-43FE-809B-DA36CF0192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9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8F08-9AE8-4516-B6C2-727F0F83048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5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5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5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5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6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7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9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7B4A-6807-43C1-B798-DE3281DEAEB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Тес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549440" y="4051440"/>
            <a:ext cx="669456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Имя прилагательно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488880"/>
            <a:ext cx="74768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7d47d"/>
                </a:solidFill>
                <a:latin typeface="Arial"/>
              </a:rPr>
              <a:t>1.Что такое имя прилагательное?</a:t>
            </a:r>
            <a:endParaRPr b="0" lang="en-US" sz="29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сло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часть реч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член предложени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2. В какой строке даны только имена прилагательны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синий, синь, сине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надежда, белый, сини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надёжный, синенький, белы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3. С какой частью речи связано  имя прилагательное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с именем существительным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с глаголом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не связан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4.У прилагательного нет следующего признак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числ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род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времен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5.В каком имени прилагательном нужно писать окончание –ЕЕ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9360">
            <a:solidFill>
              <a:srgbClr val="c1605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утренн… неб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утренн… зарядк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утренн… завтра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6. Укажи род прилагательных в предложении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весеннем лесу песню раннюю запел жаворон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ср.р.;ж.р.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м.р.;ж.р.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м.р.;ср.р.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7. В каком падеже у имён прилагательных окончания –ОМУ,-ЕМУ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57120" y="1285920"/>
            <a:ext cx="8267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в творительном падеж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в родительном падеж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в дательном падеж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8. Какая буква пропущена в окончании имён прилагательных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ружился в син…м небе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 ближн…м озер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-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-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другая букв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9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9.Укажи падеж прилагательных в словосочетаниях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идел в синем небе, рисовал на холодном окн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винительный падеж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предложный падеж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творительный падеж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10. Если прилагательное имеет окончание –АЯ (-ЯЯ), то какого оно рода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средне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женск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мужск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верь себ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85840" y="14997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. Б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2. В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. А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4. В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5. А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6. Б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7. В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8. А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9. Б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0. Б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9:31:43Z</dcterms:created>
  <dc:creator>Olga</dc:creator>
  <dc:description/>
  <dc:language>en-US</dc:language>
  <cp:lastModifiedBy>Computer</cp:lastModifiedBy>
  <dcterms:modified xsi:type="dcterms:W3CDTF">2013-02-14T11:01:04Z</dcterms:modified>
  <cp:revision>16</cp:revision>
  <dc:subject/>
  <dc:title>1.Что такое имя прилагательное?</dc:title>
</cp:coreProperties>
</file>