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7B8-BF5D-4FBA-B98A-EEEEC3F0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D0E7-09B4-4B9A-8DAF-A2DD75A8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360-E0BC-4917-B7B9-BEB37B35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EE8-0B60-41A7-96B3-A458D5F5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5BE1-57FF-413B-B74A-A6D9FA07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640F-68C1-46AF-943D-F051FC8C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A682-B8D9-4C3B-94E8-DA26098F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B500-313A-430F-B624-7E420B32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D61E-831F-4C24-AFAF-E28C191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E876-AC42-42B2-9BE9-46D634DC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22F0-68ED-464C-8C43-90762E4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A5D-B1E3-48CC-9EFD-28CD9EE0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72E3-4B1D-4F59-A042-AA2587A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5E35-B8A4-4F9C-98B3-C1554EF7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CC9A-C7B9-432D-8414-1A885F2D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00EF-85D4-419C-99A9-AF6093A4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37E7-1281-442E-83B4-95F4490C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3321-103F-4700-A1BC-A0005167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0F06-B255-4ACA-87A6-3F23F1D6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1123-C702-45A6-83FB-2E41EE1B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5B5B-D105-410F-AA22-F8FA33B4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8982-244B-4921-B80A-68E1FAE7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153-F942-4DAB-916C-035D6836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EADF-B3EC-46CC-B02E-DCB6C4D5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3CFF-EE1A-481F-9AA7-90A9E572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0461-DB5A-4564-9B96-175E90F8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B727-C7D5-476E-A24F-4FCE714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6374-D6E2-4A4D-BC02-35B11CDD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F1CD-C114-4B22-B9F9-A993236A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4D719-FC4F-4626-9CE0-EAE36F34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388F-AF1A-44CC-A59E-D2704940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8B315-F260-4101-AC21-EF1FFBF3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D78F-A4A8-4895-BB1A-61EA4D6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A9F-259B-466F-8077-2DCDAD9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0B93-BEA5-4314-AFBB-CA234813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DF29-CFDE-4169-8CF3-C6C71D74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D777-A8A5-4B07-96CF-679D6EB6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C723-C3DE-4C2E-AF1D-5E83270D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0B386-CDBA-4857-B0EE-350367F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88FB-C449-4485-BE9A-10D5E71B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D17B-5FC1-483C-A7B2-B1A8B443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58CE-6473-4DEA-A6CB-6B2BDFE7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DC25-6777-41D2-A136-3730DA79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0E48C-8600-4F25-83F5-B0C193F3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64B-2751-412F-9F43-4260F4C5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5A86-07C3-4BB3-9F3D-3DE17248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21AD0-1514-4DA7-9BEB-D14AA621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80EF-75FE-49EB-B7EB-4491F012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82D8E-C668-465E-8ECA-B40A1AE1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6118B-2ECE-4120-9440-1F085BBA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7BB69-0B91-467B-8DFE-A28362E4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2B5E-F2C2-4D00-B3AC-6F74BCD2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96F19-2A8A-4DDD-9DD5-C296205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1E58-DC9F-40D4-A8A7-C5B11815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86E1-61B6-48EF-81C8-E036CB62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1B7-8436-413B-9331-5CAD574E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61068-52B2-45A3-8F9E-4EA7AEA0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89F-ABE2-4F14-8DED-6F5ED4DA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962-679F-4E84-9B47-1509618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C0E-3284-47E1-9D9A-0DD85575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47A-073D-40E9-BA6B-94B319E1EDE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39D8-E4C4-4D56-90A3-A4A45DE4B51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AFAD-0B0C-4AF2-B9A3-FF102E223B4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EBB-E7BE-4392-8BC5-CF757DE2663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8332-45AE-4CB2-A44F-3F5B1807E92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40080" y="512640"/>
            <a:ext cx="5413320" cy="2919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gradFill rotWithShape="0">
            <a:gsLst>
              <a:gs pos="0">
                <a:srgbClr val="e7a492"/>
              </a:gs>
              <a:gs pos="100000">
                <a:srgbClr val="f07b54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25560" dir="5400000" blurRad="0" rotWithShape="0">
              <a:srgbClr val="873f1d">
                <a:alpha val="83000"/>
              </a:srgbClr>
            </a:outerShdw>
          </a:effectLst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rebuchet MS"/>
              </a:rPr>
              <a:t>Маугл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52280" y="428760"/>
            <a:ext cx="77425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000680" y="428760"/>
            <a:ext cx="3781080" cy="56196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214200" y="714240"/>
            <a:ext cx="35006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жозеф Редьярд Киплинг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0 декабря 1865 –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8 января1936 (70 лет) – британский автор и поэт. Наиболее известные: сборник рассказов который включает «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Рикки-Тикки-Тав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1901) (сказка приключения), «Маугли»- сказ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28760" y="343080"/>
            <a:ext cx="7596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93560" y="428760"/>
            <a:ext cx="728208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642960" y="109440"/>
            <a:ext cx="72262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714240" y="142920"/>
            <a:ext cx="72993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785880" y="355680"/>
            <a:ext cx="7041960" cy="60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785880" y="347760"/>
            <a:ext cx="7210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14200" y="193680"/>
            <a:ext cx="753264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Station</cp:lastModifiedBy>
  <dcterms:modified xsi:type="dcterms:W3CDTF">2010-02-16T18:07:07Z</dcterms:modified>
  <cp:revision>14</cp:revision>
  <dc:subject/>
  <dc:title>Ричард Киплинг</dc:title>
</cp:coreProperties>
</file>