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6B9-EAE5-4838-BBA0-72354BE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807-40E3-4629-97AE-29ADE5B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DC5-77D1-45AE-A383-4A9490A7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9E6-44C3-44E8-8C76-E922BDB2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FE3-4A72-4683-B7AF-6B1CF67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E3A-613B-491A-A07B-D7135AB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E2D-0B8C-4624-9306-A185B32E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4DF-C89C-4240-A510-2CBEF9E7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840-29F3-462B-B94B-3598078F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12D-9F8D-4637-B35B-01A68626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2D9-CCEB-4D31-93C3-39CA90C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5F1-63AD-4236-8D9E-35EEBCE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D89B-3250-4F08-8376-61F955730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__________ 2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асшифруй название растений и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фд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Дьле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Арс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Кутб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Ис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антю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гроза животным и растения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ырубка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садка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валка му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бор бук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грязнение водо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здание запове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Браконь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храна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kb07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d12_60070099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55956_or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0a0f94f0871c4fb84cda192f82b1f414"/>
          <p:cNvPicPr/>
          <p:nvPr/>
        </p:nvPicPr>
        <p:blipFill>
          <a:blip r:embed="rId1"/>
          <a:stretch/>
        </p:blipFill>
        <p:spPr>
          <a:xfrm>
            <a:off x="2133720" y="254160"/>
            <a:ext cx="487656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adc35fdc42a"/>
          <p:cNvPicPr/>
          <p:nvPr/>
        </p:nvPicPr>
        <p:blipFill>
          <a:blip r:embed="rId1"/>
          <a:stretch/>
        </p:blipFill>
        <p:spPr>
          <a:xfrm>
            <a:off x="1397160" y="870120"/>
            <a:ext cx="6349680" cy="51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2558_32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9"/>
          <p:cNvPicPr/>
          <p:nvPr/>
        </p:nvPicPr>
        <p:blipFill>
          <a:blip r:embed="rId1"/>
          <a:stretch/>
        </p:blipFill>
        <p:spPr>
          <a:xfrm>
            <a:off x="1619280" y="189000"/>
            <a:ext cx="590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Красная 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ивотны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стени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произойдёт, если будут вырубать ле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_2880_79731861_XL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4:12:49Z</dcterms:created>
  <dc:creator>Admin</dc:creator>
  <dc:description/>
  <dc:language>en-US</dc:language>
  <cp:lastModifiedBy>Computer</cp:lastModifiedBy>
  <dcterms:modified xsi:type="dcterms:W3CDTF">2013-02-14T11:10:43Z</dcterms:modified>
  <cp:revision>4</cp:revision>
  <dc:subject/>
  <dc:title>Слайд 1</dc:title>
</cp:coreProperties>
</file>