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677-CFEE-4277-B0C4-C8C6DCF7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280-6F19-41BA-B7EC-E51CA352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4E5-EA3A-400A-88EE-8DA2B453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B41-DBD2-41D6-AEAC-2A8094DB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A84-F6D0-46B4-ACAF-CB5E89CE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658-D09D-4239-B022-EB250BAF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9BA-B4F9-4771-BBF3-4DB0B1FF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121-5D03-41D5-8A77-AECB56DE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561-7CB8-449D-90E4-6BD0571C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45C-8D64-42AB-BB6D-7AFACDB5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EFA-9DE9-494E-9E42-DD7F9CB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FB9-F5F5-40A0-9754-986E07C9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2C3A-46A8-4703-9254-6A0B883CA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2142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Педагогический совет «Пути формирования информационной и коммуникативной компетенции в образовательном пространстве школ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нализ урока в рамках  диагностики качеств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ема урока:Г. В. Черноголо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«Сказка об одном зернышк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ласс:  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омпетенция: ключевые компетенции: коммуникативная, информационная, самоменедж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спект: 1. публичное выступление, диалог, продуктивная групповая коммуник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2. извлечение первичной информации, обработка первичной информации, обработка вторичн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3. оценка деятельности и оценка собственного продви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МО     гуманитарного цик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ГУ  СОСШПА № 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165384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на литературную тем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Чтобы ты сделал, если бы наше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олшебный меч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мешок с золо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ернышк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Чему учит «Сказка об одном зернышке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то из героев «Сказки» понравился и почем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удесное рядом с н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Рисунок к произведе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акими затруднениями столкнулись при выполнении зада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предлагаете пути их преодоле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0" y="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– конспект урока по тем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казка об одном зернышке»       Г.В. Черноголов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ительный урок по разделу «Фольклор и литература 20 век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едение для чтения и обсуждения. 1 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еспечить усвоение и осмысление содержания текста сказки, ее идейно-гуманистической направленности и общечеловеческого смыс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должить работу над литературными терминами: тема, идея, художественный образ, портрет героя, сказка литературная, художественно-изобразительные средств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продолжить формирование общеучебных уме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с книгой, словаре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план ответа, компози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ясно и точно выражать свои мысл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в группе, па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ценивать свою деятельно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звивать информационную компетенцию. Аспек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звлечение первичной информ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влекают информацию по заданному вопросу из текста, содержащего художественный образ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торичная обработка информации, систематизирование извлеченной информации  в рамках заданной струк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работка информации (излагают полученную информацию в контексте решаемой задачи,  делают выводы и приводят аргументы или данные для подтверждения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звивать коммуникативную компетенцию в аспекта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убличного выступления (используют вербальные средства для своего выступлени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алога (высказывает мнение и запрашивает мнение партнера в рамках диалог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дуктивная групповая коммуникация  (учащиеся самостоятельно договариваются о правилах и вопросах для обсуждения в соответствии с поставленной перед группой задачей, учащиеся следят за обсуждением и обобщают, фиксируют, распределяют и принимают на себя обязанности в рамках выполнения групповой работы. Они задают вопросы на уточнение и понимание идей,  уточняют идеи друг друг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1000080"/>
          <a:ext cx="9144000" cy="5873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 ЗУНов на в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ЗУНов  на вы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ния теоретико- литературные: литература и фольклор, жанр – сказка литературная, тема и идея произ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ко-литературные : ФИО автора, биографические сведен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оретико-литературные: Составление модели произведени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ы компози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ыть тему и идею данной сказк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жан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характеризовать героя, составлять простой план, выразительно читать произведение, сравнивать литературных геро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охарактеризовать героев сказки на основе их поступков и взаимоотношений с другими персонажами, сравнивать литературных героев, выявлять позицию автора, его отношение к персонажам, передавать индивидуальное восприятие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готовит план выступления, соблюдает нормы публичной речи и регла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основное содержание информации в монологе, отвечает на вопросы и задает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-групповая коммуникация: учащиеся самостоятельно следуют заданной процедуре группового обсуж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еся распределяют и принимают на себя обязанности в рамках выполнения группов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использует вербальные средства и невербальные средства или наглядные материал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 основное содержание информации в диалоге, монологе, группе. Высказывает мнение (суждение) и запрашивает мнение партнера в рамках диал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 – групповая коммуникация: учащиеся следят за соблюдением процедуры обсуждения, обобщают. Фиксируют решения в конце работы, они сопоставляют свои идеи с идеями других членов группы, развивают и уточняют идеи друг д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1"/>
          <p:cNvSpPr/>
          <p:nvPr/>
        </p:nvSpPr>
        <p:spPr>
          <a:xfrm>
            <a:off x="0" y="504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вать интерес к изучению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итывать вдумчивого читателя, внимательного к слов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ть эмоционально-ценностные отнош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3059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4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извлечения первичной информации: извлекает информацию по заданному вопросу из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ервичная обработка информации: систематизирует извлеченную информацию по заданной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 вторичная обработка информации: делает вывод на основе полученной информации и приводит несколько аргументов для его подтвер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ценка деятельности,  осуществляет текущий контроль сво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указывает сильные и слабые стороны свое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называет трудности, с которыми столкнулись при решении проблемы и предлагают пути их преодо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0" y="308988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очки-задания для самостоятельной работы в групп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ст по произвед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оделирован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следовательск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 ИК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ы самоконтро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овесные (диалог и монолог, комментирование лексического значения слов, озвучивание схемы, устное высказывание на тему, передача собственного восприятия ХП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обуч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М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н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руппов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ронтальна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урока – комбинированный (урок изучения темы, закрепления и контр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3600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-конспект уро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ионный эта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: если вы успешно справитесь с заданием, то  научитесь правильно поступать в сложных жизненных ситуациях, делать добро, прощать об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ем тему урока и запишем в тетрад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определим цели уро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тать и обсуждать произвед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ировать поступки героев и их характ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ять тему и идею произве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композиционную сх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подготовленного учащегося о Г.В. Черноголови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К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атели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(192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Галина Васильевна Черноголовина"/>
          <p:cNvPicPr/>
          <p:nvPr/>
        </p:nvPicPr>
        <p:blipFill>
          <a:blip r:embed="rId1"/>
          <a:stretch/>
        </p:blipFill>
        <p:spPr>
          <a:xfrm>
            <a:off x="7543800" y="1428840"/>
            <a:ext cx="160020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358776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ый казахстанский писатель И.П.Шухов в январе 1966 года писал: «С большой душевной готовностью и охотой рекомендую принять в члены Союза писателей СССР Черноголовину Галину Васильевну - автора нескольких превосходных детских книжек, вышедших на Дальнем Востоке, в Алма-Ате, Москве… Горячо верю в ее хорошее литературное будущее». Но Черноголовина Г.В. известна в Казахстане не только как детская писательница, но и как талантливый публицист, автор повестей и романов о людях Целины. Несколько лет она была заместителем главного редактора журнала «Простор2, председателем Совета по русской литературе в Союзе писателей Казахстана. В годы перестройки вошла в общественно-литературное движение «Апрель», способствующее укреплению в обществе принципов демократии, гражданского согласия и ми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родилась 15 марта 1929 года в селе Знаменском Омской области. Окончила Хабаровский педагогический институт. Преподавала русский язык и литературу в сельской школе. Работала на радио, в районных газетах Хабаровского и Краснодарск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35280"/>
            <a:ext cx="9144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ев. В 1963 году переехала с семьей в г. лма-Ату. С середины 1990-х годов живет 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деятельность Г.Черноголовиной берет начало на Дальнем Востоке. В 1960 году в Хабаровском книжном издательстве выходит ее первая книга – сборник рассказов для детей о людях таежного села «Цветы голубики». Через два года появились еще три книжки для детей: «Веселые странички о братце и сестричке», «Капельки амурские», «Мальчик-Мазайчик». Затем: «Ванька-встанька Новосел» (1965), «Лодка в протоке» (1966), «Свеча за красным стеклом» (1968), «Теплая краюшка» (1972), «Робот на час» (1968) и др. Всего в авторстве Г.В.Черноголовиной выпущено 15 изданий для детей разных жанров, около половины из них вышло в Москве, в издательстве «Детская литература». Они стали заметным явлением в казахстанской и общесоюзной литературе для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ение «Сказки об одном зернышке» (стр. 340-34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равилось вам произведение? Кто из героев понравился, чем им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: ветрогар, продуб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рогар – «продубела кожа на вет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беть – сделаться крепкой, как кора д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2         Анализ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по групп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форме пятистишия составить характеристику младшего б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Илюшу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Тоню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модель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– сказка -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схему композиции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а в сказке. Зачин, испытание, 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выполненного задания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Упрямый, но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Огорчается, выращивает, про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Семь сел, семь городов прокормлю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Труже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И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Младший, хитрый – прехит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Любит, выдумывает, забо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Вдруг этот колос волшебны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Фант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0" y="3996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То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Старшая, весел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Спорит, заботиться, люби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«Потом опять веснушки заметно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Помошни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одель художественного мира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Diagram 11"/>
          <p:cNvGrpSpPr/>
          <p:nvPr/>
        </p:nvGrpSpPr>
        <p:grpSpPr>
          <a:xfrm>
            <a:off x="3929040" y="301680"/>
            <a:ext cx="5486400" cy="2341440"/>
            <a:chOff x="3929040" y="301680"/>
            <a:chExt cx="5486400" cy="2341440"/>
          </a:xfrm>
        </p:grpSpPr>
        <p:pic>
          <p:nvPicPr>
            <p:cNvPr id="53" name="Схема 14" descr=""/>
            <p:cNvPicPr/>
            <p:nvPr/>
          </p:nvPicPr>
          <p:blipFill>
            <a:blip r:embed="rId1"/>
            <a:stretch/>
          </p:blipFill>
          <p:spPr>
            <a:xfrm>
              <a:off x="3929040" y="301680"/>
              <a:ext cx="548640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14"/>
            <p:cNvSpPr/>
            <p:nvPr/>
          </p:nvSpPr>
          <p:spPr>
            <a:xfrm rot="16200000">
              <a:off x="381024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Фокус»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гнитофоно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AutoShape 13"/>
            <p:cNvSpPr/>
            <p:nvPr/>
          </p:nvSpPr>
          <p:spPr>
            <a:xfrm rot="16200000">
              <a:off x="729828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лосок в посылк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5454720" y="448560"/>
              <a:ext cx="2490120" cy="151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нтастический мир «Сказки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20"/>
          <p:cNvSpPr/>
          <p:nvPr/>
        </p:nvSpPr>
        <p:spPr>
          <a:xfrm>
            <a:off x="212400" y="2550240"/>
            <a:ext cx="7504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озиция произведения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часть. Реальность. Фок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часть. Зачин сказ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часть. Трудная задача для бра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часть. Испытание братьев, их возвращ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часть. Развязка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6 часть. Реальность. Колос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тро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ст с последующей проверкой по ключ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матический тест по произведению Г.В Черноголовиной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пределите жанр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Расска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Фольклорная  сказ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Литературная сказ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 Укажи персонажей данного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Пет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Ксения Сергеев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 Илюш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36360"/>
            <a:ext cx="9144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ой прием использует ав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ы медлишь? – говорит ему зернышко. – Бросай меня в земл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Олицетв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Антите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то из братьев нашел волшебное зернышк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тар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ред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Млад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е выражение лица было у Илюши, когда он решил показать  Фоку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Хитрое-прехитр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Печаль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Радост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акую трудную задачу выполнил младший бра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Куп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Накорм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Покор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ой прием использует авто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ой выдумщик! – засмеялась Тоня. – Все бы ему, как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Гипербо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Эпит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Почему младший брат принял старших  к себ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ерпелив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очувствует братьям в бе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умеет прощ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Что символизирует зернышко в произведении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руд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терп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ожидание чу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роверка по ключ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286000" y="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- 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–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– А, Б,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6:16:35Z</dcterms:created>
  <dc:creator>LAN_OS</dc:creator>
  <dc:description/>
  <dc:language>en-US</dc:language>
  <cp:lastModifiedBy>LAN_OS</cp:lastModifiedBy>
  <dcterms:modified xsi:type="dcterms:W3CDTF">2010-12-04T17:00:43Z</dcterms:modified>
  <cp:revision>5</cp:revision>
  <dc:subject/>
  <dc:title>Слайд 1</dc:title>
</cp:coreProperties>
</file>