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1B9-C1EB-46A0-90C6-08CB8C13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21F-703D-4CFB-B35B-D998908B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E78-754A-43FA-BA81-97FD6EDB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465-09A6-4621-A00C-A1F33EBA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E14-0A12-44B0-BB0D-25A3D589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AC10-92D0-4AB3-A87E-4812CE00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BB74-A9AD-42AA-995B-4389E36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230-0417-4F99-A015-B7F3796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1FF-D246-49CA-8DA1-A0862E1B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D53-15E4-41EE-A4A3-D086B5D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1BE6-4996-48B2-94EC-EEFB9C6E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1A6-5A48-4F5F-A19D-78D4E754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BDA1-2D05-4C5F-A97D-676B5014F1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2142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Педагогический совет «Пути формирования информационной и коммуникативной компетенции в образовательном пространстве школ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нализ урока в рамках  диагностики качества реализации компетентностного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Тема урока:Г. В. Черноголов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«Сказка об одном зернышк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ласс:   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Компетенция: ключевые компетенции: коммуникативная, информационная, самоменеджмен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Аспект: 1. публичное выступление, диалог, продуктивная групповая коммуник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2. извлечение первичной информации, обработка первичной информации, обработка вторичн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3. оценка деятельности и оценка собственного продви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МО     гуманитарного цик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f2f2f2"/>
                </a:solidFill>
                <a:latin typeface="Calibri"/>
              </a:rPr>
              <a:t>ГУ  СОСШПА № 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0" y="165384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чинение на литературную тем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Чтобы ты сделал, если бы наше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волшебный меч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мешок с золото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зернышк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Чему учит «Сказка об одном зернышке»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Кто из героев «Сказки» понравился и почему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Чудесное рядом с н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Рисунок к произведе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флекс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какими затруднениями столкнулись при выполнении зада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предлагаете пути их преодоления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0" y="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– конспект урока по тем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казка об одном зернышке»       Г.В. Черноголови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ительный урок по разделу «Фольклор и литература 20 века»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изведение для чтения и обсуждения. 1 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беспечить усвоение и осмысление содержания текста сказки, ее идейно-гуманистической направленности и общечеловеческого смыс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должить работу над литературными терминами: тема, идея, художественный образ, портрет героя, сказка литературная, художественно-изобразительные средств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продолжить формирование общеучебных уме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с книгой, словарем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план ответа, компози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ясно и точно выражать свои мысл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тать в группе, пар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ценивать свою деятельнос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развивать информационную компетенцию. Аспек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звлечение первичной информ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звлекают информацию по заданному вопросу из текста, содержащего художественный образ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торичная обработка информации, систематизирование извлеченной информации  в рамках заданной струк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работка информации (излагают полученную информацию в контексте решаемой задачи,  делают выводы и приводят аргументы или данные для подтверждения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развивать коммуникативную компетенцию в аспектах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убличного выступления (используют вербальные средства для своего выступления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иалога (высказывает мнение и запрашивает мнение партнера в рамках диалог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дуктивная групповая коммуникация  (учащиеся самостоятельно договариваются о правилах и вопросах для обсуждения в соответствии с поставленной перед группой задачей, учащиеся следят за обсуждением и обобщают, фиксируют, распределяют и принимают на себя обязанности в рамках выполнения групповой работы. Они задают вопросы на уточнение и понимание идей,  уточняют идеи друг друг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1000080"/>
          <a:ext cx="9144000" cy="5873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134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 ЗУНов на в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дарт ЗУНов  на выход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59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ния теоретико- литературные: литература и фольклор, жанр – сказка литературная, тема и идея произ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сторико-литературные : ФИО автора, биографические свед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оретико-литературные: Составление модели произведени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хемы компози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крыть тему и идею данной сказки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енности жан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характеризовать героя, составлять простой план, выразительно читать произведение, сравнивать литературных геро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тературно-творческая деятельность: охарактеризовать героев сказки на основе их поступков и взаимоотношений с другими персонажами, сравнивать литературных героев, выявлять позицию автора, его отношение к персонажам, передавать индивидуальное восприятие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вне компет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168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готовит план выступления, соблюдает нормы публичной речи и регла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основное содержание информации в монологе, отвечает на вопросы и задает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-групповая коммуникация: учащиеся самостоятельно следуют заданной процедуре группового обсужд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щиеся распределяют и принимают на себя обязанности в рамках выполнения групповой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ая. В аспекте публичного выступления: использует вербальные средства и невербальные средства или наглядные материал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аспекте диалог: воспринимает  основное содержание информации в диалоге, монологе, группе. Высказывает мнение (суждение) и запрашивает мнение партнера в рамках диало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родуктивно – групповая коммуникация: учащиеся следят за соблюдением процедуры обсуждения, обобщают. Фиксируют решения в конце работы, они сопоставляют свои идеи с идеями других членов группы, развивают и уточняют идеи друг д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1"/>
          <p:cNvSpPr/>
          <p:nvPr/>
        </p:nvSpPr>
        <p:spPr>
          <a:xfrm>
            <a:off x="0" y="504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ывающ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звивать интерес к изучению художественной литературы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воспитывать вдумчивого читателя, внимательного к слов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ть эмоционально-ценностные отнош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30592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4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извлечения первичной информации: извлекает информацию по заданному вопросу из Х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ая компетент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первичная обработка информации: систематизирует извлеченную информацию по заданной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 вторичная обработка информации: делает вывод на основе полученной информации и приводит несколько аргументов для его подтвер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менедж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деятельности: оценка деятельности,  осуществляет текущий контроль свое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указывает сильные и слабые стороны своей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пект оценка собственного продвижения: называет трудности, с которыми столкнулись при решении проблемы и предлагают пути их преодол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0" y="3089880"/>
            <a:ext cx="9144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а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очки-задания для самостоятельной работы в групп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тест по произведен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организации познавательной деятельности учащих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оделирован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сследовательские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 ИКТ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методы самоконтро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ловесные (диалог и монолог, комментирование лексического значения слов, озвучивание схемы, устное высказывание на тему, передача собственного восприятия ХП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ы обуч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ИМД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н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группова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ронтальн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урока – комбинированный (урок изучения темы, закрепления и контр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36000"/>
            <a:ext cx="914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-конспект уро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онный эта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ул: если вы успешно справитесь с заданием, то  научитесь правильно поступать в сложных жизненных ситуациях, делать добро, прощать оби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ем тему урока и запишем в тетрад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йте определим цели урок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читать и обсуждать произвед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нализировать поступки героев и их характер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пределять тему и идею произвед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ставлять композиционную сх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тупление подготовленного учащегося о Г.В. Черноголовино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ИКТ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атели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(1929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Галина Васильевна Черноголовина"/>
          <p:cNvPicPr/>
          <p:nvPr/>
        </p:nvPicPr>
        <p:blipFill>
          <a:blip r:embed="rId1"/>
          <a:stretch/>
        </p:blipFill>
        <p:spPr>
          <a:xfrm>
            <a:off x="7543800" y="1428840"/>
            <a:ext cx="1600200" cy="2133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0" y="3587760"/>
            <a:ext cx="9144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естный казахстанский писатель И.П.Шухов в январе 1966 года писал: «С большой душевной готовностью и охотой рекомендую принять в члены Союза писателей СССР Черноголовину Галину Васильевну - автора нескольких превосходных детских книжек, вышедших на Дальнем Востоке, в Алма-Ате, Москве… Горячо верю в ее хорошее литературное будущее». Но Черноголовина Г.В. известна в Казахстане не только как детская писательница, но и как талантливый публицист, автор повестей и романов о людях Целины. Несколько лет она была заместителем главного редактора журнала «Простор2, председателем Совета по русской литературе в Союзе писателей Казахстана. В годы перестройки вошла в общественно-литературное движение «Апрель», способствующее укреплению в обществе принципов демократии, гражданского согласия и мир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ина Васильевна Черноголовина родилась 15 марта 1929 года в селе Знаменском Омской области. Окончила Хабаровский педагогический институт. Преподавала русский язык и литературу в сельской школе. Работала на радио, в районных газетах Хабаровского и Краснодарск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35280"/>
            <a:ext cx="914400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ев. В 1963 году переехала с семьей в г. лма-Ату. С середины 1990-х годов живет в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деятельность Г.Черноголовиной берет начало на Дальнем Востоке. В 1960 году в Хабаровском книжном издательстве выходит ее первая книга – сборник рассказов для детей о людях таежного села «Цветы голубики». Через два года появились еще три книжки для детей: «Веселые странички о братце и сестричке», «Капельки амурские», «Мальчик-Мазайчик». Затем: «Ванька-встанька Новосел» (1965), «Лодка в протоке» (1966), «Свеча за красным стеклом» (1968), «Теплая краюшка» (1972), «Робот на час» (1968) и др. Всего в авторстве Г.В.Черноголовиной выпущено 15 изданий для детей разных жанров, около половины из них вышло в Москве, в издательстве «Детская литература». Они стали заметным явлением в казахстанской и общесоюзной литературе для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ение «Сказки об одном зернышке» (стр. 340-34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равилось вам произведение? Кто из героев понравился, чем имен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: ветрогар, продуб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трогар – «продубела кожа на ветр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беть – сделаться крепкой, как кора д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2         Анализ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по групп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форме пятистишия составить характеристику младшего б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Илюшу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характеризовать Тоню, составив пятистиш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модель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ьность – сказка - ре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28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ть схему композиции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азка в сказке. Зачин, испытание, возвра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выполненного задания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Б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Упрямый, но доб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Огорчается, выращивает, прощ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Семь сел, семь городов прокормлю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Тружен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группа.  Модельный отв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Илю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Младший, хитрый – прехитр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Любит, выдумывает, заботи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«Вдруг этот колос волшебный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Фантаз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39960"/>
            <a:ext cx="9144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То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Старшая, весел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Спорит, заботиться, люби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«Потом опять веснушки заметно!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Помошниц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одель художественного мира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Diagram 11"/>
          <p:cNvGrpSpPr/>
          <p:nvPr/>
        </p:nvGrpSpPr>
        <p:grpSpPr>
          <a:xfrm>
            <a:off x="3929040" y="301680"/>
            <a:ext cx="5486400" cy="2341440"/>
            <a:chOff x="3929040" y="301680"/>
            <a:chExt cx="5486400" cy="2341440"/>
          </a:xfrm>
        </p:grpSpPr>
        <p:pic>
          <p:nvPicPr>
            <p:cNvPr id="53" name="Схема 14" descr=""/>
            <p:cNvPicPr/>
            <p:nvPr/>
          </p:nvPicPr>
          <p:blipFill>
            <a:blip r:embed="rId1"/>
            <a:stretch/>
          </p:blipFill>
          <p:spPr>
            <a:xfrm>
              <a:off x="3929040" y="301680"/>
              <a:ext cx="548640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4"/>
            <p:cNvSpPr/>
            <p:nvPr/>
          </p:nvSpPr>
          <p:spPr>
            <a:xfrm rot="16200000">
              <a:off x="381024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Фокус»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гнитофоно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AutoShape 13"/>
            <p:cNvSpPr/>
            <p:nvPr/>
          </p:nvSpPr>
          <p:spPr>
            <a:xfrm rot="16200000">
              <a:off x="7298280" y="432360"/>
              <a:ext cx="2221920" cy="1978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альность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лосок в посылк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val 12"/>
            <p:cNvSpPr/>
            <p:nvPr/>
          </p:nvSpPr>
          <p:spPr>
            <a:xfrm>
              <a:off x="5454720" y="448560"/>
              <a:ext cx="249012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нтастический мир «Сказки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20"/>
          <p:cNvSpPr/>
          <p:nvPr/>
        </p:nvSpPr>
        <p:spPr>
          <a:xfrm>
            <a:off x="212400" y="2550240"/>
            <a:ext cx="750492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группа.  Модельный отв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озиция произведения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 часть. Реальность. Фок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 часть. Зачин сказ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3 часть. Трудная задача для бра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 часть. Испытание братьев, их возвращ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5 часть. Развязка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6 часть. Реальность. Колос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тро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ст с последующей проверкой по ключ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Тематический тест по произведению Г.В Черноголовиной «Сказка об одном зернышк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пределите жанр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Расска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Фольклорная  сказ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Литературная сказ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кажи персонажей данного произ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А. Петр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Б. Ксения Сергеевн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В.  Илюш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0" y="36360"/>
            <a:ext cx="914400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акой прием использует авто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ты медлишь? – говорит ему зернышко. – Бросай меня в земл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Олицетв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Антитез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Кто из братьев нашел волшебное зернышко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тар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редн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Младши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Какое выражение лица было у Илюши, когда он решил показать  Фокус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Хитрое-прехитр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Печаль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Радостно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Какую трудную задачу выполнил младший брат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Куп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Накорм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Покорил 7 сел, 7 город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Какой прием использует автор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ой выдумщик! – засмеялась Тоня. – Все бы ему, как в сказ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Сравн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Гипербо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Эп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Почему младший брат принял старших  к себе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ерпелив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сочувствует братьям в бед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умеет прощ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Что символизирует зернышко в произведении?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труд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терпени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. ожидание чу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роверка по ключ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3"/>
          <p:cNvSpPr/>
          <p:nvPr/>
        </p:nvSpPr>
        <p:spPr>
          <a:xfrm>
            <a:off x="2286000" y="0"/>
            <a:ext cx="4572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- 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–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– Б,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– А, Б,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6:16:35Z</dcterms:created>
  <dc:creator>LAN_OS</dc:creator>
  <dc:description/>
  <dc:language>en-US</dc:language>
  <cp:lastModifiedBy>LAN_OS</cp:lastModifiedBy>
  <dcterms:modified xsi:type="dcterms:W3CDTF">2010-12-04T17:00:43Z</dcterms:modified>
  <cp:revision>5</cp:revision>
  <dc:subject/>
  <dc:title>Слайд 1</dc:title>
</cp:coreProperties>
</file>