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C96-2B15-4001-925B-4222348E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4F9-7868-482F-B7FC-E3B099A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B2A-8C6E-43E0-9E7D-A409FFA5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C4D-67E0-445B-95C7-DE55DD6F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4681-BB03-4E2B-A9AA-F45524E6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06E4-AB31-4A8A-8F62-A1C6C853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C62-D931-458A-A48B-0F0D262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C6CA-6709-40EC-8288-4405CF0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7AB5-2D2C-4C89-B18E-A375B728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DB9A-4BDE-430A-A6FD-8F4BB73B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86B7-CE78-4B37-B8A5-F794D7E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34D-C541-4D17-BF10-0408CBB6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CF61-8A10-412E-B840-44B1EE8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DE3-AE16-4C66-BFA6-F3C5F35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3BE-8641-4CFA-A467-7FFA871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8FD0-5C5E-4715-9AF9-53B0324A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B775-8F07-4AB5-AFA6-31AF8043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57F-FF77-423F-A526-401180E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40A-311B-4B68-9C23-65FDC70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018-6611-4FE4-BCC9-6D9AA38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095-5A9A-4A07-B71D-E61856C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66E-CB25-4D62-9BA1-AAC0ADE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FB7-6E8F-4162-924C-52C81C6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5A4-BE0E-481B-A69E-AFB9C258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9C50-3A84-45FC-BB8C-80A65C8921C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5C8-90E9-4518-8002-B863F1354CA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 – біздің екінші үйімі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76640"/>
            <a:ext cx="9144000" cy="475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Asilbek Ensepov - Gafiz.mp3" descr=""/>
          <p:cNvPicPr/>
          <p:nvPr/>
        </p:nvPicPr>
        <p:blipFill>
          <a:blip r:embed="rId3"/>
          <a:stretch/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Сөйлемнің дұрыс+, бұрысын- анықт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1.Табиғат пен адам – біртұт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2. Бұлақтардың көзін ашу ешкімге керек ем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3. Су бар жерде – тіршілік жо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4.Орман – ауаны тазартп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5. Бізді қоршаған орта тап- таз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Көп нүктенің орнына тиісті әріптерді қойып,көшіріп жазыңдар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у ...ан жер  таби...аты – хал...ымыздың ұлт..ық мақтанын...шы. Сонд...қтан оны а...лап  қор... ауға үлес қ...су – бізд..ң  азама...тық бор...шымы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Ассоциация құр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карта 009"/>
          <p:cNvPicPr/>
          <p:nvPr/>
        </p:nvPicPr>
        <p:blipFill>
          <a:blip r:embed="rId1"/>
          <a:stretch/>
        </p:blipFill>
        <p:spPr>
          <a:xfrm>
            <a:off x="539640" y="2205000"/>
            <a:ext cx="860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kk-KZ" sz="3600" spc="-1" strike="noStrike">
                <a:solidFill>
                  <a:srgbClr val="cc0000"/>
                </a:solidFill>
                <a:latin typeface="Arial"/>
              </a:rPr>
              <a:t>Тілшімен сұб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карта 004"/>
          <p:cNvPicPr/>
          <p:nvPr/>
        </p:nvPicPr>
        <p:blipFill>
          <a:blip r:embed="rId1"/>
          <a:stretch/>
        </p:blipFill>
        <p:spPr>
          <a:xfrm>
            <a:off x="755640" y="2349360"/>
            <a:ext cx="8388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2362320"/>
          <a:ext cx="7693200" cy="3736800"/>
        </p:xfrm>
        <a:graphic>
          <a:graphicData uri="http://schemas.openxmlformats.org/drawingml/2006/table">
            <a:tbl>
              <a:tblPr/>
              <a:tblGrid>
                <a:gridCol w="341280"/>
                <a:gridCol w="328680"/>
                <a:gridCol w="398520"/>
                <a:gridCol w="355680"/>
                <a:gridCol w="371520"/>
                <a:gridCol w="355680"/>
                <a:gridCol w="326880"/>
                <a:gridCol w="328680"/>
                <a:gridCol w="326880"/>
                <a:gridCol w="285840"/>
                <a:gridCol w="369720"/>
                <a:gridCol w="328680"/>
                <a:gridCol w="284040"/>
                <a:gridCol w="327240"/>
                <a:gridCol w="328680"/>
                <a:gridCol w="298440"/>
                <a:gridCol w="285480"/>
                <a:gridCol w="684360"/>
                <a:gridCol w="682560"/>
                <a:gridCol w="684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050 Aktan-Esimde.mp3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02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473040"/>
                <a:gridCol w="473400"/>
                <a:gridCol w="453960"/>
                <a:gridCol w="434880"/>
                <a:gridCol w="530280"/>
                <a:gridCol w="473040"/>
                <a:gridCol w="492120"/>
                <a:gridCol w="473040"/>
                <a:gridCol w="434880"/>
                <a:gridCol w="436680"/>
                <a:gridCol w="434880"/>
                <a:gridCol w="406440"/>
                <a:gridCol w="492120"/>
                <a:gridCol w="434880"/>
                <a:gridCol w="379440"/>
                <a:gridCol w="435240"/>
                <a:gridCol w="43488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Қорытын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336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биғатты қорғау үшін б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Күресейік, бір-бір ағаш егейі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екке отырмай жасымыз бен к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за ауа үшін терімізді төгейі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050 Aktan-Esimde.mp3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02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Таза болса табиғат, аман болар адамза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уа - өмірі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– қазына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- үйің, атамекенің.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Сабақтың  жоспа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8244000" cy="4437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 шақы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Бейнефильм “ Қазақстанның табиғаты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Мәтінмен жұмы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Өзіңді тексе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Ассоциация құ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ілшімен сұхба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лан, тап. Сөзжұмба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Үйге тапсыр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Қорытын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Ой шақыр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Адамның десі сау болу үшін не істеу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үгінде жер бетінде қандай мәселе өзекті мәселеге айналд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Дүниежүзілік мәселе қандай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із қандай үлес қосуымыз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Табиғатты  қорғау дегеніміз – адамның өзін-өзі қорға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3724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5950080"/>
            <a:ext cx="914400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ff"/>
                </a:solidFill>
                <a:latin typeface="Arial"/>
              </a:rPr>
              <a:t>Енді,табиғат, экологиялық мәселелер жөнінде кім не айтқысы келеді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Бейнефильм ”Қазақстанның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              табиғаты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2276640"/>
            <a:ext cx="9144000" cy="4208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ты қорғанда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абиғат – халық қазынасы. Сондықтан біз оның байлығын пайдалана отырып, қорғай білуіміз қажет.Соған байланысты 1966 жылы біздің елімізде “Халықаралық табиғат қорғау қоғамы” құрылды. Оның басты мақсаты- саны сиреп, құрып бара жатқан аң, құстарды, өсімдіктрді қамқорлыққа алып, арнайы кітапқа тіркеу. Мұндай кітапты “ Қызыл  кітап “ деп ат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Өзіңді текс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Бастауыш пен баяндауыш арасына сызықша қойыңы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пен адам  біртұта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тіршілік көзі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тірі дү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йлақтың аты  Байқоңы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біздің ортақ үйімі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Сөйлемдегі баяндауыштың орнын толықтырып, астын сыз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Адам баласы табиғатты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Біз бұлақтардың көзін  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Су мол болса, астық та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абиғаты сақталған халықтар ұзақ өмір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Экологиясы төмен аймақтарымыз көбейіп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0000"/>
                </a:solidFill>
                <a:latin typeface="Arial"/>
              </a:rPr>
              <a:t>Керекті сөздер: </a:t>
            </a:r>
            <a:r>
              <a:rPr b="1" lang="kk-KZ" sz="2400" spc="-1" strike="noStrike">
                <a:solidFill>
                  <a:srgbClr val="006666"/>
                </a:solidFill>
                <a:latin typeface="Arial"/>
              </a:rPr>
              <a:t>сүреді, барады, қорғау тиіс, аштық, мол бола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976640" y="242100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735440" y="277956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328284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7164360" y="375588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569360" y="411480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06:03Z</dcterms:created>
  <dc:creator>Айтжановы</dc:creator>
  <dc:description/>
  <dc:language>en-US</dc:language>
  <cp:lastModifiedBy>21</cp:lastModifiedBy>
  <dcterms:modified xsi:type="dcterms:W3CDTF">2013-03-19T02:30:03Z</dcterms:modified>
  <cp:revision>4</cp:revision>
  <dc:subject/>
  <dc:title>Ќазаќстан – біздіѕ екінші їйімі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110</vt:lpwstr>
  </property>
</Properties>
</file>