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23.png" ContentType="image/png"/>
  <Override PartName="/ppt/media/image7.gif" ContentType="image/gif"/>
  <Override PartName="/ppt/media/image12.jpeg" ContentType="image/jpeg"/>
  <Override PartName="/ppt/media/image6.png" ContentType="image/png"/>
  <Override PartName="/ppt/media/image5.wmf" ContentType="image/x-wmf"/>
  <Override PartName="/ppt/media/image22.jpeg" ContentType="image/jpeg"/>
  <Override PartName="/ppt/media/image1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DCBB-6F6B-428E-8F2D-5A3D3B44F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B9AF-A1D6-4684-B011-9379A214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7166-BE91-461F-ACCF-F0A582010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89E8-C4F6-43E6-B20B-28DBAD34B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16FC-6E8A-43C3-824A-FFCB0CEC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A31B-860C-401D-B1CE-21D7EB73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DBD0-2D57-4808-A407-8DB37CBB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30F4-0463-43FE-AEA5-2C92153B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F0FE-1768-42B1-8EB5-9DC583AA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51DE-3703-43D1-A4DD-1B573225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C076-6205-44B2-95BF-6C0F423C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8D7A-476D-456D-B8D8-D6D12A12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F589-2642-4AEF-A3C2-ED9D2039166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Автомобиль. Дорога. Пешеход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i-main-pic" descr="Картинка 88 из 2345"/>
          <p:cNvPicPr/>
          <p:nvPr/>
        </p:nvPicPr>
        <p:blipFill>
          <a:blip r:embed="rId1"/>
          <a:stretch/>
        </p:blipFill>
        <p:spPr>
          <a:xfrm>
            <a:off x="1474920" y="1773360"/>
            <a:ext cx="60483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928800" y="260280"/>
            <a:ext cx="256356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ДТП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4859280" y="3789360"/>
            <a:ext cx="3954600" cy="2808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2"/>
          <a:stretch/>
        </p:blipFill>
        <p:spPr>
          <a:xfrm>
            <a:off x="468360" y="3789360"/>
            <a:ext cx="4032360" cy="2808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"/>
          <p:cNvPicPr/>
          <p:nvPr/>
        </p:nvPicPr>
        <p:blipFill>
          <a:blip r:embed="rId3"/>
          <a:stretch/>
        </p:blipFill>
        <p:spPr>
          <a:xfrm>
            <a:off x="3708360" y="268200"/>
            <a:ext cx="424836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8" descr="Безымянный"/>
          <p:cNvPicPr/>
          <p:nvPr/>
        </p:nvPicPr>
        <p:blipFill>
          <a:blip r:embed="rId1"/>
          <a:stretch/>
        </p:blipFill>
        <p:spPr>
          <a:xfrm>
            <a:off x="-714240" y="0"/>
            <a:ext cx="1021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Picture 3" descr="dotbordr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PASTEL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dotbordr"/>
          <p:cNvPicPr/>
          <p:nvPr/>
        </p:nvPicPr>
        <p:blipFill>
          <a:blip r:embed="rId3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1567800" y="0"/>
            <a:ext cx="33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орожный зна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09480" y="5943600"/>
            <a:ext cx="809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99"/>
                </a:solidFill>
                <a:latin typeface="Comic Sans MS"/>
              </a:rPr>
              <a:t>Нужны для регулирования движения транспорта и пешеход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WordArt 6"/>
          <p:cNvSpPr txBox="1"/>
          <p:nvPr/>
        </p:nvSpPr>
        <p:spPr>
          <a:xfrm>
            <a:off x="2057400" y="685800"/>
            <a:ext cx="670572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-табличка со схематическим рисунком, 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помогающим регулировать движение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97" name="WordArt 7"/>
          <p:cNvSpPr txBox="1"/>
          <p:nvPr/>
        </p:nvSpPr>
        <p:spPr>
          <a:xfrm>
            <a:off x="5867280" y="1905120"/>
            <a:ext cx="2590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едупреждающие</a:t>
            </a:r>
            <a:endParaRPr b="1" i="1" lang="en-US" sz="20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8" name="WordArt 8"/>
          <p:cNvSpPr txBox="1"/>
          <p:nvPr/>
        </p:nvSpPr>
        <p:spPr>
          <a:xfrm>
            <a:off x="1219320" y="1981080"/>
            <a:ext cx="2514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Запрещающие </a:t>
            </a:r>
            <a:endParaRPr b="1" i="1" lang="en-US" sz="20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WordArt 9"/>
          <p:cNvSpPr txBox="1"/>
          <p:nvPr/>
        </p:nvSpPr>
        <p:spPr>
          <a:xfrm>
            <a:off x="1143000" y="2971800"/>
            <a:ext cx="2666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Предписывающие </a:t>
            </a:r>
            <a:endParaRPr b="1" i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0" name="WordArt 10"/>
          <p:cNvSpPr txBox="1"/>
          <p:nvPr/>
        </p:nvSpPr>
        <p:spPr>
          <a:xfrm>
            <a:off x="5867280" y="3048120"/>
            <a:ext cx="3048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Знаки приоритета</a:t>
            </a:r>
            <a:endParaRPr b="1" i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1" name="WordArt 11"/>
          <p:cNvSpPr txBox="1"/>
          <p:nvPr/>
        </p:nvSpPr>
        <p:spPr>
          <a:xfrm>
            <a:off x="2362320" y="4267080"/>
            <a:ext cx="4800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Знаки сервиса и </a:t>
            </a:r>
            <a:endParaRPr b="1" i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дополнительной информации</a:t>
            </a:r>
            <a:endParaRPr b="1" i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1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1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7" nodeType="afterEffect" fill="hold" presetClass="entr" presetID="1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1" nodeType="afterEffect" fill="hold" presetClass="entr" presetID="1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5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Виды дорожных знаков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ешеходный перехо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2987640" y="3141720"/>
            <a:ext cx="30970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371600" y="713880"/>
            <a:ext cx="6400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ешеходная зон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2340000" y="2133720"/>
            <a:ext cx="4322880" cy="37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Запрет движения на велосипед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2916360" y="2276640"/>
            <a:ext cx="35701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Дети на дорог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Picture 3" descr="028"/>
          <p:cNvPicPr/>
          <p:nvPr/>
        </p:nvPicPr>
        <p:blipFill>
          <a:blip r:embed="rId1"/>
          <a:stretch/>
        </p:blipFill>
        <p:spPr>
          <a:xfrm>
            <a:off x="2627280" y="2133720"/>
            <a:ext cx="36432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Выберите правильные пункт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365840" y="1600200"/>
            <a:ext cx="58438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апрещается ездить на велосипеде с неисправным рул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066680" y="2133720"/>
            <a:ext cx="640080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зрешается ездить по тротуар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066680" y="2666880"/>
            <a:ext cx="640080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зрешается ездить, не держась за ру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066680" y="3200400"/>
            <a:ext cx="640080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апрещается перевозить пассажиров старше 7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066680" y="3733920"/>
            <a:ext cx="640080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зрешается ездить по дороге без световых прибо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066680" y="4267080"/>
            <a:ext cx="640080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апрещается ездить без звукового сигна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066680" y="4800600"/>
            <a:ext cx="640080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Ездить на велосипеде разрешено лицам с 14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1066680" y="5334120"/>
            <a:ext cx="640080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апрещается ездить парами по ширине доро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285840" y="6072120"/>
            <a:ext cx="228600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6629400" y="6019920"/>
            <a:ext cx="22860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вер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1087920" y="1600200"/>
            <a:ext cx="58438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рещается ездить на велосипеде с неисправным рул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1066680" y="2133720"/>
            <a:ext cx="64008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решается ездить по тротуар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1066680" y="2666880"/>
            <a:ext cx="64008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решается ездить, не держась за ру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1066680" y="3200400"/>
            <a:ext cx="64008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рещается перевозить пассажиров старше 7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9"/>
          <p:cNvSpPr/>
          <p:nvPr/>
        </p:nvSpPr>
        <p:spPr>
          <a:xfrm>
            <a:off x="1066680" y="3733920"/>
            <a:ext cx="640080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зрешается ездить по дороге без световых прибо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1066680" y="3733920"/>
            <a:ext cx="64008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решается ездить по дороге без световых прибо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21"/>
          <p:cNvSpPr/>
          <p:nvPr/>
        </p:nvSpPr>
        <p:spPr>
          <a:xfrm>
            <a:off x="1066680" y="4267080"/>
            <a:ext cx="64008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рещается ездить без звукового сигна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1066680" y="4800600"/>
            <a:ext cx="640080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Ездить на велосипеде разрешено лицам с 14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1066680" y="4800600"/>
            <a:ext cx="64008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здить на велосипеде разрешено лицам с 14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24"/>
          <p:cNvSpPr/>
          <p:nvPr/>
        </p:nvSpPr>
        <p:spPr>
          <a:xfrm>
            <a:off x="1066680" y="5334120"/>
            <a:ext cx="64008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рещается ездить парами по ширине доро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Запомните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142880" y="1285560"/>
            <a:ext cx="45435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876"/>
              </a:spcBef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efac9"/>
                </a:solidFill>
                <a:latin typeface="Calibri"/>
              </a:rPr>
              <a:t>    </a:t>
            </a:r>
            <a:r>
              <a:rPr b="1" lang="ru-RU" sz="3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Не перебегайте улиц и дорог перед близко  движущимся                             транспортом – это очень </a:t>
            </a:r>
            <a:r>
              <a:rPr b="1" lang="ru-RU" sz="3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опасно</a:t>
            </a:r>
            <a:r>
              <a:rPr b="1" lang="ru-RU" sz="3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 для жизни.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876"/>
              </a:spcBef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Ни одно даже самое важное дело 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    </a:t>
            </a:r>
            <a:r>
              <a:rPr b="1" lang="ru-RU" sz="3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не  стоит 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      </a:t>
            </a:r>
            <a:r>
              <a:rPr b="1" lang="ru-RU" sz="3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вашей жизни</a:t>
            </a:r>
            <a:r>
              <a:rPr b="1" lang="ru-RU" sz="3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!!!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70000"/>
              </a:lnSpc>
              <a:spcBef>
                <a:spcPts val="476"/>
              </a:spcBef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36133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амятка при переходе дорог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Прямоугольник 4"/>
          <p:cNvSpPr/>
          <p:nvPr/>
        </p:nvSpPr>
        <p:spPr>
          <a:xfrm>
            <a:off x="5000760" y="2286000"/>
            <a:ext cx="371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Умей не только видеть , но и слышать улицу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Обращай внимание на сигналы автомобиля (указатели поворота, заднего хода, тормоза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Контролируй свои движения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         </a:t>
            </a: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поворот головы для осмотра дороги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         </a:t>
            </a: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остановку для пропуска автомобил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PAST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78560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Дорожная Академ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5715000"/>
            <a:ext cx="64008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  <a:ea typeface="Aharoni"/>
              </a:rPr>
              <a:t>«Дисциплина на улице – залог безопасности»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Picture 10" descr="пдд2"/>
          <p:cNvPicPr/>
          <p:nvPr/>
        </p:nvPicPr>
        <p:blipFill>
          <a:blip r:embed="rId2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HAPPYBOY"/>
          <p:cNvPicPr/>
          <p:nvPr/>
        </p:nvPicPr>
        <p:blipFill>
          <a:blip r:embed="rId3"/>
          <a:stretch/>
        </p:blipFill>
        <p:spPr>
          <a:xfrm>
            <a:off x="2928960" y="3357720"/>
            <a:ext cx="1152360" cy="1871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MIS105"/>
          <p:cNvPicPr/>
          <p:nvPr/>
        </p:nvPicPr>
        <p:blipFill>
          <a:blip r:embed="rId4"/>
          <a:stretch/>
        </p:blipFill>
        <p:spPr>
          <a:xfrm>
            <a:off x="4857840" y="3000240"/>
            <a:ext cx="160812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18"/>
          <p:cNvSpPr/>
          <p:nvPr/>
        </p:nvSpPr>
        <p:spPr>
          <a:xfrm>
            <a:off x="4572000" y="1219320"/>
            <a:ext cx="0" cy="5638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19"/>
          <p:cNvSpPr/>
          <p:nvPr/>
        </p:nvSpPr>
        <p:spPr>
          <a:xfrm>
            <a:off x="0" y="167652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амый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ревний вид транспор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304920" y="281952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амый распространенный вид транспор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228600" y="441972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амый быстрый вид транспор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2"/>
          <p:cNvSpPr/>
          <p:nvPr/>
        </p:nvSpPr>
        <p:spPr>
          <a:xfrm>
            <a:off x="380880" y="556272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амый мелкомасштабный вид транспорта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257800" y="44197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ОД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4"/>
          <p:cNvSpPr/>
          <p:nvPr/>
        </p:nvSpPr>
        <p:spPr>
          <a:xfrm>
            <a:off x="5105520" y="17524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АВТОМОБИ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5"/>
          <p:cNvSpPr/>
          <p:nvPr/>
        </p:nvSpPr>
        <p:spPr>
          <a:xfrm>
            <a:off x="5257800" y="5715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ОЗДУШ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6"/>
          <p:cNvSpPr/>
          <p:nvPr/>
        </p:nvSpPr>
        <p:spPr>
          <a:xfrm>
            <a:off x="5105520" y="30481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ЖЕЛЕЗНОДОРОЖ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33" descr="bar67"/>
          <p:cNvPicPr/>
          <p:nvPr/>
        </p:nvPicPr>
        <p:blipFill>
          <a:blip r:embed="rId1"/>
          <a:stretch/>
        </p:blipFill>
        <p:spPr>
          <a:xfrm rot="5400000">
            <a:off x="1793160" y="3921120"/>
            <a:ext cx="5638680" cy="235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28240" y="457200"/>
            <a:ext cx="8534520" cy="8380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сставьте в нужном порядке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0.01783 L 0.01667 0.20232 E">
                                      <p:cBhvr>
                                        <p:cTn id="75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778 E">
                                      <p:cBhvr>
                                        <p:cTn id="77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07407E-006 L 3.33333E-006 -0.39329 E">
                                      <p:cBhvr>
                                        <p:cTn id="79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4 E">
                                      <p:cBhvr>
                                        <p:cTn id="81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4"/>
          <p:cNvSpPr txBox="1"/>
          <p:nvPr/>
        </p:nvSpPr>
        <p:spPr>
          <a:xfrm>
            <a:off x="2357280" y="457200"/>
            <a:ext cx="43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Подзаголовок 2"/>
          <p:cNvSpPr/>
          <p:nvPr/>
        </p:nvSpPr>
        <p:spPr>
          <a:xfrm>
            <a:off x="428760" y="3143160"/>
            <a:ext cx="235728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етрен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Box 17"/>
          <p:cNvSpPr/>
          <p:nvPr/>
        </p:nvSpPr>
        <p:spPr>
          <a:xfrm>
            <a:off x="6286680" y="31431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есн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22"/>
          <p:cNvSpPr/>
          <p:nvPr/>
        </p:nvSpPr>
        <p:spPr>
          <a:xfrm>
            <a:off x="428760" y="616572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кипа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Рисунок 3" descr="H:\Documents and Settings\Гость\Рабочий стол\enc_0399.jpg"/>
          <p:cNvPicPr/>
          <p:nvPr/>
        </p:nvPicPr>
        <p:blipFill>
          <a:blip r:embed="rId1"/>
          <a:stretch/>
        </p:blipFill>
        <p:spPr>
          <a:xfrm>
            <a:off x="179280" y="549360"/>
            <a:ext cx="2739960" cy="2519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H:\Documents and Settings\Гость\Рабочий стол\D5YL9CA2JMW8DCA2T5C2BCAIHO6Z2CADRBV99CAYMLKWHCA4BCSUHCAMEPCM8CA6N1UGKCAH5ZC1MCAP452OBCAZZSAXPCATXSZ9DCAJ9BDRHCA4J8AA3CAX5W6OYCAOBWSG1CAPH60OCCAE75V4NCA26GASM.jpg"/>
          <p:cNvPicPr/>
          <p:nvPr/>
        </p:nvPicPr>
        <p:blipFill>
          <a:blip r:embed="rId2"/>
          <a:stretch/>
        </p:blipFill>
        <p:spPr>
          <a:xfrm>
            <a:off x="3203640" y="549360"/>
            <a:ext cx="2611440" cy="2525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H:\Documents and Settings\Гость\Рабочий стол\parmobile2.jpg"/>
          <p:cNvPicPr/>
          <p:nvPr/>
        </p:nvPicPr>
        <p:blipFill>
          <a:blip r:embed="rId3"/>
          <a:stretch/>
        </p:blipFill>
        <p:spPr>
          <a:xfrm>
            <a:off x="3132000" y="3933720"/>
            <a:ext cx="2664000" cy="2203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:\Documents and Settings\Гость\Рабочий стол\B5U80CAUQ9561CAWG0CXOCAMQIDWUCAGLEB9WCADLD6YBCAXYUV6SCAR8CT09CAKYGJZ6CAUQH1QYCAADF3A4CA7JEVQHCAAHKTNUCA7B93H0CAFROSNACA11Z7XUCAAYBCCTCA8JZ306CA0KHBCVCAPT6G3Q.jpg"/>
          <p:cNvPicPr/>
          <p:nvPr/>
        </p:nvPicPr>
        <p:blipFill>
          <a:blip r:embed="rId4"/>
          <a:stretch/>
        </p:blipFill>
        <p:spPr>
          <a:xfrm>
            <a:off x="6156360" y="549360"/>
            <a:ext cx="2608200" cy="2525760"/>
          </a:xfrm>
          <a:prstGeom prst="rect">
            <a:avLst/>
          </a:prstGeom>
          <a:ln w="0">
            <a:noFill/>
          </a:ln>
        </p:spPr>
      </p:pic>
      <p:sp>
        <p:nvSpPr>
          <p:cNvPr id="69" name="TextBox 17"/>
          <p:cNvSpPr/>
          <p:nvPr/>
        </p:nvSpPr>
        <p:spPr>
          <a:xfrm>
            <a:off x="6296040" y="3146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есн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Рисунок 18" descr="карета"/>
          <p:cNvPicPr/>
          <p:nvPr/>
        </p:nvPicPr>
        <p:blipFill>
          <a:blip r:embed="rId5"/>
          <a:stretch/>
        </p:blipFill>
        <p:spPr>
          <a:xfrm>
            <a:off x="250920" y="3933720"/>
            <a:ext cx="2592360" cy="2232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21"/>
          <p:cNvSpPr/>
          <p:nvPr/>
        </p:nvSpPr>
        <p:spPr>
          <a:xfrm>
            <a:off x="3295800" y="616572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ромоби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5" descr="H:\Documents and Settings\Гость\Рабочий стол\TkyUUhAEKN.jpg"/>
          <p:cNvPicPr/>
          <p:nvPr/>
        </p:nvPicPr>
        <p:blipFill>
          <a:blip r:embed="rId6"/>
          <a:stretch/>
        </p:blipFill>
        <p:spPr>
          <a:xfrm>
            <a:off x="6012000" y="3933720"/>
            <a:ext cx="2832120" cy="2232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25"/>
          <p:cNvSpPr/>
          <p:nvPr/>
        </p:nvSpPr>
        <p:spPr>
          <a:xfrm>
            <a:off x="5581800" y="616572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вый автомоби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Подзаголовок 2"/>
          <p:cNvSpPr/>
          <p:nvPr/>
        </p:nvSpPr>
        <p:spPr>
          <a:xfrm>
            <a:off x="971640" y="3143160"/>
            <a:ext cx="727236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ервая  повоз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истик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28480"/>
            <a:ext cx="8686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Ежегодно в мире в результате ДТП погибают и получают ранения более </a:t>
            </a:r>
            <a:r>
              <a:rPr b="1" lang="ru-RU" sz="2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50 млн.</a:t>
            </a:r>
            <a:r>
              <a:rPr b="1" lang="ru-RU" sz="2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 человек.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По данным Всемирного банка глобальные экономические потери составляют более </a:t>
            </a:r>
            <a:r>
              <a:rPr b="1" lang="ru-RU" sz="2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500 млрд.</a:t>
            </a:r>
            <a:r>
              <a:rPr b="1" lang="ru-RU" sz="2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 долларов в год.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Всемирная организация здравоохранения  свидетельствует, что на долю ДТП приходится более </a:t>
            </a:r>
            <a:r>
              <a:rPr b="1" lang="ru-RU" sz="2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30% смертельных исходов</a:t>
            </a:r>
            <a:r>
              <a:rPr b="1" lang="ru-RU" sz="2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 от всех несчастных случаев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 </a:t>
            </a:r>
            <a:r>
              <a:rPr b="1" lang="ru-RU" sz="2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В ХХ веке автомобиль стал причиной смерти около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      </a:t>
            </a:r>
            <a:r>
              <a:rPr b="1" lang="ru-RU" sz="2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30 млн. человек.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В России потери, связанные  с ДТП в несколько раз превышают ущерб от  железнодорожных катастроф, пожаров и других видов несчастных случаев.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Масштаб ДТП угрожает национальной безопасности.                  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efac9"/>
                </a:solidFill>
                <a:latin typeface="Calibri"/>
              </a:rPr>
              <a:t>                              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efac9"/>
                </a:solidFill>
                <a:latin typeface="Calibri"/>
              </a:rPr>
              <a:t>                              </a:t>
            </a:r>
            <a:r>
              <a:rPr b="1" lang="ru-RU" sz="1900" spc="-1" strike="noStrike">
                <a:solidFill>
                  <a:srgbClr val="fefac9"/>
                </a:solidFill>
                <a:latin typeface="Calibri"/>
              </a:rPr>
              <a:t>Из доклада рабочей группы  Президиума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efac9"/>
                </a:solidFill>
                <a:latin typeface="Calibri"/>
              </a:rPr>
              <a:t>                              </a:t>
            </a:r>
            <a:r>
              <a:rPr b="1" lang="ru-RU" sz="1900" spc="-1" strike="noStrike">
                <a:solidFill>
                  <a:srgbClr val="fefac9"/>
                </a:solidFill>
                <a:latin typeface="Calibri"/>
              </a:rPr>
              <a:t>Государственного совета Российской  федерации.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рогноз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По данным Всемирной организации здравоохранения , если срочно не предпринять мер , то в ближайшие годы уровень смертности на дорогах  мира </a:t>
            </a:r>
            <a:r>
              <a:rPr b="1" lang="ru-RU" sz="3200" spc="-1" strike="noStrike">
                <a:solidFill>
                  <a:srgbClr val="ff0066"/>
                </a:solidFill>
                <a:latin typeface="Calibri"/>
              </a:rPr>
              <a:t>вырастет на 60%.</a:t>
            </a: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 И этим Земля будет обязана странам с низким и средним уровнем доходов населения, где из-за плохих дорог , старых автомобилей и отсутствия водительской культуры рост смертности может достичь </a:t>
            </a:r>
            <a:r>
              <a:rPr b="1" lang="ru-RU" sz="3200" spc="-1" strike="noStrike">
                <a:solidFill>
                  <a:srgbClr val="ff0066"/>
                </a:solidFill>
                <a:latin typeface="Calibri"/>
              </a:rPr>
              <a:t>83%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татистик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По итогам прошлого 2008 года в     России произошла </a:t>
            </a:r>
            <a:r>
              <a:rPr b="1" lang="ru-RU" sz="3200" spc="-1" strike="noStrike">
                <a:solidFill>
                  <a:srgbClr val="ff0066"/>
                </a:solidFill>
                <a:latin typeface="Calibri"/>
              </a:rPr>
              <a:t>23 851</a:t>
            </a: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 авария ,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в которых </a:t>
            </a:r>
            <a:r>
              <a:rPr b="1" lang="ru-RU" sz="3200" spc="-1" strike="noStrike">
                <a:solidFill>
                  <a:srgbClr val="ff0066"/>
                </a:solidFill>
                <a:latin typeface="Calibri"/>
              </a:rPr>
              <a:t>погибло 1116</a:t>
            </a: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 и ранено </a:t>
            </a:r>
            <a:r>
              <a:rPr b="1" lang="ru-RU" sz="3200" spc="-1" strike="noStrike">
                <a:solidFill>
                  <a:srgbClr val="ff0066"/>
                </a:solidFill>
                <a:latin typeface="Calibri"/>
              </a:rPr>
              <a:t>24 707</a:t>
            </a: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 школьников и дошколят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На пешеходов составлено </a:t>
            </a:r>
            <a:r>
              <a:rPr b="1" lang="ru-RU" sz="3200" spc="-1" strike="noStrike">
                <a:solidFill>
                  <a:srgbClr val="ff0066"/>
                </a:solidFill>
                <a:latin typeface="Calibri"/>
              </a:rPr>
              <a:t>560 тыс.</a:t>
            </a: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 протоколов за нарушение ПДД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Получается, что  </a:t>
            </a:r>
            <a:r>
              <a:rPr b="1" lang="ru-RU" sz="3200" spc="-1" strike="noStrike">
                <a:solidFill>
                  <a:srgbClr val="ff0066"/>
                </a:solidFill>
                <a:latin typeface="Calibri"/>
              </a:rPr>
              <a:t>каждый третий</a:t>
            </a: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 россиянин, включая младенцев и стариков, нарушил ПДД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ричины ДТП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ереход через проезжую часть вне установленных для перехода мест:  35-40%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еожиданный выход из-за движущихся или стоящих транспортных средств или других препятствий, мешающих обзору: 25-30%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еподчинение сигналам светофора: 10-15%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гры на проезжей части и ходьба по ней при наличии тротуара: -5-10%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6:17:29Z</dcterms:created>
  <dc:creator>Света</dc:creator>
  <dc:description/>
  <dc:language>en-US</dc:language>
  <cp:lastModifiedBy>21</cp:lastModifiedBy>
  <dcterms:modified xsi:type="dcterms:W3CDTF">2013-04-08T12:14:39Z</dcterms:modified>
  <cp:revision>19</cp:revision>
  <dc:subject/>
  <dc:title>Слайд 1</dc:title>
</cp:coreProperties>
</file>