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BF48-F50D-4290-A103-CAAEB3E4AD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C17E-A5CE-4BBA-9451-CFDA13A4E0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5B7-E8E9-4F73-ABDF-EA5D1938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0F4-9DFB-4031-A395-69762EB2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430-1CCC-4BA2-8017-73220916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557-AD03-4636-8EDF-83419E4A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DE6B6-C1C0-4AFC-B1D0-8D141B06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B475C-6E24-49BA-99EC-A8071C27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247E0-7874-4C04-8120-40832C75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966CC-C533-488B-8841-60857CCB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72DAE-4DC0-46B2-B419-099E965D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C0739-86CB-4B3C-A783-A26A611C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14D8E-94AD-435A-BBD4-C071E39B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B88-0E2B-41B0-BE6D-FCBF8D11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D3C07-DC39-44AC-A1F3-9469D4D0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C035B-A1A4-4E9E-B310-93568DE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CB12C-D5BE-42C3-A53B-DD16BE92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939F5-9318-4E58-B169-97F1214D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92BAF-477B-4A11-ADAB-2037B76E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791B-AF8F-44BC-8967-37173FFE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9600-FFBA-4DCE-BB0F-279425C9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6146-5655-4921-9C83-79CE4DBA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4FA6-0B6F-4E35-AFD3-848CF0C4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27B47-7B71-4DC5-A558-E6AAFDA5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1C8-8274-45A0-A740-84089C6E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BF05-7EE7-482E-9AD5-3F5B2863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3F6FD-2AC2-4C2F-9C86-F2C24C35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14CA5-3A54-43AD-B199-59727688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FDB8-3013-4FFC-A555-FB6D7DE2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B1C5-6010-497E-BD2E-B35F12B4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62BB-F181-40A2-85DF-19FD9406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346C4-B14E-4C59-9594-43FB6020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C489F-E735-4365-8D94-2D1868F4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1EF02C-B879-4320-A612-F365133F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B4E6B7-65B9-45FB-B6B5-BC1F76CA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7DE-0491-468C-8C26-70A892F6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6BBD90-935E-454B-B8D9-C41A7B81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E5598-6D02-459F-A633-BA5AE75C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775A1-7BE9-468F-B543-AC0ABBDE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95BDE-934B-47D2-952A-241C430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C66E60-787B-42A4-944C-18883497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30289-2BA1-40C4-9E5C-5762FE9A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F623D-FAE8-41C4-97AE-D44B0FCF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DD66A0-60B1-4B62-BBE1-821B12E2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D9848-FA56-4288-B4B3-40B083F2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FF8-F170-4B0B-82C1-BEB6F56E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D69-7E28-4B8D-BABF-EEE35BE8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61D-E6E2-4D04-941C-FB7B4454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01A-37CA-4636-BF3D-6C6316C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3E9-5499-46B3-9702-E0AF3784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5914-69B0-4DEC-BFA3-4D77426CAEE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52ED-ACAF-4D20-92B7-7FC37D530F4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9C38-5533-4A24-BDE5-8EE2916F6F7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5C60-80D0-4C96-9952-87D93696C38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images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 rot="535200">
            <a:off x="3213000" y="3985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Segoe UI"/>
              </a:rPr>
              <a:t>У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4572000" y="42876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Segoe UI"/>
              </a:rPr>
              <a:t>ВНЕКЛАСС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Segoe UI"/>
              </a:rPr>
              <a:t>ЧТ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C:\Users\Елена\Documents\картинки ВЕСНА\голицын.jpg"/>
          <p:cNvPicPr/>
          <p:nvPr/>
        </p:nvPicPr>
        <p:blipFill>
          <a:blip r:embed="rId2"/>
          <a:stretch/>
        </p:blipFill>
        <p:spPr>
          <a:xfrm>
            <a:off x="-96840" y="122400"/>
            <a:ext cx="2760840" cy="3402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/>
          <p:cNvSpPr/>
          <p:nvPr/>
        </p:nvSpPr>
        <p:spPr>
          <a:xfrm>
            <a:off x="214200" y="3500280"/>
            <a:ext cx="21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909 – 1989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7" descr="images (15).jpg"/>
          <p:cNvPicPr/>
          <p:nvPr/>
        </p:nvPicPr>
        <p:blipFill>
          <a:blip r:embed="rId3"/>
          <a:stretch/>
        </p:blipFill>
        <p:spPr>
          <a:xfrm>
            <a:off x="6469200" y="5214960"/>
            <a:ext cx="2674800" cy="18525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6"/>
          <p:cNvSpPr/>
          <p:nvPr/>
        </p:nvSpPr>
        <p:spPr>
          <a:xfrm>
            <a:off x="4429080" y="2058840"/>
            <a:ext cx="35719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Monotype Corsiva"/>
              </a:rPr>
              <a:t>Серг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Monotype Corsiva"/>
              </a:rPr>
              <a:t>Михайлови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Monotype Corsiva"/>
              </a:rPr>
              <a:t>Голицы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</a:rPr>
              <a:t>«В поход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отрывок из  пов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«40 изыскателе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Елена\Documents\папирус\i (7).jpg"/>
          <p:cNvPicPr/>
          <p:nvPr/>
        </p:nvPicPr>
        <p:blipFill>
          <a:blip r:embed="rId1"/>
          <a:stretch/>
        </p:blipFill>
        <p:spPr>
          <a:xfrm>
            <a:off x="4140360" y="642960"/>
            <a:ext cx="5003640" cy="573876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" descr="http://lib.rus.ec/i/72/164272/any2fbimgloader1.png"/>
          <p:cNvPicPr/>
          <p:nvPr/>
        </p:nvPicPr>
        <p:blipFill>
          <a:blip r:embed="rId2"/>
          <a:stretch/>
        </p:blipFill>
        <p:spPr>
          <a:xfrm>
            <a:off x="214200" y="1000080"/>
            <a:ext cx="4714920" cy="4286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5076720" y="1643040"/>
            <a:ext cx="2567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Monotype Corsiva"/>
                <a:ea typeface="Arial"/>
              </a:rPr>
              <a:t>Станция</a:t>
            </a:r>
            <a:r>
              <a:rPr b="1" i="1" lang="ru-RU" sz="4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i="1" lang="ru-RU" sz="4800" spc="-1" strike="noStrike">
                <a:solidFill>
                  <a:srgbClr val="800000"/>
                </a:solidFill>
                <a:latin typeface="Monotype Corsiva"/>
                <a:ea typeface="Arial"/>
              </a:rPr>
              <a:t>“</a:t>
            </a:r>
            <a:r>
              <a:rPr b="1" i="1" lang="ru-RU" sz="4800" spc="-1" strike="noStrike">
                <a:solidFill>
                  <a:srgbClr val="c00000"/>
                </a:solidFill>
                <a:latin typeface="Monotype Corsiva"/>
                <a:ea typeface="Arial"/>
              </a:rPr>
              <a:t>Узна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Monotype Corsiva"/>
                <a:ea typeface="Arial"/>
              </a:rPr>
              <a:t>героя”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Елена\Documents\картинки ВЕСНА\L7SQ5CAEB691QCAOWFO7ECADLSIUGCAEKC7W0CAHX17CFCA02UTYKCAG13I3WCAT9W12LCAK1WEBUCAP6ONLOCA62WG8UCAS3ZGYQCACJ6T0HCA3TSSC3CAEDA9Q9CAV2I0LNCAGR044WCAJCOPM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642960" y="2142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000000"/>
                </a:solidFill>
                <a:uFillTx/>
                <a:latin typeface="Monotype Corsiva"/>
              </a:rPr>
              <a:t>Станция</a:t>
            </a: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: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«Привал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721160" y="2928960"/>
            <a:ext cx="640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ечевая размин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«Надуй шарик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3 -0.046 -0.16647 -0.113 -0.1718 C -0.177 -0.17846 -0.237 -0.11853 -0.241 -0.03196 C -0.246 0.04794 -0.204 0.12252 -0.144 0.12785 C -0.089 0.13185 -0.037 0.08257 -0.033 0.00799 C -0.029 -0.05993 -0.064 -0.12386 -0.115 -0.12918 C -0.162 -0.13318 -0.206 -0.09189 -0.209 -0.0293 C -0.212 0.02664 -0.184 0.08124 -0.142 0.0839 C -0.104 0.0879 -0.068 0.05594 -0.065 0.00533 C -0.063 -0.03995 -0.084 -0.0839 -0.117 -0.08657 C -0.146 -0.08923 -0.175 -0.06526 -0.177 -0.02664 C -0.179 0.00666 -0.164 0.03862 -0.14 0.04129 C -0.12 0.04395 -0.099 0.0293 -0.098 0.00266 C -0.096 -0.01865 -0.104 -0.04129 -0.119 -0.04395 C -0.131 -0.04395 -0.143 -0.03862 -0.145 -0.02397 C -0.146 -0.01465 -0.144 -0.00533 -0.138 -0.00133 C -0.135 0 -0.133 0 -0.13 -0.00133 E">
                                      <p:cBhvr>
                                        <p:cTn id="98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3 -0.046 -0.16647 -0.113 -0.1718 C -0.177 -0.17846 -0.237 -0.11853 -0.241 -0.03196 C -0.246 0.04794 -0.204 0.12252 -0.144 0.12785 C -0.089 0.13185 -0.037 0.08257 -0.033 0.00799 C -0.029 -0.05993 -0.064 -0.12386 -0.115 -0.12918 C -0.162 -0.13318 -0.206 -0.09189 -0.209 -0.0293 C -0.212 0.02664 -0.184 0.08124 -0.142 0.0839 C -0.104 0.0879 -0.068 0.05594 -0.065 0.00533 C -0.063 -0.03995 -0.084 -0.0839 -0.117 -0.08657 C -0.146 -0.08923 -0.175 -0.06526 -0.177 -0.02664 C -0.179 0.00666 -0.164 0.03862 -0.14 0.04129 C -0.12 0.04395 -0.099 0.0293 -0.098 0.00266 C -0.096 -0.01865 -0.104 -0.04129 -0.119 -0.04395 C -0.131 -0.04395 -0.143 -0.03862 -0.145 -0.02397 C -0.146 -0.01465 -0.144 -0.00533 -0.138 -0.00133 C -0.135 0 -0.133 0 -0.13 -0.00133 E">
                                      <p:cBhvr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103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106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22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1571760" y="0"/>
            <a:ext cx="4547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000000"/>
                </a:solidFill>
                <a:uFillTx/>
                <a:latin typeface="Monotype Corsiva"/>
              </a:rPr>
              <a:t>Станция:</a:t>
            </a:r>
            <a:r>
              <a:rPr b="1" lang="ru-RU" sz="8800" spc="-1" strike="noStrike" u="sng">
                <a:solidFill>
                  <a:srgbClr val="c00000"/>
                </a:solidFill>
                <a:uFillTx/>
                <a:latin typeface="Monotype Corsiva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 rot="21337800">
            <a:off x="509760" y="1557000"/>
            <a:ext cx="896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«ОЧумелые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ручки»</a:t>
            </a:r>
            <a:r>
              <a:rPr b="1" lang="ru-RU" sz="8000" spc="-1" strike="noStrike" u="sng">
                <a:solidFill>
                  <a:srgbClr val="ff0000"/>
                </a:solidFill>
                <a:uFillTx/>
                <a:latin typeface="Monotype Corsiv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Елена\Documents\картинки ВЕСНА\OIE6RCAU96EPPCAKDS7KGCAQPK7LZCAL23IDCCAEXTPYJCAPNCXAZCAG8SQAHCA9CVS24CA62G9O0CAD7FB67CAMGXCHNCATA5875CAQFIFUGCAAYHPYXCAWTKJK0CAM99LE3CAHKTCGQCAOJ12L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214200" y="785880"/>
            <a:ext cx="864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000000"/>
                </a:solidFill>
                <a:uFillTx/>
                <a:latin typeface="Monotype Corsiva"/>
              </a:rPr>
              <a:t>Станция:</a:t>
            </a: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“</a:t>
            </a: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Секреты-советы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C:\Users\Елена\Documents\гроза\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1928880" y="285840"/>
            <a:ext cx="600084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000000"/>
                </a:solidFill>
                <a:uFillTx/>
                <a:latin typeface="Monotype Corsiva"/>
              </a:rPr>
              <a:t>Станция: 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«У природы нет плохой погоды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ound"/>
          <p:cNvSpPr/>
          <p:nvPr/>
        </p:nvSpPr>
        <p:spPr>
          <a:xfrm>
            <a:off x="7451640" y="5805360"/>
            <a:ext cx="792360" cy="648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C:\Users\Елена\Documents\гроза\i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642960" y="214200"/>
            <a:ext cx="857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вести себя во время гроз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285840" y="857160"/>
            <a:ext cx="857232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Если вы купаетесь, как можно быстрее выходите на берег и отойдите  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одоема подальше. Молния, попавшая в воду, поражает все вокруг в радиу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коло 100 м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прячьтесь от грозы под деревьями и не стойте с ними рядом: если в дере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дарит молния, кора разлетится в радиусе 40-50 м. Чаще всего разря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падает в отдельно стоящие деревья, особенно высокие. Если гроза заста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ас в лесу, выйдите на поляну, присядьте на корточки, обхватите кол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уками и старайтесь не двига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збегайте больших открытых пространств, чтобы не «притянуть» разряд 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ебе. Если вы находитесь, например, в поле, найдите канаву,  овраг,  ямку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ереждите непо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ойдите как можно дальше от линий электропередачи и любых друг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еталлических конструкц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ключите сотовый телефон и не включайте, пока гроза не закончит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адиоволны, которые излучает мобильник, могут спровоцировать у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ол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Если вы находитесь в автомобиле, можете расслабиться – вы в безопас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о не забудьте выключить двигатель и закрыть все ок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ечку или камин лучше не топить в это время, так как выходящий из тру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ым обладает высокой электропроводностью, и вероятность удара мол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трубу возраста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3" descr="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3571920" y="0"/>
            <a:ext cx="55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должи фраз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1285920" y="92880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втор хотел сказать читателю: «Чтобы совершать далёкие путешествия, необходимы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4214880" y="1571760"/>
            <a:ext cx="4286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зн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трудовые навы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смека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смел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выдерж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ум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иходи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на помощ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друг др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4" descr="images (5).jpg"/>
          <p:cNvPicPr/>
          <p:nvPr/>
        </p:nvPicPr>
        <p:blipFill>
          <a:blip r:embed="rId1"/>
          <a:srcRect l="0" t="0" r="0" b="64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Скругленный прямоугольник 5"/>
          <p:cNvSpPr/>
          <p:nvPr/>
        </p:nvSpPr>
        <p:spPr>
          <a:xfrm rot="21130200">
            <a:off x="1009800" y="1719000"/>
            <a:ext cx="2928960" cy="2474640"/>
          </a:xfrm>
          <a:prstGeom prst="roundRect">
            <a:avLst>
              <a:gd name="adj" fmla="val 16667"/>
            </a:avLst>
          </a:prstGeom>
          <a:solidFill>
            <a:srgbClr val="faf2d4"/>
          </a:solidFill>
          <a:ln w="38160">
            <a:solidFill>
              <a:srgbClr val="faf2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 rot="21361800">
            <a:off x="882000" y="1730160"/>
            <a:ext cx="329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Чему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уч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э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роизведе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4357800" y="1571760"/>
            <a:ext cx="4000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друж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взаимопомощи в пох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терп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силе ду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смел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в преодолении                          препят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images (4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2786040" y="1785960"/>
            <a:ext cx="607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 rot="21188400">
            <a:off x="3900960" y="3674160"/>
            <a:ext cx="4278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Monotype Corsiva"/>
              </a:rPr>
              <a:t>Написать отзыв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Monotype Corsiva"/>
              </a:rPr>
              <a:t>о произведен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5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2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857160" y="35712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Вы  знаете,  как  сложила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судьба  ребя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000080" y="1571760"/>
            <a:ext cx="7572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Герои книги стали взрослыми, у н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у самих появились де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Соня,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например, стала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детским врачом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Миша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—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кандидат наук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, начальник отдела Научно-исследовательского института геологии.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Ларюша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стал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известны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        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художником,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его произведения есть и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в Третьяковской галер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6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1" descr="images (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4572000" y="242280"/>
            <a:ext cx="40719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c00000"/>
                </a:solidFill>
                <a:uFillTx/>
                <a:latin typeface="Georgia"/>
                <a:ea typeface="Times New Roman"/>
              </a:rPr>
              <a:t>Образовательные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  <a:ea typeface="Times New Roman"/>
              </a:rPr>
              <a:t>Формировать умения давать характеристики действующих лиц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скрыть понимание дружбы через поступки, мысли и чувства героев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мочь учащимся прочувствовать глубину отношений ребят, учить детей  понимать других, помогать в трудную минут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800000"/>
                </a:solidFill>
                <a:uFillTx/>
                <a:latin typeface="Georgia"/>
              </a:rPr>
              <a:t>Коррекционно-развивающие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Развивать умения анализировать текст, выделять главное и существенное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родолжить работу над устной речью. Уметь применять полученные знания в повседневной жизн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Обогащать словарный запас, развивать образное, творческое мышление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Расширять и уточнять знания о  профессиях, связанных с изыскательской деятельностью, развивать творческие умения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800000"/>
                </a:solidFill>
                <a:uFillTx/>
                <a:latin typeface="Georgia"/>
              </a:rPr>
              <a:t>Воспитывающие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Формировать активную жизненную позицию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родолжить работу над формированием таких качеств, как: креативность, коммуникабельность, любознательность, </a:t>
            </a:r>
            <a:r>
              <a:rPr b="1" lang="ru-RU" sz="1300" spc="-1" strike="noStrike">
                <a:solidFill>
                  <a:srgbClr val="ffffff"/>
                </a:solidFill>
                <a:latin typeface="Georgia"/>
              </a:rPr>
              <a:t>ответственность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3429000" y="428760"/>
            <a:ext cx="12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Georgia"/>
                <a:ea typeface="Times New Roman"/>
              </a:rPr>
              <a:t>Цель уро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 rot="513000">
            <a:off x="-9000" y="5262120"/>
            <a:ext cx="157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олицы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ПОХОД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 rot="20957400">
            <a:off x="8143560" y="5792760"/>
            <a:ext cx="9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4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285840" y="21420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660033"/>
                </a:solidFill>
                <a:uFillTx/>
                <a:latin typeface="Georgia"/>
                <a:ea typeface="Times New Roman"/>
              </a:rPr>
              <a:t>Образователь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Формировать умения давать характеристики действующих ли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скрыть понимание дружбы через поступки, мысли и чувства геро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мочь учащимся прочувствовать глубину отношений ребят, учить детей  понимать других, помогать в трудную мину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Georgia"/>
              </a:rPr>
              <a:t>Коррекционно-развивающ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звивать умения анализировать текст, выделять главное и существен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должить работу над устной речью. Уметь применять полученные знания в повседневно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огащать словарный запас, развивать образное, творческое мыш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сширять и уточнять знания о  профессиях, связанных с изыскательской деятельностью, развивать творческие ум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Georgia"/>
              </a:rPr>
              <a:t>Воспитывающ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ормировать активную жизненную позиц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должить работу над формированием таких качеств, как: креативность, коммуникабельность, любознательность,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ствен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http://lib.rus.ec/i/72/164272/povestf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1" descr="images (18).jpg"/>
          <p:cNvPicPr/>
          <p:nvPr/>
        </p:nvPicPr>
        <p:blipFill>
          <a:blip r:embed="rId1"/>
          <a:srcRect l="0" t="0" r="0" b="52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1143000" y="1000080"/>
            <a:ext cx="66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nstantia"/>
              </a:rPr>
              <a:t>«Шкатулка новых слов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2214720" y="1643040"/>
            <a:ext cx="661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 u="sng">
                <a:solidFill>
                  <a:srgbClr val="002060"/>
                </a:solidFill>
                <a:uFillTx/>
                <a:latin typeface="Georgia"/>
              </a:rPr>
              <a:t>Кто такие изыскате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000240" y="2214720"/>
            <a:ext cx="47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Это те мальчики и девочки, а также те взрослые, которые все время что-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4929120" y="3071880"/>
            <a:ext cx="2857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придумывают, изобретают, ищут — на земле, под водой, в воздухе и даже в космос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images (4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2"/>
          <p:cNvSpPr/>
          <p:nvPr/>
        </p:nvSpPr>
        <p:spPr>
          <a:xfrm>
            <a:off x="285840" y="714240"/>
            <a:ext cx="5786280" cy="10717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С какими изыскательскими профессиями вы познакомилис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2928960" y="2928960"/>
            <a:ext cx="5357880" cy="100008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3143160" y="5000760"/>
            <a:ext cx="4500720" cy="119988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зоолог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ота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гидролог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2928960" y="2857680"/>
            <a:ext cx="614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Топографы, сним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карты мест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C:\Users\Елена\Documents\картинки ВЕСНА\58VJJCAAK6ZQXCA6Z1TWQCAXHQQQLCA7MGOLCCAZIWRDNCATXLAEPCAASATWTCA82VQPUCA1RLHY3CARC3BH3CAH4V3XICADZ4CMHCAMS48EVCAJINQJDCA87TL0CCAH9FCHKCAN7SWMECAJK9W9U.jpg"/>
          <p:cNvPicPr/>
          <p:nvPr/>
        </p:nvPicPr>
        <p:blipFill>
          <a:blip r:embed="rId1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500040" y="0"/>
            <a:ext cx="869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Конкурс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«Я – изыскатель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73120" y="1785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vesjolyj_veter.mp3" descr=""/>
          <p:cNvPicPr/>
          <p:nvPr/>
        </p:nvPicPr>
        <p:blipFill>
          <a:blip r:embed="rId2"/>
          <a:stretch/>
        </p:blipFill>
        <p:spPr>
          <a:xfrm>
            <a:off x="571680" y="55008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428760" y="1500120"/>
            <a:ext cx="82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 Black"/>
              </a:rPr>
              <a:t>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Georgia"/>
              </a:rPr>
              <a:t>На столе лежат предме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e22b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e22ba"/>
                </a:solidFill>
                <a:latin typeface="Georgia"/>
              </a:rPr>
              <a:t>Вы должны взять только те предметы, которые понадобятся вам в походе</a:t>
            </a:r>
            <a:r>
              <a:rPr b="0" i="1" lang="ru-RU" sz="3200" spc="-1" strike="noStrike">
                <a:solidFill>
                  <a:srgbClr val="de22ba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6789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3429000" y="1500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0040" y="159120"/>
            <a:ext cx="86439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Станция: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«Слово о писател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Georgia"/>
                <a:ea typeface="Times New Roman"/>
              </a:rPr>
              <a:t>Сергей Михайлович Голицын (1909-198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детстве любимыми писателями Сергея Михайловича были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Пушкин, Толстой, Скотт</a:t>
            </a:r>
            <a:r>
              <a:rPr b="1" lang="ru-RU" sz="1600" spc="-1" strike="noStrike">
                <a:solidFill>
                  <a:srgbClr val="ff0066"/>
                </a:solidFill>
                <a:latin typeface="Georgia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ffc000"/>
                </a:solidFill>
                <a:latin typeface="Georgi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Окунувшись в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приключенческую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литературу, в нем проснулось желание стать писателем. После окончания школы, в 1927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году, он поступил на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Высшие литературные курсы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. Первые шаги в литературе ему помогает сделать друг его старшего брата Владимира писатель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Борис Житков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ервые детские рассказы Голицына начали публиковаться в 1930-х годах в детских журналах </a:t>
            </a:r>
            <a:r>
              <a:rPr b="1" lang="ru-RU" sz="1600" spc="-1" strike="noStrike">
                <a:solidFill>
                  <a:srgbClr val="ff0066"/>
                </a:solidFill>
                <a:latin typeface="Calibri"/>
                <a:ea typeface="Times New Roman"/>
              </a:rPr>
              <a:t>«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Чиж</a:t>
            </a:r>
            <a:r>
              <a:rPr b="1" lang="ru-RU" sz="1600" spc="-1" strike="noStrike">
                <a:solidFill>
                  <a:srgbClr val="ff0066"/>
                </a:solidFill>
                <a:latin typeface="Calibri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ff0066"/>
                </a:solidFill>
                <a:latin typeface="Georgia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ff0066"/>
                </a:solidFill>
                <a:latin typeface="Calibri"/>
                <a:ea typeface="Times New Roman"/>
              </a:rPr>
              <a:t>«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Мурзилка</a:t>
            </a:r>
            <a:r>
              <a:rPr b="1" lang="ru-RU" sz="1600" spc="-1" strike="noStrike">
                <a:solidFill>
                  <a:srgbClr val="ff0066"/>
                </a:solidFill>
                <a:latin typeface="Calibri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ff0066"/>
                </a:solidFill>
                <a:latin typeface="Georgia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Всемирный следопыт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. Однако сразу стать профессиональным писателем Сергею Голицыну не удалось. В тридцатых годах он стал работать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топографом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, принимал участие в строительстве канал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Москв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 Волга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качестве топографа в составе строительных частей он прошёл боевой путь д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Берлина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.  Был награждён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орденами Отечественной войны 2-й степени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,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Красной Звезды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, медалями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Calibri"/>
                <a:ea typeface="Times New Roman"/>
              </a:rPr>
              <a:t>«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За боевые заслуги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Calibri"/>
                <a:ea typeface="Times New Roman"/>
              </a:rPr>
              <a:t>»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,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Calibri"/>
                <a:ea typeface="Times New Roman"/>
              </a:rPr>
              <a:t>«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За оборону Москвы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Calibri"/>
                <a:ea typeface="Times New Roman"/>
              </a:rPr>
              <a:t>»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сле войны Сергей Голицын работал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инженером-геодезистом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Государственном проектном институ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Для детей и юношества им написаны следующие книги: "Хочу стать топографом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Сорок изыскателей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,  "Полотняный городок", "За березовыми книгами", "Городок сорванцов" и др. В творчестве Сергея Михайловича значительное место занимает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краеведческая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и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историческая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литерату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Сергей Михайлович много сил отдавал</a:t>
            </a:r>
            <a:r>
              <a:rPr b="1" lang="ru-RU" sz="1600" spc="-1" strike="noStrike">
                <a:solidFill>
                  <a:srgbClr val="ff0066"/>
                </a:solidFill>
                <a:latin typeface="Georgia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воспитанию</a:t>
            </a:r>
            <a:r>
              <a:rPr b="1" lang="ru-RU" sz="1600" spc="-1" strike="noStrike">
                <a:solidFill>
                  <a:srgbClr val="ff0066"/>
                </a:solidFill>
                <a:latin typeface="Georgi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драстающего покол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428760" y="785880"/>
            <a:ext cx="928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357120" y="245520"/>
            <a:ext cx="83581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Georgia"/>
                <a:ea typeface="Times New Roman"/>
              </a:rPr>
              <a:t>Клише:</a:t>
            </a:r>
            <a:r>
              <a:rPr b="1" lang="ru-RU" sz="2400" spc="-1" strike="noStrike">
                <a:solidFill>
                  <a:srgbClr val="ff0066"/>
                </a:solidFill>
                <a:latin typeface="Georgia"/>
                <a:ea typeface="Times New Roman"/>
              </a:rPr>
              <a:t> Сергей Михайлович Голицы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ff0066"/>
                </a:solidFill>
                <a:latin typeface="Georgia"/>
                <a:ea typeface="Times New Roman"/>
              </a:rPr>
              <a:t>(1909-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детстве любимыми писателями Сергея Михайловича были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,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 .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. Окунувшись в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 литературу, в нем проснулось желание стать писателем. После окончания школы, в 1927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году, он поступил на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____ 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. Первые шаги в литературе ему помогает сделать друг его старшего брата Владимира писатель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Первые детские рассказы Голицына начали публиковаться в 1930-х годах в детских журналах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,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,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. Однако сразу стать профессиональным писателем Сергею Голицыну не удалось. В тридцатых годах он стал работать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, принимал участие в строительстве канала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качестве топографа в составе строительных частей он прошёл боевой путь д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.  Был награждён орденами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__________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, медалями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______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,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_____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 и др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сле войны Сергей Голицын работал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-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Государственном проектном институт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Для детей и юношества им написаны следующие книги: "Хочу стать топографом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,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___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,  "Полотняный городок", "За березовыми книгами", "Городок сорванцов" и др. В творчестве Сергея Михайловича значительное место занимает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 и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 литератур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Сергей Михайлович много сил отдавал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___________</a:t>
            </a:r>
            <a:r>
              <a:rPr b="1" lang="ru-RU" sz="1500" spc="-1" strike="noStrike">
                <a:solidFill>
                  <a:srgbClr val="000000"/>
                </a:solidFill>
                <a:latin typeface="Georgia"/>
                <a:ea typeface="Times New Roman"/>
              </a:rPr>
              <a:t> подрастающего поколения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07:29:10Z</dcterms:created>
  <dc:creator>Елена</dc:creator>
  <dc:description/>
  <dc:language>en-US</dc:language>
  <cp:lastModifiedBy> </cp:lastModifiedBy>
  <dcterms:modified xsi:type="dcterms:W3CDTF">2013-02-19T06:57:09Z</dcterms:modified>
  <cp:revision>109</cp:revision>
  <dc:subject/>
  <dc:title>Слайд 1</dc:title>
</cp:coreProperties>
</file>