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83F1-ADDC-4BEC-A772-749DFAA0E3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DDAA-6F6B-4E28-B1B9-36844EFD04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128C-75E5-40FB-A605-98860BF41B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E7A-0B4C-4E48-A923-99277450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910-1F22-4841-B92D-ED5585A7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CCB-7A77-445C-A476-DE84B8E4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6A7-5080-4DCF-9EAE-C66DAD15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25E4-8D88-4DD0-AAD2-CF5DDD01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7B85-5226-47C8-BE5D-27AE7168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77FF-ADF2-4CCF-98A7-B20FC4EF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F633-D2E1-4673-A9E0-F5821830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E14F-F0B1-488E-A8DD-30FD5652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95D5-7DE2-4745-91EB-635FDDE1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4C45-8AC1-4E46-8EB4-09E3C55F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F21-120B-4C57-A879-BCE634E0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326F-F4DB-4135-8B68-AB63D41F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06B2-E2F6-4820-8E00-E89DBE1A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C24B-71AE-408E-A75A-C0DFE251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9997-5A2E-48C6-B0E0-1CAEAE4A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620E-D7A3-49C7-9EAF-A5C51768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E166-3E1D-4261-BDAB-11285437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AC18-5B87-400B-A2A1-2D9166AA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FE34-29F0-4972-A100-66D0E8A0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A469-7260-49C6-A80C-7D31B235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88E42-CF54-43A5-80DA-5D4CC586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BF3-38C5-4A99-89E0-6DB5524D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7D2FB-FAF7-4CE6-9F60-CAE21021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7775-710B-4C0C-A3C8-7BABA113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15C4-9F60-4E91-95BF-DAADEE37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A7FE-12DA-4E7F-BD2E-54C35F58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EBA5-ACE9-49DE-8127-252B52C0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9552-929E-4ACC-9538-6676997A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D34FD-EDC5-4DC5-B112-96F58118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A305-00BC-4A58-B828-3A9F98AF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4911-48D0-4AFE-AF32-94429AE5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A60B7-6A26-44AB-BAC8-B0527AD0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AA55-D801-48A0-B5AE-A6FDE613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DCDB7-2DBF-424A-891C-D93D14A3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E0667-0D2F-4071-9DE2-420EDDAF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66620-AE09-4254-897C-246EA772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B01B-A8BD-4FEA-9BF7-105D2BF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3A524-175B-4CD5-896D-306F10CB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13E2-D951-4D32-8D04-089B11CF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1C9EB-32C9-4D71-8D44-02EBE7EA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172C-C6ED-417F-834E-9B771AFD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CE52-5B68-42A3-9360-36DD7B38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67A-3905-4F3C-93D3-708FC57B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A53-9B5D-4EBB-8AAA-27DFD31F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3AF-D3C0-4D6A-ABD6-7FC45E95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BF0-3537-4C7E-82AF-94F3104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40D2-9CDA-434C-8FF5-8F41D013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1563-F2BD-45CC-824E-ED25CF7EE83B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BDA1-05DE-470D-8E71-D672CF0BD54D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BCE8-E391-45C9-A5A0-9140430D8AE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2804-F573-4C61-9E8B-89F44D74C3C4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50560" y="4723920"/>
            <a:ext cx="52578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Учитель начальных классов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Вайчик Светлана Николае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ГБОУ лицей №470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Калининского района г. Санкт-Петербург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901800" y="158760"/>
            <a:ext cx="7772400" cy="2408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Arvay\AppData\Local\Microsoft\Windows\Temporary Internet Files\Content.IE5\VJJI3RY1\MC900382566[1].jpg"/>
          <p:cNvPicPr/>
          <p:nvPr/>
        </p:nvPicPr>
        <p:blipFill>
          <a:blip r:embed="rId2"/>
          <a:stretch/>
        </p:blipFill>
        <p:spPr>
          <a:xfrm>
            <a:off x="4121280" y="2997360"/>
            <a:ext cx="462744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262160" y="133200"/>
            <a:ext cx="6510240" cy="1311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284720" y="1197000"/>
            <a:ext cx="44640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ерез нос проходит в груд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И обратный держит пу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н невидимый, и всё ж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Без него мы жить не може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3" descr="C:\Users\Arvay\AppData\Local\Microsoft\Windows\Temporary Internet Files\Content.IE5\ZSX5XP99\MP900442335[1].jpg"/>
          <p:cNvPicPr/>
          <p:nvPr/>
        </p:nvPicPr>
        <p:blipFill>
          <a:blip r:embed="rId2"/>
          <a:stretch/>
        </p:blipFill>
        <p:spPr>
          <a:xfrm>
            <a:off x="250920" y="2825640"/>
            <a:ext cx="396072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3905280" cy="3581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4" descr=""/>
          <p:cNvPicPr/>
          <p:nvPr/>
        </p:nvPicPr>
        <p:blipFill>
          <a:blip r:embed="rId2"/>
          <a:stretch/>
        </p:blipFill>
        <p:spPr>
          <a:xfrm>
            <a:off x="555480" y="4336920"/>
            <a:ext cx="2963880" cy="213516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6" descr=""/>
          <p:cNvPicPr/>
          <p:nvPr/>
        </p:nvPicPr>
        <p:blipFill>
          <a:blip r:embed="rId3"/>
          <a:stretch/>
        </p:blipFill>
        <p:spPr>
          <a:xfrm>
            <a:off x="554040" y="1530360"/>
            <a:ext cx="3395520" cy="2828880"/>
          </a:xfrm>
          <a:prstGeom prst="rect">
            <a:avLst/>
          </a:prstGeom>
          <a:ln w="0">
            <a:noFill/>
          </a:ln>
        </p:spPr>
      </p:pic>
      <p:pic>
        <p:nvPicPr>
          <p:cNvPr id="230" name="Заголовок 1" descr=""/>
          <p:cNvPicPr/>
          <p:nvPr/>
        </p:nvPicPr>
        <p:blipFill>
          <a:blip r:embed="rId4"/>
          <a:stretch/>
        </p:blipFill>
        <p:spPr>
          <a:xfrm>
            <a:off x="109440" y="133200"/>
            <a:ext cx="6510600" cy="1311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3780000" y="3770280"/>
            <a:ext cx="31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Летом он бывает тёплым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ет холодом зимой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гда красит иней стёк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лежит на них каймо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5363640" y="5157720"/>
            <a:ext cx="29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ы его не замечаем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ы о нём не говори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осто мы его вдыхаем-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дь он нам необходи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"/>
          <p:cNvSpPr/>
          <p:nvPr/>
        </p:nvSpPr>
        <p:spPr>
          <a:xfrm>
            <a:off x="1763640" y="63504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став и свойства воздух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Диаграмма 4" descr=""/>
          <p:cNvPicPr/>
          <p:nvPr/>
        </p:nvPicPr>
        <p:blipFill>
          <a:blip r:embed="rId1"/>
          <a:stretch/>
        </p:blipFill>
        <p:spPr>
          <a:xfrm>
            <a:off x="128520" y="1506600"/>
            <a:ext cx="6197760" cy="4165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Arvay\AppData\Local\Microsoft\Windows\Temporary Internet Files\Content.IE5\6732KGI2\MP900446565[1].jpg"/>
          <p:cNvPicPr/>
          <p:nvPr/>
        </p:nvPicPr>
        <p:blipFill>
          <a:blip r:embed="rId2"/>
          <a:stretch/>
        </p:blipFill>
        <p:spPr>
          <a:xfrm>
            <a:off x="5867280" y="2133720"/>
            <a:ext cx="22892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1322280" y="-85680"/>
            <a:ext cx="6486480" cy="2017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539640" y="2060280"/>
            <a:ext cx="7740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прозраче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бесцвете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не имеет запах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нагревании воздух расширяется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 при охлаждении сжимаетс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дух плохо проводит тепло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76000" y="5013360"/>
            <a:ext cx="82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выми стали изучать состав воздуха и его свойства Джозеф Пристл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 Антуан Лавуазье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2268360" y="55404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Воздух должен</a:t>
            </a:r>
            <a:r>
              <a:rPr b="0" lang="ru-RU" sz="2800" spc="-1" strike="noStrike">
                <a:solidFill>
                  <a:srgbClr val="4e67c8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быть чисты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179280" y="1341360"/>
            <a:ext cx="882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00 литров кислорода  необходимо человеку для дыхания только на один ден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2050920" y="204804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ac8b"/>
                </a:solidFill>
                <a:latin typeface="Trebuchet MS"/>
              </a:rPr>
              <a:t>Какой чудесный воздух в лесу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1449360" y="2563920"/>
            <a:ext cx="67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 зря растения называют « зелёными лёгкими планеты»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C:\Users\Arvay\AppData\Local\Microsoft\Windows\Temporary Internet Files\Content.IE5\6732KGI2\MP900427595[1].jpg"/>
          <p:cNvPicPr/>
          <p:nvPr/>
        </p:nvPicPr>
        <p:blipFill>
          <a:blip r:embed="rId1"/>
          <a:stretch/>
        </p:blipFill>
        <p:spPr>
          <a:xfrm>
            <a:off x="6199200" y="3021120"/>
            <a:ext cx="2602080" cy="3670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Arvay\AppData\Local\Microsoft\Windows\Temporary Internet Files\Content.IE5\VJJI3RY1\MP900427841[1].jpg"/>
          <p:cNvPicPr/>
          <p:nvPr/>
        </p:nvPicPr>
        <p:blipFill>
          <a:blip r:embed="rId2"/>
          <a:stretch/>
        </p:blipFill>
        <p:spPr>
          <a:xfrm>
            <a:off x="212760" y="2981160"/>
            <a:ext cx="24732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2"/>
          <p:cNvSpPr/>
          <p:nvPr/>
        </p:nvSpPr>
        <p:spPr>
          <a:xfrm flipV="1" rot="10800000">
            <a:off x="1116000" y="62028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заводов и фабрик, от работающих автомобилей в воздух попадают вредные вещества. Они опасны для всего живого, поэтому необходимо заботиться о чистоте воздух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C:\Users\Arvay\AppData\Local\Microsoft\Windows\Temporary Internet Files\Content.IE5\EOTK7UVB\MP900390146[1].jpg"/>
          <p:cNvPicPr/>
          <p:nvPr/>
        </p:nvPicPr>
        <p:blipFill>
          <a:blip r:embed="rId1"/>
          <a:stretch/>
        </p:blipFill>
        <p:spPr>
          <a:xfrm>
            <a:off x="6227640" y="2781360"/>
            <a:ext cx="2610000" cy="3657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Arvay\AppData\Local\Microsoft\Windows\Temporary Internet Files\Content.IE5\ZSX5XP99\MP900255598[1].jpg"/>
          <p:cNvPicPr/>
          <p:nvPr/>
        </p:nvPicPr>
        <p:blipFill>
          <a:blip r:embed="rId2"/>
          <a:stretch/>
        </p:blipFill>
        <p:spPr>
          <a:xfrm>
            <a:off x="755640" y="2924280"/>
            <a:ext cx="408636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3" descr=""/>
          <p:cNvPicPr/>
          <p:nvPr/>
        </p:nvPicPr>
        <p:blipFill>
          <a:blip r:embed="rId1"/>
          <a:stretch/>
        </p:blipFill>
        <p:spPr>
          <a:xfrm>
            <a:off x="250920" y="682560"/>
            <a:ext cx="8353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2:51:33Z</dcterms:created>
  <dc:creator>Arvay</dc:creator>
  <dc:description/>
  <dc:language>en-US</dc:language>
  <cp:lastModifiedBy>Arvay</cp:lastModifiedBy>
  <dcterms:modified xsi:type="dcterms:W3CDTF">2013-03-18T15:52:59Z</dcterms:modified>
  <cp:revision>20</cp:revision>
  <dc:subject/>
  <dc:title>Презентация к уроку «Прозрачный невидимка  ( воздух)»</dc:title>
</cp:coreProperties>
</file>