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5E8-57CA-4C35-BD35-C73C1BA0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CF2-CB70-42E3-A447-719CEF1D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C2CAC-E516-42E2-8071-88C2A014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C044A-BDBC-4446-A4EC-D234594D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38572-9C54-4A12-9427-5E1BCCE0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BFD67-6BE5-495B-855A-7E90DC3F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9F011-DEFD-48D0-90DD-C9BC16BA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94461-E8B4-4469-B813-0AB037F4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E0EDB-52AE-494C-A26A-BA3F0D5D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29F2C-2A90-4AA8-888A-901D3D46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EE254-95EB-4023-99E0-F8527209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364BA-A250-4FF0-9CB1-D9871348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032-2C2F-4B20-963C-A0FF9DC1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6B093-5C44-4BEF-8ADF-670EDC96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2D971-A13F-4998-83C0-E52FF6B6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FF825-3B2D-4581-8A6E-39841E22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2772B-BA27-420F-BDB7-1D15A302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84B1D-C817-4898-A561-F7750B2A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3E1F4-DCCC-43D2-9037-131D9E20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52644-7CAC-4A47-BBD1-11544EA0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6FBB0-C626-489E-98AF-9C4A08F9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772FC-0DF9-42A1-A3E4-1E31D770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CEDC3-F3AC-4042-84EE-E3320E45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C2E-DF18-4C69-A617-3C1ADF45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FDBE6-319B-429D-8C1C-8907CB98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48D7-8241-4DDE-85C2-92DF57E1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EDAD-AEE6-4FA8-AEFC-852D2FC9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AC51-E455-4DBF-B83D-8A2D5E59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9A1B-AE6F-431C-BDC3-7B3F5D55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5C58-9E67-4A3F-8F91-B9920023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6B5B-99BF-4012-A151-0A35DBD1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FECA-0471-420C-B631-1D12CED5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82B-CCFE-44C1-B0EA-762785A9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1B8D-F216-4A4F-89CE-E46DF241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54EB-B833-4017-B661-42663299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4A65-A596-4F56-9456-ECAB4A72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0A4A-E513-4E8E-B2A0-7D507E70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11B3-807F-4624-BA2E-207F08E4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E9120-5108-4BCB-8466-BAC8E66D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B9FC-BBCD-4E2E-9BC6-DFE3CF8C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6FBA-738B-469C-BEC1-3E71F102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A238E-B36C-4AE6-B7AC-AA984FAE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479B9-F67A-4088-ACBD-AB77D227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454-75B5-424E-AF78-007D6D14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5C145-B424-44FF-95AA-C2321BFF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E0A87-676A-418D-93CA-F99D0F88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5070-84F8-4223-8952-0BF0C9E4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E41DB-271F-4A57-8221-BC8FE850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3BB37-B43C-43FC-948B-03F2EF45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F67D7-C28A-4FFF-8552-818730FA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D495E-D6A1-42EC-8304-8BF2D9CB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E77B3-92B1-4425-91B8-BD657E12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B386B-C7DE-4E1A-ACAD-912B5BEC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C03CE-D099-4E76-B6B5-9EB335CE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D9F-0C25-4C9D-902D-7079D86B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F361F-010A-4391-BE46-BFE467AE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E88B3-A2BF-4849-ADEA-9CEE771E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B2B18-0015-4E9F-8736-CF95CE78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FCCD9-3F65-4398-81BB-1A34524D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431D7-9FB3-4DE0-826E-EAD9528C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F9996-5C63-419A-BF20-58A2E773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36481-FD2F-439B-ABC0-E8051C43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09451-4108-4217-80F3-2A9EF3ED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39907-C40A-49C3-85B4-8D79EC3F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6AD93-BCA7-4EF9-B8BB-E42822EB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3ADC-3A22-4DD2-853C-B94B7A4E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C5851-4356-48B7-9FFE-5C205DFD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B841E-3C01-4122-A70C-FF3D6B44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65EAA-5F0C-4E83-9D96-DC731D29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0DDE7-B9D1-4872-9EDC-E8EE6A1F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2B688-5F02-4E1F-A0F3-7CD0A9B3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2AF77-2658-44A2-A1DF-55FDDECC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02BCE-27B0-425F-9580-11EF36A7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F7125-729A-409E-8FC9-92E7961D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F0D72-575E-4FB5-80B7-B2DF1ABD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D4D27-1145-4061-A10F-EE9CC36E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1D2-520F-449E-9F4B-BCDA7DDE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ED006-5545-4C5F-9978-99C12263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612D0-6EAB-4E6C-9482-69BBFA73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945C9-D2B6-4B28-A8EB-F3B20A56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43207-FBE6-4949-BD9D-67E650B9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98B69-2AB6-48FE-8D10-89A8D04F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CAD19-D90C-437C-8F8E-2F1AFE16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16605-CF36-4A07-B549-678F1B0E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40369-5D00-4BAE-86AC-E0A16C24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C67FB-A349-4AB1-A32D-DF03B3C6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4AF6E-754A-4DF6-ADF6-2CCAF60E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FDF-E052-4BBA-8BDD-4695D889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8132E-2DA0-4E97-B2E8-1F81118A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1A564-2CAC-4CC3-9B71-53271A54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FF83D-C12A-428C-B8F9-1B8DB236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A8703-D99C-4DB0-BBC1-883B55BB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03A72-77D1-43E2-BBE9-1128A4D4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B653A-EE80-4EAE-BA17-E7BD16D9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E9E17-810C-4D4D-91D2-190B8520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AE06D-CA2A-49E4-B35B-929DD4CF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7B948-C910-4A88-96AF-D30DE0BA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94451-DB3A-40DF-B240-08FE145F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09B-1192-4BC0-B497-9FFE0380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48A35-ADBE-48B9-B800-09F88971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7F58E-5312-49C1-9B14-76EE8DC9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2D5E6-780C-4F31-B1ED-1C0A38A5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23EB0-AB0F-4E9C-BCDF-2AA4D98F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9CAC3-5F5F-4C91-B8AF-A8562C74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CE09D-8DBF-414A-B902-80A6C965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0881A-57CA-434F-B6A7-BB9CF222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D3387-C1F4-4301-8598-5AF49D9F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29682-A8EB-4213-9169-EC2E74C7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6C044-6950-467D-B2F4-DB231FBE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2C8-9471-4656-B61E-CFB98026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F9E20-2593-48EB-842F-9234A9D4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AF756-520E-46D7-B7AB-3763A487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DA3E1-A98A-4C9A-B3CC-0D0783D2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71341-458D-41BC-9F61-DFF69A9A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BD302-9E7C-4FEE-8A67-3F321EC5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58A9F-A230-43E4-A8A7-A83AA178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5E30F-7BB8-46E1-B01D-0B99C89F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9A845-0A39-46B0-B9CC-E1E6A669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35B1E-4824-4FC8-8A1A-89E95980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B16D7-B7A1-4E5E-8EA5-43BD5FA3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19C7-DC7C-4507-AA9B-8243ABE23A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C53C-3D66-42F2-A785-52D21E618D1A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FE7E-C537-4B59-908F-5EDD498B0D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73AE-8385-4128-87F0-A4F36AB93C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5114-4133-406B-A5E4-5558CF0E76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F405-02F4-46CE-9BF9-6345A2D2CB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EABA-371B-442E-B70E-BE893EDF47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ECF2-C621-4EF9-B5F8-8052ADD380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79C0-6676-49CD-B9E6-074A743610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1607-46AC-4803-A01B-A7A837CDB9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971640" y="3573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99"/>
                </a:solidFill>
                <a:latin typeface="Arial"/>
              </a:rPr>
              <a:t>Выветривание горных пород</a:t>
            </a:r>
            <a:endParaRPr b="0" lang="en-US" sz="5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37080" y="220500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Arial"/>
              </a:rPr>
              <a:t>Тема урока: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67280" y="5392800"/>
            <a:ext cx="34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Автор: Никифорова Е.Н.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учитель биологии и географии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1 категории,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МБОУ школа-интернат №1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г. Саров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430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31608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4211640" y="3157560"/>
            <a:ext cx="4932360" cy="3700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324000" y="476280"/>
          <a:ext cx="8280360" cy="5032440"/>
        </p:xfrm>
        <a:graphic>
          <a:graphicData uri="http://schemas.openxmlformats.org/drawingml/2006/table">
            <a:tbl>
              <a:tblPr/>
              <a:tblGrid>
                <a:gridCol w="2663640"/>
                <a:gridCol w="1728720"/>
                <a:gridCol w="1852560"/>
                <a:gridCol w="2035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2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. Химическ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ода и растворимые вещества и г.п. – известняк, гипс, соли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азрушение водой растворимых г.п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Образование новых соединений и изменение существующих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3. Биогенн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3711600" y="2782800"/>
            <a:ext cx="5432400" cy="40752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0" y="407664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64000" cy="34243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4788000" y="3591000"/>
            <a:ext cx="4356000" cy="3267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395280" y="476280"/>
          <a:ext cx="8280360" cy="5118120"/>
        </p:xfrm>
        <a:graphic>
          <a:graphicData uri="http://schemas.openxmlformats.org/drawingml/2006/table">
            <a:tbl>
              <a:tblPr/>
              <a:tblGrid>
                <a:gridCol w="2664000"/>
                <a:gridCol w="1728720"/>
                <a:gridCol w="1852560"/>
                <a:gridCol w="2035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3. Биогенн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лияние живых организмов на г.п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азрушение и изменение г.п. и минералов под влиянием растений и животных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Измельчение г.п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4.   ???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Выветривание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441" name="Схема 3" descr=""/>
          <p:cNvPicPr/>
          <p:nvPr/>
        </p:nvPicPr>
        <p:blipFill>
          <a:blip r:embed="rId2"/>
          <a:stretch/>
        </p:blipFill>
        <p:spPr>
          <a:xfrm>
            <a:off x="-468360" y="1390680"/>
            <a:ext cx="9618840" cy="5186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29066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3375000" y="3367080"/>
            <a:ext cx="5769000" cy="3490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6172200" cy="34639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3995640" y="3500280"/>
            <a:ext cx="5148360" cy="3357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539640" y="476280"/>
          <a:ext cx="8280360" cy="4067280"/>
        </p:xfrm>
        <a:graphic>
          <a:graphicData uri="http://schemas.openxmlformats.org/drawingml/2006/table">
            <a:tbl>
              <a:tblPr/>
              <a:tblGrid>
                <a:gridCol w="2664000"/>
                <a:gridCol w="1728720"/>
                <a:gridCol w="1852560"/>
                <a:gridCol w="2035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1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4. Антропогенн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ятельность человека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азрушение под действием хозяйственной деятельности человека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Сильно меняют г.п. и рельеф Земли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Закрепление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d4337"/>
                </a:solidFill>
                <a:uFillTx/>
                <a:latin typeface="Arial"/>
              </a:rPr>
              <a:t>Ответьте на вопросы: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7a8e3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Что такое выветривание?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7a8e3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Какие существуют виды выветривания?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7a8e3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Что является главными причинами физического выветривания?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7a8e3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Расскажите о биогенном выветривании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7a8e3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Что такое техногенное выветривание?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37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d4944"/>
                </a:solidFill>
                <a:uFillTx/>
                <a:latin typeface="Arial"/>
              </a:rPr>
              <a:t>Выветривание</a:t>
            </a: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 – все процессы, приводящие к разрушению горных пород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Домашнее задание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Пересказ 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1d4337"/>
                </a:solidFill>
                <a:latin typeface="Arial"/>
                <a:ea typeface="Arial"/>
              </a:rPr>
              <a:t> 16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Выветривание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416" name="Схема 3" descr=""/>
          <p:cNvPicPr/>
          <p:nvPr/>
        </p:nvPicPr>
        <p:blipFill>
          <a:blip r:embed="rId2"/>
          <a:stretch/>
        </p:blipFill>
        <p:spPr>
          <a:xfrm>
            <a:off x="-181080" y="1413000"/>
            <a:ext cx="9156960" cy="5186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Виды выветривания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250920" y="1557360"/>
          <a:ext cx="8424720" cy="3355920"/>
        </p:xfrm>
        <a:graphic>
          <a:graphicData uri="http://schemas.openxmlformats.org/drawingml/2006/table">
            <a:tbl>
              <a:tblPr/>
              <a:tblGrid>
                <a:gridCol w="2592360"/>
                <a:gridCol w="1692360"/>
                <a:gridCol w="2070000"/>
                <a:gridCol w="207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24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. Физическо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C:\Documents and Settings\Admin\Рабочий стол\Внешние силы. Выветривание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095640"/>
          </a:xfrm>
          <a:prstGeom prst="rect">
            <a:avLst/>
          </a:prstGeom>
          <a:ln w="9360">
            <a:solidFill>
              <a:srgbClr val="1d4337"/>
            </a:solidFill>
            <a:miter/>
          </a:ln>
        </p:spPr>
      </p:pic>
      <p:pic>
        <p:nvPicPr>
          <p:cNvPr id="420" name="Прямоугольник 2" descr=""/>
          <p:cNvPicPr/>
          <p:nvPr/>
        </p:nvPicPr>
        <p:blipFill>
          <a:blip r:embed="rId3"/>
          <a:stretch/>
        </p:blipFill>
        <p:spPr>
          <a:xfrm>
            <a:off x="1103400" y="5614920"/>
            <a:ext cx="6772320" cy="18162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4140360" y="2349360"/>
            <a:ext cx="4663800" cy="3498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49880" cy="34974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4067280" y="350028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32497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492360" y="3303720"/>
            <a:ext cx="5651640" cy="3554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324000" y="476280"/>
          <a:ext cx="8280360" cy="6192720"/>
        </p:xfrm>
        <a:graphic>
          <a:graphicData uri="http://schemas.openxmlformats.org/drawingml/2006/table">
            <a:tbl>
              <a:tblPr/>
              <a:tblGrid>
                <a:gridCol w="2663640"/>
                <a:gridCol w="1728720"/>
                <a:gridCol w="1852560"/>
                <a:gridCol w="2035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1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. Физическ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Колебания температуры, ветер и вода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оцесс механического раздробления горных пород (г.п.)без изменения химического состава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Образуются обломочные г.п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. Химическ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1478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0" y="3247920"/>
            <a:ext cx="4788000" cy="3610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9:40:42Z</dcterms:created>
  <dc:creator>starostina</dc:creator>
  <dc:description/>
  <cp:keywords/>
  <dc:language>en-US</dc:language>
  <cp:lastModifiedBy>User</cp:lastModifiedBy>
  <dcterms:modified xsi:type="dcterms:W3CDTF">2013-01-30T15:22:40Z</dcterms:modified>
  <cp:revision>5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51049</vt:lpwstr>
  </property>
</Properties>
</file>