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AD4-FE33-41E7-AE00-F548FD7B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E48-7F93-4F76-93D8-153A7BD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FD8-0E9C-49D1-B820-03A7834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B77-D9F7-451C-89A7-ACF3FD9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003C-2D5A-466F-A623-27607113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471-FA68-4704-A3C2-E156118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3BCD-839D-4051-BE2A-D66BB2E9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E779-DBFF-4ADF-B34F-4E91169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F5AF-6E5E-4688-A338-49B7130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8892-22CB-40C8-AF40-59269374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286C-CD12-4D44-A61E-FC11270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399-39BF-4DC5-8E65-3FABAB7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E5F-E596-4633-AA18-1EF1161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F6CE-BD72-469C-9919-47F3BF7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250B-06D1-4B26-B056-723EE9A4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5C4F-CF5D-4DE6-997B-8422E55A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1869-8AFA-43BC-BAF6-FB8D8230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5A3-C64E-4764-8371-6CDB58A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6FE-9012-4960-B3E2-DCF0F73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D62-C0D2-4014-8D49-7CBC9A4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693-4F13-487A-BB95-AF5DBCA5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47C-4D3A-418D-9153-5FA2F850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49F-423B-4A6E-ADE4-FC18EB7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EE4-C3EC-46A1-B622-155DB75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551-DF98-4EDC-8DA1-88CE8F7A1B3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B3A4-3CE9-4549-968B-67FF0F7BCF2C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"/>
          <p:cNvSpPr/>
          <p:nvPr/>
        </p:nvSpPr>
        <p:spPr>
          <a:xfrm>
            <a:off x="1332000" y="2133720"/>
            <a:ext cx="72738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Тема компетентностного подхода в образов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вляется принципиально важной, посколь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концентрирует в себе идеи зарождающей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овой образовательной парадигмы, приходящ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а смену «знаниев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.В.Хутор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042920" y="33336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редметные компетенции широкого спектр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навыки общения на  казахском языке как государственном, на русском  языке как языке межнационального общения, на иностранном языке; умеет быть мотивированным к общению как на родном языке; понимает значимость литературного наследия   и использует в нужном контекст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деет математической грамотностью в широком спектре, в том числе умеет творчески и продуктивно  использовать возможности информационной  и коммуникационной технолог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научную картину мира через осмысление роли и места человека в природ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историческое прошлое своего народа,   выражает личное отношение к системе общечеловеческих, социокультурных ценностей при выполнении социальных ролей в семье, сообществе и сотрудничестве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и ценит культуру казахского народа, народов Казахстана и культурное многообразие ми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ет быть мотивированным к самоопределению и профессиональному росту с целью повышения своей конкурентоспособ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ет здоровый образ жизни  для поддержания физического здоровья, умственной работоспособности и укрепления общей жизне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Понимание результат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ое понимание образовательных результатов выходит за рамки обычного перечня знаний, умений и навыков, соотносимых с обучением учебного предмета. Образовательные результаты являются конечным продуктом  процесса обучения учащихся в школе и  свидетельствуют о качественных изменениях в личности обучающегося и проявляются в его поведении, взаимодействии с социальной сре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х уровней представления результатов образования является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 грамотнос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определяемая как способность личности на основе знаний, умений и навыков нормально функционировать в системе социальных отношений,  максимально быстро адаптироваться в конкретной культурной ср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ДЕРЖАНИЕ ПОНЯТИЯ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КЛЮЧЕВЫЕ КОМПЕТЕНТНОСТИ»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8128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ючевые компетент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ниверсальные компетентност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яемые в различных жизненных ситуа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116000" y="2708280"/>
            <a:ext cx="7704000" cy="33130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ные признаки ключевых компетентносте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предметность и междисциплина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ме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ность на значительном интеллектуальном, эмоционально-ценностном и творческом  развитии челове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ость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оцессе обучения в шк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под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оздействием семьи, социального окружения, политической системы, религии,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4" name="Diagram 3"/>
          <p:cNvGrpSpPr/>
          <p:nvPr/>
        </p:nvGrpSpPr>
        <p:grpSpPr>
          <a:xfrm>
            <a:off x="1773720" y="1070640"/>
            <a:ext cx="6460920" cy="2106360"/>
            <a:chOff x="1773720" y="1070640"/>
            <a:chExt cx="6460920" cy="2106360"/>
          </a:xfrm>
        </p:grpSpPr>
        <p:sp>
          <p:nvSpPr>
            <p:cNvPr id="145" name="_s1028"/>
            <p:cNvSpPr/>
            <p:nvPr/>
          </p:nvSpPr>
          <p:spPr>
            <a:xfrm flipV="1">
              <a:off x="3927240" y="1069920"/>
              <a:ext cx="2153520" cy="701640"/>
            </a:xfrm>
            <a:custGeom>
              <a:avLst/>
              <a:gdLst>
                <a:gd name="textAreaLeft" fmla="*/ 772560 w 2153520"/>
                <a:gd name="textAreaRight" fmla="*/ 1380960 w 215352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bf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 flipV="1">
              <a:off x="2850480" y="1772640"/>
              <a:ext cx="4307400" cy="702000"/>
            </a:xfrm>
            <a:custGeom>
              <a:avLst/>
              <a:gdLst>
                <a:gd name="textAreaLeft" fmla="*/ 947160 w 4307400"/>
                <a:gd name="textAreaRight" fmla="*/ 3360240 w 4307400"/>
                <a:gd name="textAreaTop" fmla="*/ 154440 h 702000"/>
                <a:gd name="textAreaBottom" fmla="*/ 54756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ba58d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603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ОБЩЕ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V="1">
              <a:off x="1773720" y="2473920"/>
              <a:ext cx="6460920" cy="702360"/>
            </a:xfrm>
            <a:custGeom>
              <a:avLst/>
              <a:gdLst>
                <a:gd name="textAreaLeft" fmla="*/ 1121400 w 6460920"/>
                <a:gd name="textAreaRight" fmla="*/ 5339520 w 6460920"/>
                <a:gd name="textAreaTop" fmla="*/ 121680 h 702360"/>
                <a:gd name="textAreaBottom" fmla="*/ 580680 h 70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0a172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К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ЛЮЧЕВ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AutoShape 8"/>
          <p:cNvSpPr/>
          <p:nvPr/>
        </p:nvSpPr>
        <p:spPr>
          <a:xfrm>
            <a:off x="2340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20364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06728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579600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93236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588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730872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92360" y="3500280"/>
            <a:ext cx="6696000" cy="25599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c2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правленче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формацио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муникатив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циально-трудов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ичностн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раждан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технолог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692360" y="69228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РАЗОВАТЕЛЬН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628640"/>
            <a:ext cx="6265800" cy="3803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УПРАВЛЕНЧЕСКИЕ КОМПЕТЕНЦИ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35280" y="1844640"/>
            <a:ext cx="655308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 - досуговой сфер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ладение эффективными способами организации свободного времени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юда же относится опыт освоения учеником научной картины мира, расширяющийся до культурологического и всечеловеческого понимания м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25892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25892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92360" y="1557360"/>
            <a:ext cx="6840360" cy="46324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ИЕ 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целеполагания, планирования, анализа, самооценки учебно-познавательной деятельности. 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292428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18728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92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95640" y="1773360"/>
            <a:ext cx="6265800" cy="4351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ИНФОРМАЦИОННЫЕ КОМПЕТЕНЦИ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искать, анализировать и отбирать необходимую информацию, организовывать, преобразовывать, сохранять и передавать ее формируются 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95640" y="1628640"/>
            <a:ext cx="626580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МУНИКАТИВНЫЕ КОМПЕТЕНЦИИ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195640" y="1628640"/>
            <a:ext cx="6265800" cy="44200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СОЦИАЛЬНЫЕ 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143000"/>
          </a:xfrm>
          <a:prstGeom prst="rect">
            <a:avLst/>
          </a:prstGeom>
          <a:gradFill rotWithShape="0">
            <a:gsLst>
              <a:gs pos="0">
                <a:srgbClr val="dfd6c3">
                  <a:alpha val="41176"/>
                </a:srgbClr>
              </a:gs>
              <a:gs pos="100000">
                <a:srgbClr val="f4f1eb">
                  <a:alpha val="4117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Сущность компетентностного подхода в образован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1628640"/>
            <a:ext cx="770580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9f0ec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ц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многозначное слово, 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petere 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добиваюсь, соответствую, подхожу)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116000" y="2708280"/>
            <a:ext cx="7416720" cy="91692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это не только знания, умения и навык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, но и ценностные ориентиры, поведенческие реакции и привычки, операционно-технологический 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16000" y="3933720"/>
            <a:ext cx="741672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тн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ens (competentis)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лежащий, способный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187280" y="5084640"/>
            <a:ext cx="7417080" cy="64260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адание знаниями и опытом, позволяющим судить о чем-либо; </a:t>
            </a: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веское, авторитет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35280" y="1700280"/>
            <a:ext cx="6480000" cy="3902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ЛИЧНОСТН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ы на освоение способов физического, духовного и интеллектуального саморазвития, эмоциональной саморегуляции и самоподдержки. Реальным объектом в сфере данных компетенций выступает сам ученик. Он овладевает способами деятельности в собственных интересах и возможностях, что выражается в его непрерывном самопознании, развитии необходимых современному человеку личностных качеств, формировании психологической грамотности, культуры мышления и поведения. К данным компетенциям относятся знание правил личной гигиены, забота о собственном здоровье, половая грамотность, внутренняя экологическая культура. Сюда же входит комплекс качеств, связанных с основами безопасной жизнедеятель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33200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33200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8728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 Black"/>
              </a:rPr>
              <a:t>ЛОГИК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92360" y="3284640"/>
            <a:ext cx="6480000" cy="12027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 УЧАЩЕГОС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63640" y="5661000"/>
            <a:ext cx="640872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763640" y="1844640"/>
            <a:ext cx="648036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932360" y="508464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3851280" y="2924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ЯТЕЛЬНОС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3995640" y="465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ЧАЩЕГОС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4932360" y="242100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4932360" y="37162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116000" y="1413000"/>
          <a:ext cx="3505320" cy="427176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903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АМООПРЕДЕЛЕНИЕ К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462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КТУАЛИЗАЦИЯ ЗНАНИЙ И ФИКСАЦИЯ ЗАТРУДНЕНИЙ В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СТАНОВКА УЧЕБНОЙ ЗАДАЧ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984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СТРОЕНИЕ ПРОЕКТА ВЫХОДА ИЗ ПРОБЛЕМНОЙ СИТУАЦИИ, ЗАТРУД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4" name="Text Box 14"/>
          <p:cNvSpPr/>
          <p:nvPr/>
        </p:nvSpPr>
        <p:spPr>
          <a:xfrm>
            <a:off x="118728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СТРУКТУРА УЧЕБНОГО ЗАНЯТИЯ НА КОМПЕТЕНТНОСТН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3640" y="1413000"/>
          <a:ext cx="3619800" cy="4392360"/>
        </p:xfrm>
        <a:graphic>
          <a:graphicData uri="http://schemas.openxmlformats.org/drawingml/2006/table">
            <a:tbl>
              <a:tblPr/>
              <a:tblGrid>
                <a:gridCol w="3619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ЕРВИЧНОЕ ЗАКРЕПЛЕНИЕ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КЛЮЧЕНИЕ НОВЫХ ЗНАНИЙ В СИСТЕМУ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РЕФЛЕКСИЯ ДЕЯТЕЛЬНОСТИ (ИТОГ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7" name="Line 28"/>
          <p:cNvSpPr/>
          <p:nvPr/>
        </p:nvSpPr>
        <p:spPr>
          <a:xfrm>
            <a:off x="4572000" y="551664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4788000" y="2276280"/>
            <a:ext cx="0" cy="3313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788000" y="2349360"/>
            <a:ext cx="50472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12589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1258920" y="350028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33200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5292720" y="342900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52927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7280" y="2565000"/>
            <a:ext cx="7561440" cy="2376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т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определенным заранее результатом) и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аранее запланированным ответом)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чебных зад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актико-ориентирован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 для постановки проблемы, так и для ее реш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збыточной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выработки навыков деятельности в условиях неопредел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88640"/>
            <a:ext cx="7561440" cy="431964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еобладание самостоя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дивидуальной, групповой и коллектив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различных сочетани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озможность созд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и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бственно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ого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дукт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вой способ решения (пусть не всегда оптимальный – каждый имеет право на ошибку!), свое видение проблемы,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вательной, социальной, психологическ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ефлек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как я работал? какие методы использовал? какие были ошибочными? как я теперь бы решил проблему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как мы работали в группе? как были распределены роли? как мы с ними справились? какие допустили ошибки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как я себя чувствовал? понравилась ли мне работа (в группе, с заданием) или нет? почему? с кем (как) бы я хотел работать? почему?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86920" y="2349000"/>
            <a:ext cx="7488360" cy="3024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сследовательских и поисковых технологи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зволяющих организовать аутентичную (подлинную, верную) оценку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технологий и методов, обеспечивающ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аморазвитие, самоактуализацию обучающегося, позволяющих ему самому искать и осознавать подходящие для него способы решения дидактических и жизненных ситуаций (метод проектов, ситуационный анализ, технологии портфолио, КСО, д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езентации, защиты познавательных результато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стижений обучаю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42920" y="11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411280" y="213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НИТИВНЫЕ (ПОЗНАВАТЕЛЬНЫ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411280" y="386064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69019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АТИВНЫЕ (ТВОР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11280" y="2924280"/>
            <a:ext cx="5761080" cy="580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О-ДЕЯТЕЛЬНОСТНЫЕ (МЕТОДОЛОГИ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411280" y="465300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Ы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537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РОВОЗЗРЕНЧЕСКИ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692360" y="2205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692360" y="3141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169236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692360" y="465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1692360" y="537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1692360" y="2060640"/>
            <a:ext cx="0" cy="367344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95640" y="2349360"/>
            <a:ext cx="5976720" cy="19440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ГНИТИВНЫЕ (ПОЗНАВАТЕЛЬНЫЕ) КАЧЕСТ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чувствовать окружающий мир, задавать вопросы, отыскивать причины явлений, обозначать свое понимание или непонимание вопрос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5640" y="2349360"/>
            <a:ext cx="5976720" cy="2462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ЕАТИВНЫЕ (ТВОРЧЕСКИЕ) КАЧЕСТВ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хновленность, фантазия, гибкость ума, чуткость к противоречиям; раскованность мыслей, чувств, движений; прогностичность; критичность; наличие своего мнения и др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95640" y="2349360"/>
            <a:ext cx="5976720" cy="2075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ИЗАЦИОННО-ДЕЯТЕЛЬНОСТНЫЕ (МЕТОДОЛОГИЧЕСКИЕ) КАЧЕСТВА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осознания целей учебной деятельности и умение их пояснить; умение поставить цель и организовать её достижение; способность к нормотворчеству; рефлексивное мышление, самоанализ и самооценк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5332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88000" y="1557360"/>
            <a:ext cx="3962160" cy="40888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тность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ладени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ладание человеком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ответствующей компетен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ающей его личностное отношение к ней и предмету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нание в действ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мение человека использовать его на практике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нимать оптимальные решения в условиях неопределен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еализовывать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187280" y="1557360"/>
            <a:ext cx="3313440" cy="40773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я –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вокупность взаимосвязанных качеств лич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знаний, умений, навыков, способов деятельности)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даваемых по отношению к определенному кругу предметов и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необходимых для качественной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195640" y="2349360"/>
            <a:ext cx="5976720" cy="28677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МУНИКАТИВНЫЕ КАЧЕСТВА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словленные необходимостью взаимодействовать с другими людьми, с объектами окружающего мира и его информационными потоками; умение отыскивать, преобразовывать и передавать информацию; выполнять различные социальные роли в группе и коллективе, использовать современные телекоммуникационные технологии (электронная почта, Интернет) и д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195640" y="2349360"/>
            <a:ext cx="5976720" cy="3416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ИРОВОЗЗРЕНЧЕСКИЕ КАЧЕСТВ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, определяющие эмоционально-ценностные установки ученика, его способность к самопознанию и самодвижению, умение определять свое место и роль в окружающем мире, в семье, в коллективе, в природе, государстве, национальные и общечеловеческие устремления, патриотические и толерантные качества личности и т.п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1752480"/>
          <a:ext cx="7537680" cy="4205520"/>
        </p:xfrm>
        <a:graphic>
          <a:graphicData uri="http://schemas.openxmlformats.org/drawingml/2006/table">
            <a:tbl>
              <a:tblPr/>
              <a:tblGrid>
                <a:gridCol w="2212920"/>
                <a:gridCol w="2373480"/>
                <a:gridCol w="2951280"/>
              </a:tblGrid>
              <a:tr h="52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ращивание объема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«формирование разностороннего опыта деятель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 умения,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интегра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ая учебная ситуация, задания ре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естандартная учебная ситуация, задания 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68" name="Text Box 36"/>
          <p:cNvSpPr/>
          <p:nvPr/>
        </p:nvSpPr>
        <p:spPr>
          <a:xfrm>
            <a:off x="1619280" y="1268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1763640" y="83664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НЫЙ ПОДХОД В СООТНОШ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 ЗНАНИЕВ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6920" y="1484280"/>
            <a:ext cx="7488360" cy="439272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caa966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Болотов В.А., Сериков В.В. Компетентностная модель: от идеи к образовательной программе.// Педагогика.    2003,   № 1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Гетманская А.А. Формирование ключевых компетентностей у учащихся. Сайт ИД "Первое сентября". Сайт фестиваля. 2003-2004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Зеер Э.Ф., Павлова А.М., Сыманюк Э.Э. Модернизация профессионального образования: компетентностный подход. - М.,  200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Иванов Д. Компетентности и компетентностный подход в современном образовании. // Воспитание. Образование, Педагогика. Библиотечка «Первого сентября». 2007, №6 (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рхина И.В. Современные ориентиры развития школьного образования в России. // Гуманитарные и социально-экономические науки. 2005, № 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Лебедев О.Е. Компетентностный подход в образовании.//Школьные технологии. 2004, №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1483920"/>
            <a:ext cx="7704000" cy="475308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Лебедев О.Е. Компетентностный подход в образовании.// Школьные технологии. 2004, №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Основина В.А. Проектирование и организация учебного процесса на деятельностной основе. – Ульяновск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Поляков С.Д. Управление развитием личности в учебном процессе. – М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ергеев И.С.,  Блинов В.И.  Как реализовать компетентностный подход на уроке и во внеурочной деятельности. – М: Издательство «Аркти». 2007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Хуторской А.В.  Ключевые компетенции и образовательные стандарты. // Интернет-журнал "Эйдос". – 2002. 23 апреля. http://www.eidos.ru/journal/2002/0423.htm. - В надзаг: Центр дистанционного образования "Эйдос", e-mail: list@eidos.ru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 Шишов С.Е., Агапов И.И.  Компетентностный подход к образованию как необходимость. // Мир образования -образование в мире. 2001,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87280" y="1628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ОСТАВЛЯЮЩИЕ (ЭЛЕМЕНТЫ) СОДЕРЖАНИЯ ПОНЯТИЯ «КОМПЕТЕНТНОСТ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16720" y="4869000"/>
            <a:ext cx="2160720" cy="642600"/>
          </a:xfrm>
          <a:prstGeom prst="rect">
            <a:avLst/>
          </a:prstGeom>
          <a:gradFill rotWithShape="0">
            <a:gsLst>
              <a:gs pos="0">
                <a:srgbClr val="008000">
                  <a:alpha val="23137"/>
                </a:srgbClr>
              </a:gs>
              <a:gs pos="100000">
                <a:srgbClr val="fbfaf7">
                  <a:alpha val="2627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перационная (как делать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19640" y="2492280"/>
            <a:ext cx="2737080" cy="642600"/>
          </a:xfrm>
          <a:prstGeom prst="rect">
            <a:avLst/>
          </a:prstGeom>
          <a:gradFill rotWithShape="0">
            <a:gsLst>
              <a:gs pos="0">
                <a:srgbClr val="faa0ba">
                  <a:alpha val="74117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тивационная (почему? зач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35280" y="4869000"/>
            <a:ext cx="2592360" cy="916920"/>
          </a:xfrm>
          <a:prstGeom prst="rect">
            <a:avLst/>
          </a:prstGeom>
          <a:gradFill rotWithShape="0">
            <a:gsLst>
              <a:gs pos="0">
                <a:srgbClr val="ff6600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тическая (как к этому отнесутся люди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476360" y="2492280"/>
            <a:ext cx="2736720" cy="642600"/>
          </a:xfrm>
          <a:prstGeom prst="rect">
            <a:avLst/>
          </a:prstGeom>
          <a:gradFill rotWithShape="0">
            <a:gsLst>
              <a:gs pos="0">
                <a:srgbClr val="d69b80">
                  <a:alpha val="67058"/>
                </a:srgbClr>
              </a:gs>
              <a:gs pos="100000">
                <a:srgbClr val="f5e5de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что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4869000"/>
            <a:ext cx="2160720" cy="785520"/>
          </a:xfrm>
          <a:prstGeom prst="rect">
            <a:avLst/>
          </a:prstGeom>
          <a:gradFill rotWithShape="0">
            <a:gsLst>
              <a:gs pos="0">
                <a:srgbClr val="cc99ff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с к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03640" y="3645000"/>
            <a:ext cx="3241440" cy="36828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 rot="1867200">
            <a:off x="2301480" y="333504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6200000">
            <a:off x="4464000" y="432864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5"/>
          <p:cNvSpPr/>
          <p:nvPr/>
        </p:nvSpPr>
        <p:spPr>
          <a:xfrm rot="19506000">
            <a:off x="2195280" y="429228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9080400">
            <a:off x="6516360" y="335700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7"/>
          <p:cNvSpPr/>
          <p:nvPr/>
        </p:nvSpPr>
        <p:spPr>
          <a:xfrm rot="12467400">
            <a:off x="6516720" y="4292280"/>
            <a:ext cx="830160" cy="360360"/>
          </a:xfrm>
          <a:prstGeom prst="rightArrow">
            <a:avLst>
              <a:gd name="adj1" fmla="val 50000"/>
              <a:gd name="adj2" fmla="val 5759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3"/>
          <p:cNvSpPr/>
          <p:nvPr/>
        </p:nvSpPr>
        <p:spPr>
          <a:xfrm>
            <a:off x="1187280" y="2349360"/>
            <a:ext cx="73440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беспечить усвоение не «суммы знаний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 сам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 суммы  сведений  из  разных предм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ей), 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ыработ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зволя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йство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в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еопределен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лем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итуац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ля которых заранее нельзя наработ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средств. Их нужно будет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аход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процессе разрешения подоб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ать требуемых резуль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 rot="5400000">
            <a:off x="4608360" y="1734840"/>
            <a:ext cx="718920" cy="649440"/>
          </a:xfrm>
          <a:prstGeom prst="rightArrow">
            <a:avLst>
              <a:gd name="adj1" fmla="val 50000"/>
              <a:gd name="adj2" fmla="val 276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ОРИЧЕСКИЙ АСПЕКТ ПРОБЛЕМЫ: ЗАРУБЕЖНЫЙ ОПЫ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7280" y="1268280"/>
            <a:ext cx="3745080" cy="73332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af9f6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дународная комиссия ЮНЕСКО (1993 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 21 века должен научиться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1268280"/>
            <a:ext cx="3384720" cy="763560"/>
          </a:xfrm>
          <a:prstGeom prst="rect">
            <a:avLst/>
          </a:prstGeom>
          <a:gradFill rotWithShape="0">
            <a:gsLst>
              <a:gs pos="0">
                <a:srgbClr val="d69b80">
                  <a:alpha val="65098"/>
                </a:srgbClr>
              </a:gs>
              <a:gs pos="100000">
                <a:srgbClr val="faf9f6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Европы (1996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ключевых компетент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2492280"/>
            <a:ext cx="3600360" cy="350100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существо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уществлять совместные проекты, разумно и мирно решать конфликт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чить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четать широкие общекультурные знания с глубокими узкопредметным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бот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ретать компетентность, дающую возможность справляться с ситуациями, которые нельзя предвидеть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ть самостоятельным, способным к оценке происходящего, ответственным за свой выбор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03640" y="2492280"/>
            <a:ext cx="3672000" cy="374436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и социальная компетен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и в поликультурном ми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уникативная культура ( в том числе владение устной и письменной речью более чем на одном языке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ая грамо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учиться всю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енные компетентности  описывают набор требований к выпускнику школы, которые позволяют ему продолжать обучение или работат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8"/>
          <p:cNvSpPr/>
          <p:nvPr/>
        </p:nvSpPr>
        <p:spPr>
          <a:xfrm rot="5400000">
            <a:off x="273528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 rot="5400000">
            <a:off x="648000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ТОРИЧЕСКИЙ АСПЕКТ ПРОБЛЕМЫ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 РОССИИ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7280" y="1125360"/>
            <a:ext cx="352908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8039"/>
                </a:srgbClr>
              </a:gs>
              <a:gs pos="100000">
                <a:srgbClr val="faf9f6">
                  <a:alpha val="7803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тратегия модернизации содержания общего образования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писок ключевых компетент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932360" y="1125360"/>
            <a:ext cx="367200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af9f6">
                  <a:alpha val="74117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лючевые компетент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формулировке теоретиков компетентностного подход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2924280"/>
            <a:ext cx="360072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9f0ec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фере самостоятельной познаватель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нована на усвоении способов приобретения знаний из различных источник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сфере гражданско-общественной жиз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социально-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бытовой сфе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культурно-досуговой 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03640" y="2924280"/>
            <a:ext cx="367200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3333"/>
                </a:srgbClr>
              </a:gs>
              <a:gs pos="100000">
                <a:srgbClr val="faf9f6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и объяснять явления действи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трудничать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собственной жизнь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ироваться в человеческих ценност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учиться на протяжении всей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В.Баранников, В.А.Болотов, И.А.Зимняя, В.В.Краевский, О.Е.Лебедев, С.Д. Поляков, В.В.Сериков, М.А.Холодная, А.В.Хуторской, Т.И.Шамова,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 rot="5400000">
            <a:off x="273528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5400000">
            <a:off x="655164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функциональной грамотности у школьник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й Национальный план действий на 2012-2016 годы по развитию функциональной грамотности школьников   описывает комплекс мероприятий в Республике Казахстан в нормативной, учебно-методической, информационной областях, системах подготовки и повышения квалификации педагогических кадр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описывает модель развития системы школьного образования Казахстана на 5-летний период, в котором заинтересованы различные группы общества как внутри, так и вне ее гран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направлен на позиционирование отечественного образования как фактора прогресса Казахстана, как фундамента и капитала процветания нации, личностного и социального успеха гражд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3200"/>
            </a:b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</a:t>
            </a: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функциональной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грамотности у школьник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возможности образования в развитии толерантности, уважения к культурному многообразию, в обеспечении устойчивого развития и безопасности личности, обществу и государству 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для мира и соглас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качественные образовательные услуги должны быть доступны для всех казахстанце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всех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содержание образования должно способствовать профессиональной ориентации, саморазвитию и карьерному росту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жизни и труд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образование должно быть инструментом становления, сотворения и развития собственной личности и индивидуа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в течение всей жиз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полноценной социализации личности в процессе образования будет способствовать партнерство всего сообществ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как открытая систем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7:28:29Z</dcterms:created>
  <dc:creator>tabolina</dc:creator>
  <dc:description/>
  <dc:language>en-US</dc:language>
  <cp:lastModifiedBy>1</cp:lastModifiedBy>
  <dcterms:modified xsi:type="dcterms:W3CDTF">2013-11-07T03:40:45Z</dcterms:modified>
  <cp:revision>110</cp:revision>
  <dc:subject/>
  <dc:title>Слайд 1</dc:title>
</cp:coreProperties>
</file>