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3BAC-F5CB-41F2-AB62-2660F4813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FC76-D3FC-4D9C-A743-837F3546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5A86-236A-4B35-BCA4-FAF1CDA57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3AFC-6791-4A0C-B507-7A7E1AB02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E73B-A39D-4F57-90D5-B4B4CAA19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1842-8841-4D4B-8279-168158BD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7A2F-062A-40CA-A820-002CB7A9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FEF6-2059-41FC-84BE-081D2460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625B-2ADE-4D40-B206-6D425AD2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214C-1434-401E-A19F-458C5A73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8B81-2863-4C70-953C-6C4E5945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B1F0-B24B-47F6-953C-936754B5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A409-BB74-4458-89A2-4662C7B5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56FF-8610-4603-A196-E62BC20F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BAA7-7C97-48BB-8A9E-CE133C20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2668-879B-42FB-A637-AFAB9A1B9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AEED-B8DE-4F28-A8ED-92A24AFAA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8E08-2CD1-48B0-9008-D0D37376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9F44-EC84-4980-B449-9BD5971E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DDF3-3B48-469E-ADDF-460F735C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448A-4C8B-4FB5-AE46-5906C682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DC39-8090-4504-8874-AC1674A8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BF21-FE05-498B-AAFD-731521BA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6D7B-D693-45F2-A2AA-5576FA18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6959-8F88-4C2F-B3E0-16CAAC0CE1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CEF6-C1E1-44D2-BFEB-17EE1882108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8920" y="907560"/>
            <a:ext cx="8713800" cy="2521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ecff"/>
                </a:solidFill>
                <a:latin typeface="Arial"/>
              </a:rPr>
              <a:t>Предмет химии. Вещества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48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водный инструктаж по технике безопасности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85480" y="642960"/>
            <a:ext cx="8072280" cy="229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99"/>
                </a:solidFill>
                <a:latin typeface="Arial"/>
              </a:rPr>
              <a:t>Химия -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это наука о веществах и их превращениях.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6400" y="2999880"/>
            <a:ext cx="8607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Вещество – это, то из  чего состоит тело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93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Из данного перечня выпишите отдельно вещества и тела.</a:t>
            </a:r>
            <a:br>
              <a:rPr sz="3600"/>
            </a:br>
            <a:r>
              <a:rPr b="0" lang="ru-RU" sz="3600" spc="-1" strike="noStrike">
                <a:solidFill>
                  <a:srgbClr val="ffff99"/>
                </a:solidFill>
                <a:latin typeface="Arial"/>
              </a:rPr>
              <a:t>Стакан, кислород, ключ, лед, ртуть, свеча, вода, железо, гипс, керамические трубы, учебник, статуя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68360" y="3716280"/>
          <a:ext cx="8229600" cy="2952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щест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99"/>
                </a:solidFill>
                <a:latin typeface="Arial"/>
              </a:rPr>
              <a:t>Задачи химии: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зучить вещество и его свойства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гнозировать использование веществ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лучение различных веществ, необходимых в народном хозяйств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60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лан характеристики веществ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79280" y="1125360"/>
          <a:ext cx="8713800" cy="5513400"/>
        </p:xfrm>
        <a:graphic>
          <a:graphicData uri="http://schemas.openxmlformats.org/drawingml/2006/table">
            <a:tbl>
              <a:tblPr/>
              <a:tblGrid>
                <a:gridCol w="2376720"/>
                <a:gridCol w="1981080"/>
                <a:gridCol w="2178000"/>
                <a:gridCol w="21780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Призна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сравн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Мед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Саха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Спир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Агрегатное состоя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Цв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Зап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Бле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Тверд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Пластич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Растворимость в вод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Домашнее задание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  <a:ea typeface="Arial"/>
              </a:rPr>
              <a:t> 1 (пересказ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  <a:ea typeface="Arial"/>
              </a:rPr>
              <a:t>Упражнение № 13, 17 (письменно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  <a:ea typeface="Arial"/>
              </a:rPr>
              <a:t>3 тонкие тетради в клетку (в обложке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12:19:25Z</dcterms:created>
  <dc:creator>soltek</dc:creator>
  <dc:description/>
  <dc:language>en-US</dc:language>
  <cp:lastModifiedBy> </cp:lastModifiedBy>
  <dcterms:modified xsi:type="dcterms:W3CDTF">2009-09-04T01:54:34Z</dcterms:modified>
  <cp:revision>9</cp:revision>
  <dc:subject/>
  <dc:title>Предмет химии. Вещества.</dc:title>
</cp:coreProperties>
</file>