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1DFC8-9EB5-476D-9DFF-7A1ABF06B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F7AE3-698D-4DB5-AB2B-E573AB19BA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3C705-E8EA-4765-97A9-588ABD29D9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C3CD-3E10-4364-82EC-C7971B826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0AF28-36C2-411C-AF69-86EE67BC7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41BDC-C73D-4A41-83F5-9AD78A67AB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0614A-AC3C-423B-8159-47F96D21C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9E3FF-595B-43A7-BFEF-0A6976C25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816DB-EB8F-4F85-BF42-6A61B2FFB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4E947-7EED-4663-9206-D95D352A5C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EB6A1-8889-4738-8537-8789FEAE4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842AB-5832-494B-8EA0-FE2D979C04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DF2FBD-8818-455A-8E88-81472F6940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6T10:29:06Z</dcterms:created>
  <dc:creator>User</dc:creator>
  <dc:description/>
  <dc:language>en-US</dc:language>
  <cp:lastModifiedBy>User</cp:lastModifiedBy>
  <dcterms:modified xsi:type="dcterms:W3CDTF">2008-06-16T10:41:50Z</dcterms:modified>
  <cp:revision>4</cp:revision>
  <dc:subject/>
  <dc:title>Слайд 1</dc:title>
</cp:coreProperties>
</file>