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notesMasterIdLst>
    <p:notesMasterId r:id="rId38"/>
  </p:notesMasterIdLst>
  <p:sldIdLst>
    <p:sldId id="256" r:id="rId39"/>
    <p:sldId id="257" r:id="rId40"/>
    <p:sldId id="258" r:id="rId41"/>
    <p:sldId id="259" r:id="rId42"/>
    <p:sldId id="260" r:id="rId43"/>
    <p:sldId id="261" r:id="rId44"/>
    <p:sldId id="262" r:id="rId45"/>
    <p:sldId id="263" r:id="rId46"/>
    <p:sldId id="264" r:id="rId47"/>
    <p:sldId id="265" r:id="rId48"/>
    <p:sldId id="266" r:id="rId49"/>
    <p:sldId id="267" r:id="rId50"/>
    <p:sldId id="268" r:id="rId51"/>
    <p:sldId id="269" r:id="rId52"/>
    <p:sldId id="270" r:id="rId53"/>
    <p:sldId id="271" r:id="rId54"/>
    <p:sldId id="272" r:id="rId55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notesMaster" Target="notesMasters/notesMaster1.xml"/><Relationship Id="rId39" Type="http://schemas.openxmlformats.org/officeDocument/2006/relationships/slide" Target="slides/slide1.xml"/><Relationship Id="rId40" Type="http://schemas.openxmlformats.org/officeDocument/2006/relationships/slide" Target="slides/slide2.xml"/><Relationship Id="rId41" Type="http://schemas.openxmlformats.org/officeDocument/2006/relationships/slide" Target="slides/slide3.xml"/><Relationship Id="rId42" Type="http://schemas.openxmlformats.org/officeDocument/2006/relationships/slide" Target="slides/slide4.xml"/><Relationship Id="rId43" Type="http://schemas.openxmlformats.org/officeDocument/2006/relationships/slide" Target="slides/slide5.xml"/><Relationship Id="rId44" Type="http://schemas.openxmlformats.org/officeDocument/2006/relationships/slide" Target="slides/slide6.xml"/><Relationship Id="rId45" Type="http://schemas.openxmlformats.org/officeDocument/2006/relationships/slide" Target="slides/slide7.xml"/><Relationship Id="rId46" Type="http://schemas.openxmlformats.org/officeDocument/2006/relationships/slide" Target="slides/slide8.xml"/><Relationship Id="rId47" Type="http://schemas.openxmlformats.org/officeDocument/2006/relationships/slide" Target="slides/slide9.xml"/><Relationship Id="rId48" Type="http://schemas.openxmlformats.org/officeDocument/2006/relationships/slide" Target="slides/slide10.xml"/><Relationship Id="rId49" Type="http://schemas.openxmlformats.org/officeDocument/2006/relationships/slide" Target="slides/slide11.xml"/><Relationship Id="rId50" Type="http://schemas.openxmlformats.org/officeDocument/2006/relationships/slide" Target="slides/slide12.xml"/><Relationship Id="rId51" Type="http://schemas.openxmlformats.org/officeDocument/2006/relationships/slide" Target="slides/slide13.xml"/><Relationship Id="rId52" Type="http://schemas.openxmlformats.org/officeDocument/2006/relationships/slide" Target="slides/slide14.xml"/><Relationship Id="rId53" Type="http://schemas.openxmlformats.org/officeDocument/2006/relationships/slide" Target="slides/slide15.xml"/><Relationship Id="rId54" Type="http://schemas.openxmlformats.org/officeDocument/2006/relationships/slide" Target="slides/slide16.xml"/><Relationship Id="rId55" Type="http://schemas.openxmlformats.org/officeDocument/2006/relationships/slide" Target="slides/slide17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 type="dt" idx="109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73760" cy="373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 type="body"/>
          </p:nvPr>
        </p:nvSpPr>
        <p:spPr>
          <a:xfrm>
            <a:off x="680760" y="472392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5"/>
          <p:cNvSpPr>
            <a:spLocks noGrp="1"/>
          </p:cNvSpPr>
          <p:nvPr>
            <p:ph type="ftr" idx="110"/>
          </p:nvPr>
        </p:nvSpPr>
        <p:spPr>
          <a:xfrm>
            <a:off x="-36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PlaceHolder 6"/>
          <p:cNvSpPr>
            <a:spLocks noGrp="1"/>
          </p:cNvSpPr>
          <p:nvPr>
            <p:ph type="sldNum" idx="111"/>
          </p:nvPr>
        </p:nvSpPr>
        <p:spPr>
          <a:xfrm>
            <a:off x="385416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E092F-3F0D-4C0D-9887-9E9C2DA0E4D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73760" cy="373068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0760" y="472392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6" name="Номер слайда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79508-A445-4D39-956B-9155A77C873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73760" cy="373068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0760" y="472392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5" name="Номер слайда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E07F2-B193-46CD-89B3-7A6BE8D7BA9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73760" cy="373068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0760" y="472392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9" name="Номер слайда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4FD0A-1DD6-4E49-9CCB-C64EC7F553D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73760" cy="373068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0760" y="472392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Номер слайда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B3116-47F9-4099-BA2D-CC2C8AF92F0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F7D5-31E9-4375-A4B0-E2E18C1C7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0618-8F73-46FD-A966-7BDEF9521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B9925C-F795-4671-AC4A-6CA904DE3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F3B4BF-7931-43E6-8C75-01F5E734B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704F9A-77D0-44E9-90CF-22A2495D6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8A0E5B-CB75-4123-9833-986AA2B8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58705A-2FC0-4D1C-A158-A56ACF97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56EA51-4940-4A6D-B536-EAB97E4E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AD03B2-123B-4880-A015-2825B2E0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C1704F-6198-412B-9111-F08849246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9C1E61-8675-48F0-AF9E-E219E67C8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EDF3C5-625D-4D88-94CE-32BC6DD78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5F6B-D554-4D82-8BB3-6D17B2154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F1A61F-732B-4BFF-9E70-768129A71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DBC1B3-0EBA-4C06-875C-7229BB57F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BD9468-8944-4E4A-BF0C-9CF3FC3B5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8D0843-D5E8-45E4-B35C-87AA43165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79C10C-1DD4-45D8-99D4-C7A82EA0B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8F2C7A-1FD3-46CB-94FB-CF0A142E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C06B4C-1F23-4CF6-9103-8E33BD48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19E17F-DE7E-4BC9-BD8D-B56C95C1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C810CD-4220-43A5-A801-D6D8B854F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0A34EB-8922-476D-84F5-B8DDF5FA4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FF24-E6CD-4145-AFE6-AFECBAFAA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A96B9F-694F-497B-A531-ED02E3885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B9764C-DE61-4F62-A7EA-0DCF40D13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84C6E8-CF57-44E3-B738-D3CB00AB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52351E-971A-44A1-BD23-0547AC0F3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6349A0-DA56-4051-8A6F-5BAD4A3E6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362BB1-FA55-4EDF-AC26-D20A5EA2B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570EEC-1EE0-4F4D-9BDE-BABE0A130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F58084-5C30-43C6-9093-7FCF50C8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E81901-097B-4379-9E66-6B08A66B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7ACA09-4AAA-467E-A997-0498F107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7A09D-5698-445B-8765-2CB5B9BF5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97FA1C-87F9-4129-868E-1939BA446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57BAF3-6833-4705-8DFB-47FC5F69C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7296C6-39E3-46B6-B4FB-B33B295C2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803163-9E33-4A52-AC23-5C097ABF1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FCC522-4431-49D8-9E7C-5B18CBD5B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10F354-769F-4E65-A6AF-05F9472F6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2078CF-0250-4C84-8DAD-6289B842F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38BBD8-CF04-422E-A5E3-BCB9307F0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815EF8-DAE8-4CFA-95ED-AFBDFC16E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BB3C3E-6A6E-401C-A486-256BED6A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55E20-0771-4E16-AFEF-CCFD469B2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365C3E-848E-4DCA-8C4F-20071EA6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94E537-0203-46BF-B103-5B7F9D64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7DDC4B-4FBE-414D-9271-A8400C24B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BB2A4E-7D75-4D3B-80B7-53E609576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A4C5F4-A581-4A54-AB30-4E4A672C4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501B74-4A6A-467F-AFD9-DCCF3876E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BA2EE2-D2DE-4A87-93A4-477085706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A7C621-0786-4F6E-8545-A74C40EBD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A8859C-15FE-4B0F-9CEF-56D936F88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3CAA98-BAB6-425E-980D-8BF70575E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67F72-9E73-4B7A-9A7A-DDF9FA80E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1EE00E-6116-4609-A1F5-E3D339E0D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3723B6-5DAC-49F5-9390-9A103F4B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FF2DFB-EE71-4ECC-A034-2370D95A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2EC761-AF7E-4AA2-83E2-BC2C2EED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84CA03-CB87-43C9-BF96-7D4A6C563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AA767D-8B54-48E0-90B5-49FB43DDB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B35F12-9F31-4DA0-B33F-648778BD6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1C9B8D-CA26-402F-B4E6-DC19A5B91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97EE40-A3F6-4FB2-A604-339786213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55D05B-D6F8-49A8-838C-FC370B2B2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8958E-5B3B-4273-B1B2-A68E38B9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92870E-736D-47AA-81C2-D488692DE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B5882C-DD37-472B-A6E7-BF8CEBD1A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CF2528-889B-46B4-8C5F-21521CE8D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0CA321-A805-48E8-B7B3-CCB89AEF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F5EF26-9FA6-4ECA-9CF7-0011CD5E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B8944C-081B-4A61-9843-B55267A5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E40C7A-B4E2-4867-B5A2-3C05713C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0C0909-699D-4F08-BD4F-08AE72796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66A7FA-75D4-429B-BB17-748DBF58A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835DEE-4BCB-4687-BA27-D3509A280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224C4-82AD-4248-B343-CCA615A0A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BC032E-F889-4D77-95A6-F996CBBAF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4650DC-D547-4FD1-91FE-2813BA49A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0A1D85-83C0-4DC2-904A-B97F45069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1DA1E2-E78D-4159-AD00-4473CA1FB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720F3F-35A4-4DF7-9E34-19C0A30CD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416CE4-67E1-42B0-938D-BDB65D74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903864-67CB-4984-B1F7-135CE6A7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42A8F7-9EB9-45D5-86FE-109C42CA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8A58FF-E96D-4F4F-889C-E31DDD06E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4272D4-DD15-4C31-AFC8-74B7E601A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7B206-4F44-462D-94F3-D2760D6E4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702206-C761-45EB-AD15-8AF97620B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5B6D20-72C6-469B-8764-278B53B4D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776924-3D58-41C0-BBAF-B1E17E754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F3E5B0-C7A3-4212-8006-1CF04A479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320539-DB91-4EA1-81F4-09CD47065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B392B0-3A70-49BA-90B9-02C55D5EA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F57114-4A2D-4CFA-A3BB-FCDB032D3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0DB3C1-1878-4F0A-8067-614AF604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D5F161-D892-432E-B66F-1CFB08A0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34DAB6-9569-43F8-BCA5-C0B7C050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DF628-ECED-4E57-96B8-BD07C4B7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9265A4-F0E1-4615-96E8-23729A18C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701C61-0496-4F3C-96EB-B4F349279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8032FB-E163-4041-A871-4C47CE004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D46EDE-152B-4B83-BC5F-E441B41EF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60AE6C-677A-404D-A1C1-CBE85CA56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73EAEB-4431-4C71-B5EB-1D5F78ADE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7EAB87-0356-4CA2-9D8D-4A8691CE5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3FAF84-07CC-48AD-A327-096797B3A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065D76-A599-474E-BE02-FDEB19101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0CF744-22FB-4EC1-BA52-BD3CA8A3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50F9-1A64-4EE0-BCD5-4BD296729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6E54B-B778-4AD6-BF00-4392B8C5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42AD30-83F5-4DB0-8E50-0A1C46AB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D0FB57-839E-448A-B26A-92684892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EFADF8-33B2-4D9E-8DAC-52F7820A2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1A6F76-296B-408A-9F72-A8FE3CABC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0343F2-8BB8-4E56-85A3-B01FB14D2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561CF8-7775-4014-A7FD-50020B845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9AB7F9-089F-4B7C-A2B6-2EA448554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E21CB1-F584-4DEE-8CD2-6FEC747AD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83037B-2209-4D69-A782-D99F4887E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DD390D-3E78-49DE-AD6E-1090CFBB8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80111-E2E9-477D-8459-EAFC15E6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3306FA-3D9C-4D48-A96F-62853C7A1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FAE77E-95DC-431A-B3A3-ED07546F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B2DDA7-642D-497B-9F1A-4E075DC8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79FFF8-C6CE-43A1-917C-8A16420A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BFDAAB-8EFB-4DB7-A3E4-C07BA01F2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C25246-57DB-4A2A-8D57-ADC655DF4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1D5B23-466D-4646-ABF3-BA4D3D8EE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B766AA-4145-48B4-8F4F-A161A7A18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8E6FF5-FA15-4D4E-A188-384B8308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582BE7-F72C-4727-AA1D-9E77C242D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3B750-76AA-4A37-B20B-4F5B379CE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AE249D-A731-43B6-9BFB-7BC5B99D5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465734-215B-4D7F-A85C-6464183E7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5E0EB2-47C1-463A-B8F3-135C14D5A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52F86A-CC03-4A82-85BE-2A0D3D1D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D99310-C1E3-4EE9-A47F-6AEB23AD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90CD93-85B7-4349-BF01-71E1F992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F7CD63-0E92-451F-93EA-1F97D1C1D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BA9E03-1134-4907-A9EE-167329664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C38132-5DC4-430D-989F-00906FD80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ED5E9A-23E5-4B24-85BE-0AE9FD618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48ABF-1EA6-4320-A9E3-3E9CA7FC4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01AB66-F6E4-4C57-A5C0-8590C4052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34B94F-9485-4AAE-881F-B41DE8FA4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5B5913-AA44-47C6-9AF5-0D4208B38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41FA3F-F4CB-48F0-ABC4-8B75BDB20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538A94-28CC-4B5D-B752-748BA4FE9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41B9C1-903A-49DC-8889-40968DA6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D59219-C28B-4D75-9141-A82CDB07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F2B4DF-1D7E-4DE9-93DA-14C17FAD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C167F5-FED9-4EC8-9F41-8EF0E9665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A5D823-9E36-4954-A978-E4287809B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7B7FA-6F33-4169-A365-8CBF56CED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C6F8A1-F46E-48DC-95D6-FCBEA3EF9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5F7F5B-F6D3-4490-987F-61DD2AEF9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1E85F4-39CF-43F6-8466-CEA226784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4EDE7A-CE56-4461-8B2E-90E6C2CB0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54495A-4688-49B5-BD25-28E49EF64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1C052F-67F1-4F7A-9B50-A6D6E5D2C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1AAB1C-606D-4F9A-A2F0-3D69F89E5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48BCD5-96BA-46F5-8642-AFA88BD4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A5D0E6-0A1D-4836-9D43-ADDA0E0D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245D64-B039-450D-9533-B4C146F0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BD1B2-2745-4362-B267-E08E4BBC8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A6AD26-D741-4DFC-B645-AC9ED6E72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8D379C-B6C2-48AA-83D5-1A4A5B4E6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7596E6-2AC9-4C01-8D1E-523CB98C9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30565AB-A560-4C27-BD1C-E02BF7962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8F78818-7E75-4130-B9B0-6AFC7A99F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0D93605-DA06-4580-8F88-A3B6EDD21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F550544-D484-4DFF-A908-9628A1382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728F7DA-651F-418F-BEC6-3F830561E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3CAE5AB-E7A0-455A-892E-229CFB40B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0DDBCA-0466-4722-8CD8-5201E0D2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A40DD-17BE-43BF-865D-108142CC2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330C682-C28B-4268-97AB-7899117D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D868551-EC0A-4C5E-97A4-411AB560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8AA75A-0D24-4ACE-9CF4-344B5FF17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ACC39A4-8896-4A36-9512-BEFDFE6F7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00059AC-9E80-4AC4-A20B-EC1694E33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72BE597-DCC7-4085-A430-AB8492E97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2910064-777D-427F-8B77-91BB28897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42379BA-DA2C-4F5F-99DA-67DAE824C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9C70CC8-2D1F-49C7-A3C7-DE5F13559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EA5898E-9FBC-445F-94BA-5389DABB1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D5A95-9845-4012-85E3-6A53AA4C3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7D0013D-9496-49D7-964F-44049875C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D653248-B361-41B8-98EE-F375A341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9EF277F-5BCC-4314-8588-1CD8F039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B657D59-F3B8-4E90-AAC4-D12E2C24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B3F81B5-63D1-4A0E-AF41-0BA70082E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EBD4E06-FE2A-44CF-B880-B54675547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5FF4AB2-50EB-4DEA-AA6D-D451C432E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DCAD377-3949-4B33-BEBE-BD870CA76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8EB689D-FB76-4905-864E-1CF943CD8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83F9436-0E27-40E6-8D80-F3973D08F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24EEB-FDDC-4EED-A566-A0C245576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9EA5C1F-24E1-4C3A-9200-1B689A524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B360FD3-C72C-485B-93AC-A925E1036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F06498D-D99A-47C7-9E28-AFA91373E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3CD88C1-E507-41EB-ADF3-21FAA76A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A572733-BB49-411F-B442-6E450DC4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92F466B-F47D-4E02-BC8B-AF91C519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72CA9C2-354F-4AEB-8B0F-56079ABCF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6169DA6-C98F-4E37-92F2-D06DC6B0E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59CB05B-30DB-484F-85F7-FCE5754A2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6221223-CDB4-47F9-8E87-879FF45D5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FC3F7-7A19-4185-90AC-20FEE56EE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015EC3F-F4F6-434F-8B7A-6A5F26720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3DFB61C-CEF8-4B16-BD45-30E48DF8B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677A7CD-EF38-465B-B603-CCA5F7590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D6C5CD7-0F98-47F1-B573-C87648143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BC9F8BD-D2CA-4762-82D6-EF29BA215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66870CE-B64D-49B8-8622-DFA4742B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A9769F8-C10C-4D92-A618-F2B28986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D427820-0379-42BA-821B-AA5B7CCE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7D63A57-EB11-4CA5-8E93-724BF3045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81FE719-D7DD-4D28-B896-5130925DD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93CA-D7C0-4694-B228-525B78980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D7C16-2033-4E89-86FD-BF7816F79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2E8C11A-D233-4B9B-8DA0-34D982EEF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889F48F-4FEB-414A-B4EB-A4F8BFC5A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9BF5333-ADFA-47DF-8790-2B5D1891D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67C9B41-C184-4E6D-AF49-2CA942663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3D6C746-FDEA-4DBE-8BC7-2B97CD34B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3398C8A-042E-4C79-B2E6-C1E451483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1810C79-463E-4A3B-A5BD-D76BC60FF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127D8AE-1BDF-4030-A349-E9143F2D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0880914-29C7-42EC-9FB5-9239B40C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CBA86EC-856A-46A8-BDB4-AA343F78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14B92-B522-4DF4-B215-45F0F05A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B06A48B-C28C-46A1-AA86-9EBD7751A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3C4C3EF-8158-4AFD-A0F0-EA3F9D81B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DA6578C-407F-4EA6-A60E-460F1AF34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E5A5259-E349-4691-B1CB-1FE4C2CA0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B422D67-F048-4017-BCFC-DA99E57FF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10D8ACC-C275-42B3-88A3-4AF12322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12EE6E8-D4DF-4D4A-AE36-23C7FC47E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54E6606-247F-4C29-9530-B85633850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F88F24B-6BD6-405F-B3C6-9079A01A2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97E9176-74EE-4ADA-B79D-5F460075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7149E-6BE5-4A29-8AF3-271D2D1D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7993B7A-AAFD-41B4-ABA5-636F69F7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5C0AC10-9D59-4B49-90CA-2259F163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34CAFF8-D0D8-4118-A416-A4B759FF6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C46803A-28ED-491A-9551-FFC2ADC22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5B8650A-13D7-4583-ACA0-776D68EEE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E520FBD-D146-464C-9445-CC6D5FD86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FD2E99F-3B00-4911-A237-4F11CD0E0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1CAB5C4-8D41-4BE2-ADF2-69DF2DCD7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FEC66F9-C307-4A7E-93D1-F1A633097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79667A3-4B17-48BD-B3C5-63A8E4F7B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6ED0F-F5B8-4C1E-A479-37323449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A9D779D-78EC-4EB0-8D4D-0D7792979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9B9C9FC-4731-4F66-985E-1FA8BCFB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E77A020-87AA-40B4-84FA-E702964B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98A0BFB-5789-4799-962F-4A25DD96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CC16EB6-F765-4B5D-BA44-9CA4ED95C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4650523-14B1-4ADE-A434-0B8DE2229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4A91947-6B83-4D02-881E-BED7DE8CF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96F0D49-6611-420A-A9B4-C9313B280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1862612-314B-493D-A353-624B36C77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2BFD871-E1B4-4AD4-9622-E1A5BCCFE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2CF17-0AC9-441F-A397-C225D6F92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DD807B3-2069-4CEF-9EB5-F2DF8EED5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45620C1-0053-49C7-B22E-151C09F7F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30F6C7A-A6B6-474E-809A-2DC7CE349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9B53CB7-291F-4EC3-B92B-44B6587E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B83A117-2D6E-4E5C-BF97-79F62BAE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17A3ED0-B1DF-4A3E-894C-0AE9C91B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7985528-8E08-4FFB-8B7C-B1FE21D99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62A92A3-7353-4079-8133-C91CAC370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FBFCCB3-16B8-47BC-A9E4-F568CEBAE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66C638A-C233-4B43-B773-3B4D6F6C6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A6D86-21C9-4EA4-839B-5653CD5E7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A08DD3E-5C5C-432A-97B1-731D361F5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1DB59B4-ACC5-4FCE-BF53-97B31DD3B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64CDFDD-AADD-47D8-B064-F09028C2D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40DE6A2-7E0B-4D0D-903F-3060318C8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D6639F2-9712-459A-8A99-286FEE1E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11AB847-D8BE-49A4-BD2E-F8F73893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C7049E3-042A-4C41-9E67-B77B265A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C77DCED-1D2A-48DC-B6E9-AE01A1FF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6B335D6-F551-4BD6-B683-EE9340276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CC55F86-C30F-4294-AE44-28F83E30B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E7648-F8C7-4FCB-81DB-5DC0EDA81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C2CCF59-78B2-4949-9B1A-85BE5898A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CFD95D6-B1D9-4032-AB71-AE9156A63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F1F13BF-475C-4A33-9E10-69E090B1E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7E71446-B587-41BD-89A7-A85DE3B87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7370F2C-94F4-44B2-8D87-A0E2C172D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E0EA78E-7AFD-43B4-838C-93D5AC20C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B65DD03-C0E7-4F4A-9C8C-4F4AEBCDD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940E227-A035-46E7-A4B5-2472B64D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FC6875E-C741-4BA9-8992-315FF9A8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6C0FC82-D98C-4373-8E8B-ABE77AE7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48D7D-8378-44CB-A268-119F07409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4752FA8-4FB9-4311-B825-F0EC4E697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C092F35-D3F1-43D4-B00D-EECA33F3A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F16439D-CBD8-4C73-9785-365009491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D3BA8D2-C7C9-4478-934A-B7034E26D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9672767-029E-4DB1-B271-A39D71AFF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377E8FD-B56C-4D13-940E-671EFE598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682C9F6-DEFC-48B1-ADEA-AB77A010A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FD4D0FA-DED0-4C22-9262-A0EF44DD1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0E87F40-1B7A-4D5B-8814-2B74CE40B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66A565F-6141-47C4-94BB-CB42ACB7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2DDEC-FCC6-4348-949A-BA4B01BFC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0558061-53C2-47D1-8F98-AFA5D692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0541050-D3EC-42AF-A725-EF1FEF29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D39F8AD-EC35-4E84-AEBE-3F16CD2E3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CEEFCA6-AD54-40DF-99AB-21D03A924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8FD9835-AD61-4333-95F3-6735F3FD7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4814164-6053-4395-BD1B-DDC2B40D8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3F5313E-5572-4BCD-A9E9-612F4CAB1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EFAE13E-5C88-4AE7-A50E-6B35F47C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A330CB8-AA5A-42EC-9136-3A85CF35E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F28ACEA-8E7F-4435-BD58-48F4549B5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A26FC-FE1F-4E2B-8C4A-7C7804B37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FBF76BF-E0CF-40F1-B33A-A2D8FEA52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CCEA606-93C2-440C-BADC-2E9EDFA2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276A2B3-DB96-4749-ACA7-4BEF75AB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2FD86DD-6340-487B-9DB7-A5EDCE8C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8E09FFE-229D-4633-8FDF-36B315F73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4D06428-D7F8-4649-A354-2D023742C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EF7F241-1C1B-4DFE-8AFA-C9ABA3C06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1BF7C48-3423-49BB-B29D-BE832DBEB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9A996DF-FB19-4100-8BB8-CD47184F9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950E807-4125-4AF1-9349-928F09696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A290-B1F9-4CDA-8AE9-761984F9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21972-A5BC-44BF-BB70-EDC0BB11D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C47612F-06A0-4B08-92DC-45962DB49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2B89B08-2EBE-4241-8DAE-852501BAB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10A3A46-B638-471F-B7E7-7977C163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A89BBA9-6814-4A15-83F4-C6EBF38D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45CB378-7164-43CD-8258-E012BD81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0428819-E6D5-483B-88C2-9F04A97A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8A00738-7CAA-4B47-98CF-08A12BBD4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7A89EAB-DE0B-4993-9917-EDC78D838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E7A49C4-80A4-408E-BF09-69671C2C5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385AE5C-841B-46B9-92B8-838207A8A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437F6-FA7D-4DBF-95F7-6E45E122E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F26D779-0D56-477C-AC76-2DD7E7848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04F75D0-B596-46E9-A0EC-0A527821A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0E5F207-2378-4B9A-B4BF-AD65AEE1F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27C204A-1107-4043-8D5D-1D1D43E14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CE48DD8-4520-4F59-B386-C9421F8D8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9899CE9-3F55-4F74-8629-C53CD440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DB60AF5-F51B-4DB8-A308-31025462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00ABB8B-D124-4332-9B6C-6A22740E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C181186-87EB-4FEE-BAEE-2B6E0422D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F62A798-C081-422A-A22A-A43582ADF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3FC24-66E7-4614-8822-96FEFEC72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B32DEFE-07C1-4DA0-ABC9-8D218DFAF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68FE0A2-AECF-47BF-889C-388170512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14B45DB-245A-419E-AA70-894001C14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7D4E5F3-C867-48C5-B78C-78D077033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C5DF84C-8C48-4110-B0EF-8B5A68210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4D18B7A-0B3E-45E4-96D1-01B12F422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A5B2797-594A-4BB6-93A1-CCFEE69CE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3098F6A-172E-47BF-9A49-D7BA4F46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BAD0B89-E9AB-447A-AE4A-5696C285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743910A-0495-46A1-B5C9-4166CA23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CC6B0-E73F-4C17-993B-F61E11A6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3860095-A40B-4C98-B308-97951E73F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62A3EDD-91FE-4A7C-AC70-B47CC7937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34CD715-7B91-4E0F-AEEF-0047E8628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5DCBB-106D-4732-8F9C-0E0E64EA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377F6-0D5E-4D25-B5E8-250DD6E8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E6373-4434-49B1-8A4A-38511D725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0D056-DCAB-4B58-8ABA-5D404593C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1D12F-26F6-48B0-9CB0-945F9AE50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89A01-9BFC-49CA-BF55-24DC0429F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62BB-02A6-4F3F-AB6B-70450EC11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929F6-11DE-410E-A2B8-5EB2F2820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6F896-432B-4DF3-BDF4-B5FE84AA6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E8A80-1CA2-4020-AB4F-31A329643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FA424-7195-4F0A-BDDD-25F63B9A4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02B98-BBCB-4A9F-99DB-B0AC12A9A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7D50D-3F7C-4D8F-909F-429BCDA4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DB436-BE27-4772-A935-D64049A1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16949-74B2-4FBD-B749-10505075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151A1-AEAB-4472-B160-5AB690466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5B824-0D52-4503-8C33-9DB2AE317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8ED0-C320-464A-BEEF-7E754A91B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5650E-77F8-4AAE-BA4A-FA1685EF5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D809D-83D8-44EF-A5CC-E7A027FC0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4B1DA-B170-4A3F-9033-2BF19C754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99E217-0D32-45E1-9ED9-8D7ACBC45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25824-1904-4198-8D61-BEB562A19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7C5A63-FB2C-45E9-8DFD-EC3F32822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14B78-F2FB-4156-8CEF-B94D8BE57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01445-3DA1-4D79-833A-7AEDFCB9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1141B-61A7-44C0-9B8D-16E8FACE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03F9F-61A2-42E4-977E-D5D97942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1495-9666-424B-9D3B-B5E7CF79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41D4A2-A520-486D-856D-CA76BF09A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10663C-320B-454F-9429-9D08DE7D5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6EE92-0490-499B-BEC9-BA3279973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EC14D-72D8-46B1-8FDE-FB3A37C82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95941C-D450-4D2C-977B-80E750AED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21A9E3-F9E9-48E9-AB1F-E8595F4BD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A85F31-DB7C-4282-9065-FD9F9C93E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A8D589-64EE-4A5F-8E3B-68D80FA85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9E3615-4FD1-4B01-B8BB-8BE512FDC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42AF38-821D-41E6-8CE4-8D1A6158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DE9D-CF15-417C-AC9C-BDDE270C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BD130-083E-4ADE-8A1F-5F0354E9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9511D-1A6B-443B-AE49-17E38DA0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1EC095-B104-434D-9AAA-4A7957254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0779F-E376-4D45-9B08-27F712E62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DB291A-3C45-41CA-BEE4-7AD0922CE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AD7EA2-B621-45EA-8AC7-0BE218D1C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97D786-1EB7-40C9-A90B-E4DD664DD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4D60B5-C276-4D35-8C64-DFF82489F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49A26E-E8F8-4C0C-BB3F-2E33DD9A9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84E10E-D954-4F8F-86BD-ECBFBBA05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12E4-627E-407F-A9B6-CDB19C17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E01F86-F564-43CB-9604-C5514FC55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B300C7-CCB8-4A42-B425-4FBA8A44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2F8179-8634-48F2-87AA-023F6CED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C62166-B090-4933-8EA5-64EEEB02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113FB0-8587-4B82-A951-4C9318A01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510E59-C342-4AAF-9F1C-63DAF33A9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BA2B81-A0EF-4DDE-B213-0BC6916AB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5C9C0C-83A3-4631-9384-7804AB752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2B33CC-94D9-4DFF-B553-4FCA526B7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81A293-9B07-4FC6-BEA6-EADC56AF6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2003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20032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a9a10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fe00f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5df0f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b7a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34DB8-EDF7-401E-896D-63B4AC5AAA20}" type="datetime">
              <a:rPr b="0" lang="ru-RU" sz="1000" spc="-1" strike="noStrike">
                <a:solidFill>
                  <a:srgbClr val="3b7a26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b7a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717FF-E4CD-43C1-883F-69AE884A9E7C}" type="slidenum">
              <a:rPr b="0" lang="ru-RU" sz="1000" spc="-1" strike="noStrike">
                <a:solidFill>
                  <a:srgbClr val="3b7a2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2003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20032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a9a10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fe00f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5df0f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28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b7a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4B793-19A7-4DB4-B2E0-AFD9A64298CB}" type="datetime">
              <a:rPr b="0" lang="ru-RU" sz="1000" spc="-1" strike="noStrike">
                <a:solidFill>
                  <a:srgbClr val="3b7a26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29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30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b7a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216C-D473-4D79-9F94-5B1E5D96C015}" type="slidenum">
              <a:rPr b="0" lang="ru-RU" sz="1000" spc="-1" strike="noStrike">
                <a:solidFill>
                  <a:srgbClr val="3b7a2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2003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20032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a9a10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fe00f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5df0f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3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b7a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3C561-D325-4468-BDA9-AEE734ED0BBA}" type="datetime">
              <a:rPr b="0" lang="ru-RU" sz="1000" spc="-1" strike="noStrike">
                <a:solidFill>
                  <a:srgbClr val="3b7a26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3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33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b7a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5DBD6-8A38-40A2-A560-771C29759D45}" type="slidenum">
              <a:rPr b="0" lang="ru-RU" sz="1000" spc="-1" strike="noStrike">
                <a:solidFill>
                  <a:srgbClr val="3b7a2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2003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20032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a9a10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fe00f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5df0f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3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b7a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BA39F-E25B-49C6-9EED-F0E698B2D647}" type="datetime">
              <a:rPr b="0" lang="ru-RU" sz="1000" spc="-1" strike="noStrike">
                <a:solidFill>
                  <a:srgbClr val="3b7a26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3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3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b7a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40BE4-6246-44C7-A000-71E25AE7B474}" type="slidenum">
              <a:rPr b="0" lang="ru-RU" sz="1000" spc="-1" strike="noStrike">
                <a:solidFill>
                  <a:srgbClr val="3b7a2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2003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20032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a9a10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fe00f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5df0f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dt" idx="3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b7a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249F2-1764-4877-B122-FEFDBD7650CC}" type="datetime">
              <a:rPr b="0" lang="ru-RU" sz="1000" spc="-1" strike="noStrike">
                <a:solidFill>
                  <a:srgbClr val="3b7a26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ftr" idx="3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sldNum" idx="3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b7a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AA6E4-9D41-4E04-896C-9CC034D0EE60}" type="slidenum">
              <a:rPr b="0" lang="ru-RU" sz="1000" spc="-1" strike="noStrike">
                <a:solidFill>
                  <a:srgbClr val="3b7a2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2003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20032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a9a10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fe00f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5df0f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dt" idx="4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b7a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646F-D1DA-4495-BEBD-E05D05EB6DF1}" type="datetime">
              <a:rPr b="0" lang="ru-RU" sz="1000" spc="-1" strike="noStrike">
                <a:solidFill>
                  <a:srgbClr val="3b7a26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ftr" idx="4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 type="sldNum" idx="4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b7a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BD937-B086-4F51-9FFC-AD421871C61C}" type="slidenum">
              <a:rPr b="0" lang="ru-RU" sz="1000" spc="-1" strike="noStrike">
                <a:solidFill>
                  <a:srgbClr val="3b7a2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92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93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4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5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6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7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CD983-651A-4EC9-808F-D740CF1746CB}" type="datetime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ftr" idx="4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 type="sldNum" idx="4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B55FF-9209-4D5D-81C2-39D3B5A0979B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1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42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643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4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5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46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7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FAF0C-9133-4258-9EE4-91FD13DAA55A}" type="datetime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24C81-CF04-4659-907A-27D332832883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1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92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693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4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5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96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7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AE58B-D743-4604-8A46-7CA046AA7306}" type="datetime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 type="ftr" idx="5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 type="sldNum" idx="5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E2E50-914C-4A20-BE95-E6999E2EB77D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742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743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4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5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746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7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85875-90D4-4D30-B71B-3635EFFF6B07}" type="datetime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 type="ftr" idx="5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 type="sldNum" idx="5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07809-48DF-47C9-A203-75F065C2C094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1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792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793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4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5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796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7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CE2EB-95A6-4E9A-9018-709CE5B94416}" type="datetime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 type="ftr" idx="5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 type="sldNum" idx="5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C2E06-6A8C-4167-8798-D38A2F966633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2EF4E-3416-4229-8E97-474EBC6B0284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C2FDF-75A7-45A5-842D-66B55EEE89E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1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2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5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1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42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843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846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7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85A44-FA8F-47AB-AFB3-2B3B70478E03}" type="datetime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 type="ftr" idx="5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 type="sldNum" idx="6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E5E6F-05C0-46EF-AA94-CA48B5BA0436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1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92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893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4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5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896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7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49285-66C1-4353-8E94-9AEA9097ECBB}" type="datetime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 type="ftr" idx="6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 type="sldNum" idx="6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AB75-7123-42F1-93CE-22C89B3704E9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1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42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43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4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5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46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7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C4FB2-B3D1-4E22-A93B-447E75ABA8E9}" type="datetime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 type="ftr" idx="6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 type="sldNum" idx="6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51947-21C2-4839-A541-E9C048ED41FE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65DD7-A82C-4733-8D6C-EBE5A08F2AC3}" type="datetime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 type="ftr" idx="6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 type="sldNum" idx="6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AECC1-E5AF-443D-B1B1-9EAE58429669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6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7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38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0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41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F146B-CD54-44E0-90D5-377A7D2665E5}" type="datetime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 type="ftr" idx="7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 type="sldNum" idx="7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B17F7-9DE4-4C2E-AACA-B0712A73EA67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6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87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88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0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1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E57CD-F45E-4D81-B721-F8B37E0B8AAF}" type="datetime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ftr" idx="7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sldNum" idx="7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9248F-1A45-4BB5-ACF7-D524D8A8E6A0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51E05-0A58-4C41-9E6B-ABC59EF705F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A5E90-401C-42AF-A193-F2BC11572F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5E5D4-81D4-4D4F-A352-49563AE9A69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C17E3-C9B7-4134-8C24-0BFDE99833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D36B4-76CB-44A4-B9F3-46BD05D7640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79F38-F322-4B87-985F-EEB5AC4BA9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C0F9A-2C28-4832-B05D-F106E76251B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5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C7C49-5006-4C01-8D6F-93C2A65CF0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9502F-F949-4B58-AFD2-604903B77BC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20EDC-EF85-427E-A2B3-53DE57C979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16F9E-0BAA-4D98-9E5A-26E3A19CE3C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 type="ftr" idx="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5"/>
          <p:cNvSpPr>
            <a:spLocks noGrp="1"/>
          </p:cNvSpPr>
          <p:nvPr>
            <p:ph type="sldNum" idx="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94575-2BF1-4070-AD71-2766754048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 type="dt" idx="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D6D97-43D1-4616-AF91-CA4322D884A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 type="ftr" idx="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 type="sldNum" idx="9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375C1-7AA0-42F8-919F-CD81CDEEA7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 type="dt" idx="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6F4A8-5CAE-4A5C-9FF8-A01D5D8AA5A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 type="ftr" idx="9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5"/>
          <p:cNvSpPr>
            <a:spLocks noGrp="1"/>
          </p:cNvSpPr>
          <p:nvPr>
            <p:ph type="sldNum" idx="9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1D89A-A06B-4C50-9DF4-C0AC94C5E6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 type="dt" idx="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19BC5-A5EF-4349-B556-EBC40CD220F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 type="ftr" idx="9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5"/>
          <p:cNvSpPr>
            <a:spLocks noGrp="1"/>
          </p:cNvSpPr>
          <p:nvPr>
            <p:ph type="sldNum" idx="9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95164-FCBD-4B48-8014-14D421F9B1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 type="dt" idx="1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FFC82-1566-4F30-9145-6DA5EEC72AD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PlaceHolder 4"/>
          <p:cNvSpPr>
            <a:spLocks noGrp="1"/>
          </p:cNvSpPr>
          <p:nvPr>
            <p:ph type="ftr" idx="10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5"/>
          <p:cNvSpPr>
            <a:spLocks noGrp="1"/>
          </p:cNvSpPr>
          <p:nvPr>
            <p:ph type="sldNum" idx="10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978FF-BB2C-4EE0-A990-7AA6A3E814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 type="dt" idx="10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93D10-1BC7-4A1C-B067-CA0875DBCC9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 type="ftr" idx="10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5"/>
          <p:cNvSpPr>
            <a:spLocks noGrp="1"/>
          </p:cNvSpPr>
          <p:nvPr>
            <p:ph type="sldNum" idx="10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BE969-9C4F-4205-986B-85D8F0BC38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 type="dt" idx="10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9FFCE-65AC-4CD6-970D-7DBC8235589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PlaceHolder 4"/>
          <p:cNvSpPr>
            <a:spLocks noGrp="1"/>
          </p:cNvSpPr>
          <p:nvPr>
            <p:ph type="ftr" idx="10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PlaceHolder 5"/>
          <p:cNvSpPr>
            <a:spLocks noGrp="1"/>
          </p:cNvSpPr>
          <p:nvPr>
            <p:ph type="sldNum" idx="10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F59E-B10E-42C2-84E7-D805FAE7F9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2003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20032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a9a10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fe00f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5df0f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b7a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324BF-A962-40E9-A73E-E898C6C771B9}" type="datetime">
              <a:rPr b="0" lang="ru-RU" sz="1000" spc="-1" strike="noStrike">
                <a:solidFill>
                  <a:srgbClr val="3b7a26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b7a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2C639-7764-48A4-8ACB-69FD63059452}" type="slidenum">
              <a:rPr b="0" lang="ru-RU" sz="1000" spc="-1" strike="noStrike">
                <a:solidFill>
                  <a:srgbClr val="3b7a2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2003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20032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a9a10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fe00f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5df0f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b7a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C2D0D-4B7F-4CEC-914E-6B7B75B49517}" type="datetime">
              <a:rPr b="0" lang="ru-RU" sz="1000" spc="-1" strike="noStrike">
                <a:solidFill>
                  <a:srgbClr val="3b7a26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b7a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3561-F3E2-4867-A95B-0622656536EE}" type="slidenum">
              <a:rPr b="0" lang="ru-RU" sz="1000" spc="-1" strike="noStrike">
                <a:solidFill>
                  <a:srgbClr val="3b7a2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2003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20032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a9a10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fe00f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5df0f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b7a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40904-315E-4AC8-91A5-11C72A5F42DB}" type="datetime">
              <a:rPr b="0" lang="ru-RU" sz="1000" spc="-1" strike="noStrike">
                <a:solidFill>
                  <a:srgbClr val="3b7a26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b7a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D5D6F-088A-4A54-8A22-C3E8C5D89540}" type="slidenum">
              <a:rPr b="0" lang="ru-RU" sz="1000" spc="-1" strike="noStrike">
                <a:solidFill>
                  <a:srgbClr val="3b7a2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2003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20032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a9a10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fe00f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5df0f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b7a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8BC30-FB5F-40C1-A333-E3916A27560C}" type="datetime">
              <a:rPr b="0" lang="ru-RU" sz="1000" spc="-1" strike="noStrike">
                <a:solidFill>
                  <a:srgbClr val="3b7a26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b7a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8FDAC-E63B-48B1-A4CA-AD8C9488028E}" type="slidenum">
              <a:rPr b="0" lang="ru-RU" sz="1000" spc="-1" strike="noStrike">
                <a:solidFill>
                  <a:srgbClr val="3b7a2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2003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20032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a9a10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fe00f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5df0f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b7a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EF68F-7F31-4ADF-91FC-1CE353D09337}" type="datetime">
              <a:rPr b="0" lang="ru-RU" sz="1000" spc="-1" strike="noStrike">
                <a:solidFill>
                  <a:srgbClr val="3b7a26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b7a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89B27-D72A-4126-9800-0CA326BC9DFB}" type="slidenum">
              <a:rPr b="0" lang="ru-RU" sz="1000" spc="-1" strike="noStrike">
                <a:solidFill>
                  <a:srgbClr val="3b7a2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2003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20032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a9a10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fe00f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5df0f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5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b7a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71DD9-4EF9-40F7-9D74-E9BE4325A505}" type="datetime">
              <a:rPr b="0" lang="ru-RU" sz="1000" spc="-1" strike="noStrike">
                <a:solidFill>
                  <a:srgbClr val="3b7a26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6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7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b7a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BB770-3423-44F3-9207-620AC98E5326}" type="slidenum">
              <a:rPr b="0" lang="ru-RU" sz="1000" spc="-1" strike="noStrike">
                <a:solidFill>
                  <a:srgbClr val="3b7a2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2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0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0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2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0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0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2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2" name="Заголовок 1" descr=""/>
          <p:cNvPicPr/>
          <p:nvPr/>
        </p:nvPicPr>
        <p:blipFill>
          <a:blip r:embed="rId1"/>
          <a:stretch/>
        </p:blipFill>
        <p:spPr>
          <a:xfrm>
            <a:off x="542880" y="1378080"/>
            <a:ext cx="8302680" cy="32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Номер слайда 1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4D110-4C1A-4658-8499-9C503197B8C7}" type="slidenum">
              <a:rPr b="0" lang="ru-RU" sz="1000" spc="-1" strike="noStrike">
                <a:solidFill>
                  <a:srgbClr val="3b7a2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1" name="Объект 2"/>
          <p:cNvGraphicFramePr/>
          <p:nvPr/>
        </p:nvGraphicFramePr>
        <p:xfrm>
          <a:off x="0" y="73080"/>
          <a:ext cx="928800" cy="49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2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3080"/>
                    <a:ext cx="92880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3" name="TextBox 3"/>
          <p:cNvSpPr/>
          <p:nvPr/>
        </p:nvSpPr>
        <p:spPr>
          <a:xfrm>
            <a:off x="857160" y="73080"/>
            <a:ext cx="8286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Жоғары білім беру мамандықтары бойынша бейінді пәндердің комбинация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4" name=""/>
          <p:cNvGraphicFramePr/>
          <p:nvPr/>
        </p:nvGraphicFramePr>
        <p:xfrm>
          <a:off x="250920" y="890640"/>
          <a:ext cx="8713800" cy="5211720"/>
        </p:xfrm>
        <a:graphic>
          <a:graphicData uri="http://schemas.openxmlformats.org/drawingml/2006/table">
            <a:tbl>
              <a:tblPr/>
              <a:tblGrid>
                <a:gridCol w="771480"/>
                <a:gridCol w="2922480"/>
                <a:gridCol w="3084480"/>
                <a:gridCol w="1935360"/>
              </a:tblGrid>
              <a:tr h="7524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бейінді пән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бейінді пән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мандықтар сан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к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ик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к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граф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м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граф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ет тілі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ри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граф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ет тілі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ри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ам. Қоғам. Құқық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ри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граф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м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ик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қыту тілі және әдебие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ри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ығармашылық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ығармашылық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рлығы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өменде көрсетілген марапаттардың иегерлері жалпыға ортақ тәртіпте ҰБТ тапсырады. Бұл тұлғалардың басым құқығы басқа талапкерлермен баллдары бірдей болған жағдайда ғана ескеріледі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6" name="Номер слайда 1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0FF50-20A6-448A-A265-902D10D2A92D}" type="slidenum">
              <a:rPr b="0" lang="ru-RU" sz="10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7" name="Схема 2" descr=""/>
          <p:cNvPicPr/>
          <p:nvPr/>
        </p:nvPicPr>
        <p:blipFill>
          <a:blip r:embed="rId1"/>
          <a:stretch/>
        </p:blipFill>
        <p:spPr>
          <a:xfrm>
            <a:off x="596880" y="1414440"/>
            <a:ext cx="8089920" cy="545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58" name="Объект 4"/>
          <p:cNvGraphicFramePr/>
          <p:nvPr/>
        </p:nvGraphicFramePr>
        <p:xfrm>
          <a:off x="0" y="73080"/>
          <a:ext cx="928800" cy="490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59" name="Объект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73080"/>
                    <a:ext cx="92880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Номер слайда 1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F5DB0-144B-4E80-B212-050778E33036}" type="slidenum">
              <a:rPr b="0" lang="ru-RU" sz="1000" spc="-1" strike="noStrike">
                <a:solidFill>
                  <a:srgbClr val="3b7a2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1" name="Объект 2"/>
          <p:cNvGraphicFramePr/>
          <p:nvPr/>
        </p:nvGraphicFramePr>
        <p:xfrm>
          <a:off x="0" y="73080"/>
          <a:ext cx="928800" cy="49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2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3080"/>
                    <a:ext cx="92880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3" name=""/>
          <p:cNvGraphicFramePr/>
          <p:nvPr/>
        </p:nvGraphicFramePr>
        <p:xfrm>
          <a:off x="324000" y="762120"/>
          <a:ext cx="8591400" cy="3957480"/>
        </p:xfrm>
        <a:graphic>
          <a:graphicData uri="http://schemas.openxmlformats.org/drawingml/2006/table">
            <a:tbl>
              <a:tblPr/>
              <a:tblGrid>
                <a:gridCol w="1601640"/>
                <a:gridCol w="582480"/>
                <a:gridCol w="1455840"/>
                <a:gridCol w="2257560"/>
                <a:gridCol w="2693880"/>
              </a:tblGrid>
              <a:tr h="539640"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лок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9a9f2"/>
                    </a:solidFill>
                  </a:tcPr>
                </a:tc>
                <a:tc gridSpan="2"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апсырмалар сан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9a9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апсырма нысан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9a9f2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ағалау нысан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9a9f2"/>
                    </a:solidFill>
                  </a:tcPr>
                </a:tc>
              </a:tr>
              <a:tr h="789120"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алпы </a:t>
                      </a:r>
                      <a:r>
                        <a:rPr b="1" lang="kk-KZ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ейіндік</a:t>
                      </a: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пән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9a9f2"/>
                    </a:solidFill>
                  </a:tcPr>
                </a:tc>
                <a:tc gridSpan="2"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e2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ір дұрыс жауапт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e2fa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алпы базалық пән бойынша академиялық тапсырмала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fc"/>
                    </a:solidFill>
                  </a:tcPr>
                </a:tc>
              </a:tr>
              <a:tr h="525240">
                <a:tc rowSpan="3"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ейіндік пән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9a9f2"/>
                    </a:solidFill>
                  </a:tcPr>
                </a:tc>
                <a:tc rowSpan="3"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e2fa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fc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ір дұрыс жауапт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e2fa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реңдетілген академиялық білі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fc"/>
                    </a:solidFill>
                  </a:tcPr>
                </a:tc>
              </a:tr>
              <a:tr h="78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fc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ір немесе бірнеше дұрыс жауапт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e2fa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лық бағалау және академиялық білімінің орнықтылығ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fc"/>
                    </a:solidFill>
                  </a:tcPr>
                </a:tc>
              </a:tr>
              <a:tr h="131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</a:t>
                      </a:r>
                      <a:br>
                        <a:rPr sz="1500"/>
                      </a:b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 тапсырмаға 2 ситуациялық тапсырм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fc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ір дұрыс жауапты таңдауда ситуациялық тапсырмала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e2fa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адемиялық білімі, икемділігі мен дағдысы негізіндегі пәнді практикалық түсінуін бағала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fc"/>
                    </a:solidFill>
                  </a:tcPr>
                </a:tc>
              </a:tr>
            </a:tbl>
          </a:graphicData>
        </a:graphic>
      </p:graphicFrame>
      <p:sp>
        <p:nvSpPr>
          <p:cNvPr id="1664" name="Прямоугольник 1"/>
          <p:cNvSpPr/>
          <p:nvPr/>
        </p:nvSpPr>
        <p:spPr>
          <a:xfrm>
            <a:off x="358920" y="4700520"/>
            <a:ext cx="84312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k-KZ" sz="15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k-KZ" sz="1500" spc="-1" strike="noStrike">
                <a:solidFill>
                  <a:srgbClr val="000000"/>
                </a:solidFill>
                <a:latin typeface="Arial"/>
              </a:rPr>
              <a:t>Тапсырмалар саны:  </a:t>
            </a:r>
            <a:r>
              <a:rPr b="1" lang="kk-KZ" sz="1500" spc="-1" strike="noStrike">
                <a:solidFill>
                  <a:srgbClr val="ff0000"/>
                </a:solidFill>
                <a:latin typeface="Arial"/>
              </a:rPr>
              <a:t>6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Максималды балл саны: </a:t>
            </a:r>
            <a:r>
              <a:rPr b="1" lang="ru-RU" sz="1500" spc="-1" strike="noStrike">
                <a:solidFill>
                  <a:srgbClr val="ff0000"/>
                </a:solidFill>
                <a:latin typeface="Arial"/>
              </a:rPr>
              <a:t>70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Шектік деңгей: 35 балл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ір немесе бірнеше дұрыс жауапбы бар тест тапсырмаларын бағалау тәртібі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- дұрыс жауаптарын толық таңдау - 2 бал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- 1 қате (1 дұрыс жауап табылмады немесе 1 дұрыс емес жауап таңдалды) – 1 бал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-  2 немесе одан көп қателер – 0 бал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TextBox 3"/>
          <p:cNvSpPr/>
          <p:nvPr/>
        </p:nvSpPr>
        <p:spPr>
          <a:xfrm>
            <a:off x="647640" y="0"/>
            <a:ext cx="82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лледжді аяқтаған қатысушыларға ТКТ тест тапсырмаларының құрылымы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қысқартылған бағдарлама бойынша оқу нысан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Номер слайда 1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F770C-C5D9-497A-A0A0-5AE780577315}" type="slidenum">
              <a:rPr b="0" lang="ru-RU" sz="1000" spc="-1" strike="noStrike">
                <a:solidFill>
                  <a:srgbClr val="3b7a2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7" name="Схема 2" descr=""/>
          <p:cNvPicPr/>
          <p:nvPr/>
        </p:nvPicPr>
        <p:blipFill>
          <a:blip r:embed="rId1"/>
          <a:stretch/>
        </p:blipFill>
        <p:spPr>
          <a:xfrm>
            <a:off x="596880" y="365040"/>
            <a:ext cx="8163000" cy="6340680"/>
          </a:xfrm>
          <a:prstGeom prst="rect">
            <a:avLst/>
          </a:prstGeom>
          <a:ln w="0">
            <a:noFill/>
          </a:ln>
        </p:spPr>
      </p:pic>
      <p:sp>
        <p:nvSpPr>
          <p:cNvPr id="1668" name="TextBox 4"/>
          <p:cNvSpPr/>
          <p:nvPr/>
        </p:nvSpPr>
        <p:spPr>
          <a:xfrm>
            <a:off x="1258920" y="5589720"/>
            <a:ext cx="6842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ҚР БҒМ 2010 жылғы 21 маусымдағы №316 бұйрығымен бекітілген, ҚР БҒМ 2016 жылғы 4 тамыздағы №489  бұйрығымен өзгерістер мен толықтырулар енгізілге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9" name="Объект 5"/>
          <p:cNvGraphicFramePr/>
          <p:nvPr/>
        </p:nvGraphicFramePr>
        <p:xfrm>
          <a:off x="0" y="73080"/>
          <a:ext cx="928800" cy="490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70" name="Объект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73080"/>
                    <a:ext cx="92880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Номер слайда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70CB1-2E33-4565-B565-5121353CEB97}" type="slidenum">
              <a:rPr b="0" lang="ru-RU" sz="1000" spc="-1" strike="noStrike">
                <a:solidFill>
                  <a:srgbClr val="3b7a2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2" name="Схема 4" descr=""/>
          <p:cNvPicPr/>
          <p:nvPr/>
        </p:nvPicPr>
        <p:blipFill>
          <a:blip r:embed="rId1"/>
          <a:stretch/>
        </p:blipFill>
        <p:spPr>
          <a:xfrm>
            <a:off x="171360" y="858960"/>
            <a:ext cx="8753400" cy="5852880"/>
          </a:xfrm>
          <a:prstGeom prst="rect">
            <a:avLst/>
          </a:prstGeom>
          <a:ln w="0">
            <a:noFill/>
          </a:ln>
        </p:spPr>
      </p:pic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ілеудегі әлемдік тәжірибе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1674" name="Объект 8"/>
          <p:cNvGraphicFramePr/>
          <p:nvPr/>
        </p:nvGraphicFramePr>
        <p:xfrm>
          <a:off x="0" y="73080"/>
          <a:ext cx="928800" cy="490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75" name="Объект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73080"/>
                    <a:ext cx="92880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6" name="Объект 1"/>
          <p:cNvGraphicFramePr/>
          <p:nvPr/>
        </p:nvGraphicFramePr>
        <p:xfrm>
          <a:off x="0" y="73080"/>
          <a:ext cx="928800" cy="49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7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3080"/>
                    <a:ext cx="92880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8" name="TextBox 3"/>
          <p:cNvSpPr/>
          <p:nvPr/>
        </p:nvSpPr>
        <p:spPr>
          <a:xfrm>
            <a:off x="468360" y="189000"/>
            <a:ext cx="828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стілеуді ұйымдастыру және өткізу мерзімі (шамаме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9" name=""/>
          <p:cNvGraphicFramePr/>
          <p:nvPr/>
        </p:nvGraphicFramePr>
        <p:xfrm>
          <a:off x="500040" y="558720"/>
          <a:ext cx="8400960" cy="5192640"/>
        </p:xfrm>
        <a:graphic>
          <a:graphicData uri="http://schemas.openxmlformats.org/drawingml/2006/table">
            <a:tbl>
              <a:tblPr/>
              <a:tblGrid>
                <a:gridCol w="3067200"/>
                <a:gridCol w="2449440"/>
                <a:gridCol w="1298520"/>
                <a:gridCol w="1585800"/>
              </a:tblGrid>
              <a:tr h="879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ара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гізгі тестілеу - шілд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Қайта тапсыру - тамыз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Қайта тапсыру - қаңта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1280"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стілеуге қатысуға өтініштерді қабылда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наурыз – 10 мамыр (ҰБТ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– 20 маусым (ТКТ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– 8 тамыз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– 12 қаңта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68760" rIns="68760" tIns="34200" bIns="34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ығармашылық емтихан тапсыру үшін өтініштерді қабылда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34200" bIns="34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маусым –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шілд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68760" rIns="68760" tIns="34200" bIns="34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ығармашылық емтихан өткіз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34200" bIns="34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1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шілд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9600">
                <a:tc>
                  <a:txBody>
                    <a:bodyPr lIns="68760" rIns="68760" tIns="34200" bIns="34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дагогикалық мамандықтарға қатысуға өтініштерді қабылдау және арнайы емтихан өткіз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34200" bIns="34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маусым – 18 тамыз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стілеуді өткізу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маусым – 1 шілде (ҰБТ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шілде – 23 шілде (ТКТ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– 24 тамыз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– 24 қаңта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0" name="Прямоугольник 1"/>
          <p:cNvSpPr/>
          <p:nvPr/>
        </p:nvSpPr>
        <p:spPr>
          <a:xfrm>
            <a:off x="468360" y="5867280"/>
            <a:ext cx="843264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*** ҰБТ – 165 ҰБТӨ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*** ТКТ – 44 базалық ЖОО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**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ақты мерзім ҚР БҒМ бұйрығымен анықтала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Номер слайда 2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46E43-54E2-4786-983A-E4536D163985}" type="slidenum">
              <a:rPr b="0" lang="ru-RU" sz="1000" spc="-1" strike="noStrike">
                <a:solidFill>
                  <a:srgbClr val="3b7a2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2" name="Заголовок 1" descr=""/>
          <p:cNvPicPr/>
          <p:nvPr/>
        </p:nvPicPr>
        <p:blipFill>
          <a:blip r:embed="rId1"/>
          <a:stretch/>
        </p:blipFill>
        <p:spPr>
          <a:xfrm>
            <a:off x="2266920" y="2852640"/>
            <a:ext cx="651204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"/>
          <p:cNvSpPr txBox="1"/>
          <p:nvPr/>
        </p:nvSpPr>
        <p:spPr>
          <a:xfrm>
            <a:off x="717480" y="29512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54a838"/>
                </a:solidFill>
                <a:latin typeface="Arial"/>
              </a:rPr>
              <a:t>Назар аударғандарыңыз үшін рахмет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Номер слайда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A8A12-6928-4E1C-9C3A-86F4A60DA129}" type="slidenum">
              <a:rPr b="0" lang="ru-RU" sz="1200" spc="-1" strike="noStrike">
                <a:solidFill>
                  <a:srgbClr val="045c75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4" name="Диаграмма 3"/>
          <p:cNvGraphicFramePr/>
          <p:nvPr/>
        </p:nvGraphicFramePr>
        <p:xfrm>
          <a:off x="57240" y="1362240"/>
          <a:ext cx="5213160" cy="5690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95" name="Диаграмма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0" y="1362240"/>
                    <a:ext cx="5213160" cy="56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6" name="Диаграмма 4"/>
          <p:cNvGraphicFramePr/>
          <p:nvPr/>
        </p:nvGraphicFramePr>
        <p:xfrm>
          <a:off x="5025960" y="1290600"/>
          <a:ext cx="4060800" cy="5573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97" name="Диаграмма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5960" y="1290600"/>
                    <a:ext cx="4060800" cy="557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98" name="Заголовок 1" descr=""/>
          <p:cNvPicPr/>
          <p:nvPr/>
        </p:nvPicPr>
        <p:blipFill>
          <a:blip r:embed="rId5"/>
          <a:stretch/>
        </p:blipFill>
        <p:spPr>
          <a:xfrm>
            <a:off x="1504800" y="378000"/>
            <a:ext cx="6480360" cy="117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99" name="Объект 8"/>
          <p:cNvGraphicFramePr/>
          <p:nvPr/>
        </p:nvGraphicFramePr>
        <p:xfrm>
          <a:off x="0" y="73080"/>
          <a:ext cx="928800" cy="490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00" name="Объект 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73080"/>
                    <a:ext cx="92880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Text Box 2"/>
          <p:cNvSpPr/>
          <p:nvPr/>
        </p:nvSpPr>
        <p:spPr>
          <a:xfrm>
            <a:off x="468360" y="958680"/>
            <a:ext cx="8354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75b8f5"/>
                </a:solidFill>
                <a:uFillTx/>
                <a:latin typeface="Arial"/>
              </a:rPr>
              <a:t>БІЛІМ АЛУШЫЛАРДЫ ҚОРЫТЫНДЫ АТТЕСТАТТАУ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иісті білім беру деңгейінің мемлекеттік жалпыға міндетті стандартында көзделген оқу пәндерінің көлемін олардың меңгеру дәрежесін айқындау мақсатында жүргізілетін рәсі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та білім беруде білім алушыларды қорытынды аттестаттау мемлекеттік бітіру емтихандары нысанында жүзеге асырыла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75b8f5"/>
                </a:solidFill>
                <a:uFillTx/>
                <a:latin typeface="Arial"/>
              </a:rPr>
              <a:t>ҰЛТТЫҚ БІРЫҢҒАЙ ТЕСТІЛЕУ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жоғары оқу орындарына түсуге арналған іріктеу емтихандарының бір ныс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2" name="TextBox 4" descr=""/>
          <p:cNvPicPr/>
          <p:nvPr/>
        </p:nvPicPr>
        <p:blipFill>
          <a:blip r:embed="rId1"/>
          <a:stretch/>
        </p:blipFill>
        <p:spPr>
          <a:xfrm>
            <a:off x="249120" y="4730760"/>
            <a:ext cx="8802720" cy="113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03" name="Объект 1"/>
          <p:cNvGraphicFramePr/>
          <p:nvPr/>
        </p:nvGraphicFramePr>
        <p:xfrm>
          <a:off x="0" y="73080"/>
          <a:ext cx="928800" cy="490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4" name="Объект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73080"/>
                    <a:ext cx="92880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5" name="Номер слайда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15B9-C8F1-4A55-9CAC-464FFC169220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TextBox 3"/>
          <p:cNvSpPr/>
          <p:nvPr/>
        </p:nvSpPr>
        <p:spPr>
          <a:xfrm>
            <a:off x="468360" y="189000"/>
            <a:ext cx="82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00000"/>
                </a:solidFill>
                <a:latin typeface="Arial Black"/>
              </a:rPr>
              <a:t>Қорытынды аттестаттау пәндер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Calibri"/>
              </a:rPr>
              <a:t>(ҚР БҒМ 16.11.2016 ж. №660 бұйрығ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7" name="Объект 4"/>
          <p:cNvGraphicFramePr/>
          <p:nvPr/>
        </p:nvGraphicFramePr>
        <p:xfrm>
          <a:off x="0" y="73080"/>
          <a:ext cx="928800" cy="49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8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3080"/>
                    <a:ext cx="92880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9" name="TextBox 2"/>
          <p:cNvSpPr/>
          <p:nvPr/>
        </p:nvSpPr>
        <p:spPr>
          <a:xfrm>
            <a:off x="363600" y="5157720"/>
            <a:ext cx="849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арлық емтихандар мектепте өткізілед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естілеу оқушылар білім алатын орында республика бойынша бір күнде өткізіледі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000000"/>
                </a:solidFill>
                <a:latin typeface="Arial"/>
              </a:rPr>
              <a:t>Қорытынды аттестаттау мерзімі.Шамамен 2017 жылдың 29 мамыр – 9 маусым аралығын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0" name=""/>
          <p:cNvGraphicFramePr/>
          <p:nvPr/>
        </p:nvGraphicFramePr>
        <p:xfrm>
          <a:off x="465120" y="1562040"/>
          <a:ext cx="8290080" cy="3475080"/>
        </p:xfrm>
        <a:graphic>
          <a:graphicData uri="http://schemas.openxmlformats.org/drawingml/2006/table">
            <a:tbl>
              <a:tblPr/>
              <a:tblGrid>
                <a:gridCol w="4700520"/>
                <a:gridCol w="3589560"/>
              </a:tblGrid>
              <a:tr h="368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Пәнде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Емтихан нысан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Ана тілі және әдебиет (оқыту тілі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Жазбаша емтихан – эссе (3 сағат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Қазақстан тарих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Ауызша емтихан (билет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Алгебра және анализ бастамалар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Жазбаша емтихан (5 сағат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Қазақ тілі  орыс, өзбек, ұйғыр және тәжік тілінде оқытатын мектептер үшін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Орыс тілі қазақ тілінде оқытатын мектептер үшін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Тестілеу </a:t>
                      </a:r>
                      <a:r>
                        <a:rPr b="0" lang="kk-KZ" sz="15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(1 сағ 20 мин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Таңдау пәні </a:t>
                      </a:r>
                      <a:r>
                        <a:rPr b="0" lang="kk-KZ" sz="15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(</a:t>
                      </a:r>
                      <a:r>
                        <a:rPr b="0" lang="ru-RU" sz="15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физика, химия, биология, география, геометрия, дүниежүзі тарихы, әдебиет, шет тілі (ағылшын, француз, неміс), информатика</a:t>
                      </a:r>
                      <a:r>
                        <a:rPr b="0" lang="kk-KZ" sz="15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Тестілеу (1 сағ 20 мин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1" name="TextBox 6"/>
          <p:cNvSpPr/>
          <p:nvPr/>
        </p:nvSpPr>
        <p:spPr>
          <a:xfrm>
            <a:off x="1476360" y="95076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6092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76092"/>
                </a:solidFill>
                <a:latin typeface="Arial"/>
              </a:rPr>
              <a:t>4 міндетті пән + 1 пән таңдауы бойынш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DB243-B5E0-41FD-B52B-768645CBA9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TextBox 3"/>
          <p:cNvSpPr/>
          <p:nvPr/>
        </p:nvSpPr>
        <p:spPr>
          <a:xfrm>
            <a:off x="588960" y="189000"/>
            <a:ext cx="826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Қорытынды аттестаттау барысында тестілеуді өткізу технология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ҚР БҒМ 16.11.2016 ж. №660 бұйрығ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4" name="Объект 1"/>
          <p:cNvGraphicFramePr/>
          <p:nvPr/>
        </p:nvGraphicFramePr>
        <p:xfrm>
          <a:off x="0" y="73080"/>
          <a:ext cx="928800" cy="49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5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3080"/>
                    <a:ext cx="92880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16" name="Объект 3" descr=""/>
          <p:cNvPicPr/>
          <p:nvPr/>
        </p:nvPicPr>
        <p:blipFill>
          <a:blip r:embed="rId3"/>
          <a:stretch/>
        </p:blipFill>
        <p:spPr>
          <a:xfrm>
            <a:off x="414360" y="1268280"/>
            <a:ext cx="8242200" cy="5040360"/>
          </a:xfrm>
          <a:prstGeom prst="rect">
            <a:avLst/>
          </a:prstGeom>
          <a:ln w="0">
            <a:noFill/>
          </a:ln>
        </p:spPr>
      </p:pic>
      <p:sp>
        <p:nvSpPr>
          <p:cNvPr id="1617" name="TextBox 17"/>
          <p:cNvSpPr/>
          <p:nvPr/>
        </p:nvSpPr>
        <p:spPr>
          <a:xfrm>
            <a:off x="3837600" y="5559480"/>
            <a:ext cx="3519720" cy="276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мтихан материалдары, дұрыс жауаптар к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TextBox 17"/>
          <p:cNvSpPr/>
          <p:nvPr/>
        </p:nvSpPr>
        <p:spPr>
          <a:xfrm>
            <a:off x="5334480" y="1495440"/>
            <a:ext cx="3519720" cy="276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мтихан материалдары, дұрыс жауаптар к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C886E-D647-40FA-B32F-DEA3CD1529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507960" y="205092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Ұлттық бірыңғай тестіле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21" name="Объект 1"/>
          <p:cNvGraphicFramePr/>
          <p:nvPr/>
        </p:nvGraphicFramePr>
        <p:xfrm>
          <a:off x="0" y="73080"/>
          <a:ext cx="928800" cy="49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2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3080"/>
                    <a:ext cx="92880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TextBox 3"/>
          <p:cNvSpPr/>
          <p:nvPr/>
        </p:nvSpPr>
        <p:spPr>
          <a:xfrm>
            <a:off x="539640" y="538200"/>
            <a:ext cx="826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Бітіруші» деректер базасын қалыптастыру және өтінішті тіркеу технология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4" name="Объект 1"/>
          <p:cNvGraphicFramePr/>
          <p:nvPr/>
        </p:nvGraphicFramePr>
        <p:xfrm>
          <a:off x="0" y="73080"/>
          <a:ext cx="928800" cy="49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5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3080"/>
                    <a:ext cx="92880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26" name="Объект 3" descr=""/>
          <p:cNvPicPr/>
          <p:nvPr/>
        </p:nvPicPr>
        <p:blipFill>
          <a:blip r:embed="rId3"/>
          <a:stretch/>
        </p:blipFill>
        <p:spPr>
          <a:xfrm>
            <a:off x="414360" y="1268280"/>
            <a:ext cx="8327880" cy="5040360"/>
          </a:xfrm>
          <a:prstGeom prst="rect">
            <a:avLst/>
          </a:prstGeom>
          <a:ln w="0">
            <a:noFill/>
          </a:ln>
        </p:spPr>
      </p:pic>
      <p:sp>
        <p:nvSpPr>
          <p:cNvPr id="1627" name="TextBox 17"/>
          <p:cNvSpPr/>
          <p:nvPr/>
        </p:nvSpPr>
        <p:spPr>
          <a:xfrm>
            <a:off x="2778480" y="1268280"/>
            <a:ext cx="2863080" cy="3682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ҰБТ – ға қатысуға өтіні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7F652-8845-49EA-9797-E647527B4A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TextBox 3"/>
          <p:cNvSpPr/>
          <p:nvPr/>
        </p:nvSpPr>
        <p:spPr>
          <a:xfrm>
            <a:off x="468360" y="189000"/>
            <a:ext cx="828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ҰБТ және ТКТ пәндер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0" name="Объект 4"/>
          <p:cNvGraphicFramePr/>
          <p:nvPr/>
        </p:nvGraphicFramePr>
        <p:xfrm>
          <a:off x="0" y="73080"/>
          <a:ext cx="928800" cy="49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1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3080"/>
                    <a:ext cx="92880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32" name="Прямоугольник 3" descr=""/>
          <p:cNvPicPr/>
          <p:nvPr/>
        </p:nvPicPr>
        <p:blipFill>
          <a:blip r:embed="rId3"/>
          <a:stretch/>
        </p:blipFill>
        <p:spPr>
          <a:xfrm>
            <a:off x="1554120" y="517680"/>
            <a:ext cx="1414440" cy="604800"/>
          </a:xfrm>
          <a:prstGeom prst="rect">
            <a:avLst/>
          </a:prstGeom>
          <a:ln w="0">
            <a:noFill/>
          </a:ln>
        </p:spPr>
      </p:pic>
      <p:pic>
        <p:nvPicPr>
          <p:cNvPr id="1633" name="Прямоугольник 5" descr=""/>
          <p:cNvPicPr/>
          <p:nvPr/>
        </p:nvPicPr>
        <p:blipFill>
          <a:blip r:embed="rId4"/>
          <a:stretch/>
        </p:blipFill>
        <p:spPr>
          <a:xfrm>
            <a:off x="6076800" y="536400"/>
            <a:ext cx="1787760" cy="609840"/>
          </a:xfrm>
          <a:prstGeom prst="rect">
            <a:avLst/>
          </a:prstGeom>
          <a:ln w="0">
            <a:noFill/>
          </a:ln>
        </p:spPr>
      </p:pic>
      <p:sp>
        <p:nvSpPr>
          <p:cNvPr id="1634" name="Выноска со стрелкой вниз 7"/>
          <p:cNvSpPr/>
          <p:nvPr/>
        </p:nvSpPr>
        <p:spPr>
          <a:xfrm>
            <a:off x="468360" y="984240"/>
            <a:ext cx="3598920" cy="3957480"/>
          </a:xfrm>
          <a:prstGeom prst="pie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Constantia"/>
              </a:rPr>
              <a:t>1 блок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Қазақстан тарихы – 20 тапсыр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Математикалық сауаттылық – 20 тапсыр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Оқу сауаттылығы – 20 тапсыр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Constantia"/>
              </a:rPr>
              <a:t>2 блок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4. 1-бейінді пән – 30 тапсыр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5. 2-бейінді пән – 30 тапсыр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Выноска со стрелкой вниз 8"/>
          <p:cNvSpPr/>
          <p:nvPr/>
        </p:nvSpPr>
        <p:spPr>
          <a:xfrm>
            <a:off x="4859280" y="984240"/>
            <a:ext cx="3600360" cy="3957480"/>
          </a:xfrm>
          <a:prstGeom prst="pie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Жалпы бейінді п</a:t>
            </a:r>
            <a:r>
              <a:rPr b="0" lang="kk-KZ" sz="1800" spc="-1" strike="noStrike">
                <a:solidFill>
                  <a:srgbClr val="000000"/>
                </a:solidFill>
                <a:latin typeface="Constantia"/>
              </a:rPr>
              <a:t>ән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– 20 тапсыр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Бейінді  пән– 40 тапсыр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Прямая соединительная линия 10"/>
          <p:cNvSpPr/>
          <p:nvPr/>
        </p:nvSpPr>
        <p:spPr>
          <a:xfrm>
            <a:off x="4859280" y="2532240"/>
            <a:ext cx="3600360" cy="0"/>
          </a:xfrm>
          <a:prstGeom prst="line">
            <a:avLst/>
          </a:prstGeom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TextBox 11"/>
          <p:cNvSpPr/>
          <p:nvPr/>
        </p:nvSpPr>
        <p:spPr>
          <a:xfrm>
            <a:off x="4932360" y="259560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стілеу уақыты – 1 сағат 40 минут (100 мину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Прямая соединительная линия 12"/>
          <p:cNvSpPr/>
          <p:nvPr/>
        </p:nvSpPr>
        <p:spPr>
          <a:xfrm>
            <a:off x="468360" y="3429000"/>
            <a:ext cx="3598920" cy="0"/>
          </a:xfrm>
          <a:prstGeom prst="line">
            <a:avLst/>
          </a:prstGeom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TextBox 13"/>
          <p:cNvSpPr/>
          <p:nvPr/>
        </p:nvSpPr>
        <p:spPr>
          <a:xfrm>
            <a:off x="539640" y="342900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стілеу уақыты – 3 сағат 50 минут (230 мину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Прямоугольник 14"/>
          <p:cNvSpPr/>
          <p:nvPr/>
        </p:nvSpPr>
        <p:spPr>
          <a:xfrm>
            <a:off x="468360" y="4941720"/>
            <a:ext cx="3598920" cy="1079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Білім гранттарын тағайындау конкурсына қаты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Прямоугольник 15"/>
          <p:cNvSpPr/>
          <p:nvPr/>
        </p:nvSpPr>
        <p:spPr>
          <a:xfrm>
            <a:off x="4859280" y="4941720"/>
            <a:ext cx="3600360" cy="1079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үндізгі қысқартылған оқу нысаны бойынша білім гранттарын тағайындау конкурсына қаты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Прямоугольник 16"/>
          <p:cNvSpPr/>
          <p:nvPr/>
        </p:nvSpPr>
        <p:spPr>
          <a:xfrm>
            <a:off x="468360" y="6021360"/>
            <a:ext cx="7991280" cy="64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Ақылы негізде ЖОО-ға қабылда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Номер слайда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7F356-4A1F-48C8-B52C-234FD93BA5C4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Номер слайда 1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43B38-78A7-4D12-9A33-E7C90F1B02D6}" type="slidenum">
              <a:rPr b="0" lang="ru-RU" sz="1000" spc="-1" strike="noStrike">
                <a:solidFill>
                  <a:srgbClr val="3b7a2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5" name="Объект 2"/>
          <p:cNvGraphicFramePr/>
          <p:nvPr/>
        </p:nvGraphicFramePr>
        <p:xfrm>
          <a:off x="0" y="73080"/>
          <a:ext cx="928800" cy="49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6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3080"/>
                    <a:ext cx="92880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7" name="TextBox 3"/>
          <p:cNvSpPr/>
          <p:nvPr/>
        </p:nvSpPr>
        <p:spPr>
          <a:xfrm>
            <a:off x="468360" y="189000"/>
            <a:ext cx="828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ктеп бітірушілер үшін ҰБТ/ТКТ тесттерінің құрылы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8" name="Таблица 6" descr=""/>
          <p:cNvPicPr/>
          <p:nvPr/>
        </p:nvPicPr>
        <p:blipFill>
          <a:blip r:embed="rId3"/>
          <a:stretch/>
        </p:blipFill>
        <p:spPr>
          <a:xfrm>
            <a:off x="115920" y="615960"/>
            <a:ext cx="8852040" cy="4370400"/>
          </a:xfrm>
          <a:prstGeom prst="rect">
            <a:avLst/>
          </a:prstGeom>
          <a:ln w="0">
            <a:noFill/>
          </a:ln>
        </p:spPr>
      </p:pic>
      <p:sp>
        <p:nvSpPr>
          <p:cNvPr id="1649" name="Прямоугольник 1"/>
          <p:cNvSpPr/>
          <p:nvPr/>
        </p:nvSpPr>
        <p:spPr>
          <a:xfrm>
            <a:off x="322200" y="5113440"/>
            <a:ext cx="8433000" cy="15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псырмалар саны: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1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ксималды балл: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140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Шектік деңгей: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140-тан 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ір немесе бірнеше дұрыс жауапбы бар тест тапсырмаларын бағалау тәртібі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- дұрыс жауаптарын толық таңдау - 2 бал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- 1 қате (1 дұрыс жауап табылмады немесе 1 дұрыс емес жауап таңдалды) – 1 бал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-  2 немесе одан көп қателер – 0 бал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16:12:42Z</dcterms:created>
  <dc:creator>www.PHILka.RU</dc:creator>
  <dc:description/>
  <dc:language>en-US</dc:language>
  <cp:lastModifiedBy>Тогжан Жакыпова</cp:lastModifiedBy>
  <cp:lastPrinted>2017-01-21T10:57:46Z</cp:lastPrinted>
  <dcterms:modified xsi:type="dcterms:W3CDTF">2017-02-21T11:55:23Z</dcterms:modified>
  <cp:revision>791</cp:revision>
  <dc:subject/>
  <dc:title>Слайд 1</dc:title>
</cp:coreProperties>
</file>