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8.png" ContentType="image/pn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6120" y="1233000"/>
            <a:ext cx="4444920" cy="333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B5AB-F7D2-4EE1-84E9-99E1B991E9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484-BB19-4F61-A2F7-B06336D122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4D39-B292-4626-8C65-381D9E2324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55E-3A4B-4628-9945-F681017BE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4685-D9B8-4A68-9173-8A944DFA7D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6D89-34A8-4650-A174-B5398C81C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CB70-2B6B-4522-8218-685E7ABE4D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E36A-3E0C-43D4-A0DE-1851CEDB96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F181-FFC3-4114-8738-EA5AC44BDD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A80F-C087-4F71-B98A-7E82431D3C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3FEF-B1EA-405E-93FE-1F29E7AB5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90C4-4DD8-4474-8EA7-8B9779C90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BE6A-76F8-4AAA-B068-C898C0937E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0FBF-AB8E-4E0D-A1BA-F1B1F9A8DA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AB0D-770F-4AA3-85F6-5E7F13B326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BAB7-6ED8-42AB-B35D-A0558471C5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EE08-F9E1-4824-A35B-A0DF0E74EC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C484-F760-42EC-A6DE-FE6E4D8996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496F-BF3A-4D96-BDC5-1D6DC8CFCD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751-775F-4D61-A660-6426CCCA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FD5-A15A-46C1-A8D3-96E65F97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EE2-2021-431E-9B77-304EC823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DE7-CF7A-42B0-B654-E8FEC50B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DCB5-6C0E-4479-B3A6-4FC2A5CC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E4B3-B34F-41AF-878C-67D06BC6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1103-2C2B-4B23-A4A9-33EB6594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3B5-ED13-4969-9B3C-2653EB93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477-6C0E-44E4-A3EA-6DA02E8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0AC9-E893-429F-BC43-6CF6C016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25D-5216-4554-9466-3335327B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852-4713-4275-AD39-0CA7899A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9D95-1535-4197-8296-40059B6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462-92BB-4297-AA20-CE95BA3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8A52-E468-4834-8BAF-3F46BBD4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DC94-536D-4C84-B67A-DFE86288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D7BE-AB4F-407A-9D2D-89CC60F8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56E-F456-4791-8D04-6A6170D3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F3A-5A67-4A6F-8616-F1030558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200-923E-45AB-B54C-A15A0132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506-F6C1-4758-9E37-12EDE0B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F40-2C30-4712-875F-7A09ED3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4C4-7879-4434-8B74-733FBF00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D5D-BE03-4B9D-9271-001C46CE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A8E3-64D0-4EAC-B569-C72B2BBC4F5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A76-1B52-4252-9F0C-7D0AE4CC4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FF2E-2C65-42D0-8504-F0D378806D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43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780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373F-4AFC-41BF-92AB-0F0FDAC911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3440" y="1618920"/>
            <a:ext cx="77724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Итоговая аттестация выпускников школ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2017 го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1436760" y="355680"/>
            <a:ext cx="75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образования и нау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813760" y="609768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стана, </a:t>
            </a: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февраль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2017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http://www.mga.kz/uploads/posts/2011-09/1315811957_gerbrk.gif"/>
          <p:cNvPicPr/>
          <p:nvPr/>
        </p:nvPicPr>
        <p:blipFill>
          <a:blip r:embed="rId1"/>
          <a:stretch/>
        </p:blipFill>
        <p:spPr>
          <a:xfrm>
            <a:off x="379440" y="328680"/>
            <a:ext cx="826920" cy="815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Картинки по запросу картинки выпускные экзамены школьников в Казахстане"/>
          <p:cNvPicPr/>
          <p:nvPr/>
        </p:nvPicPr>
        <p:blipFill>
          <a:blip r:embed="rId2"/>
          <a:stretch/>
        </p:blipFill>
        <p:spPr>
          <a:xfrm>
            <a:off x="2801880" y="3336840"/>
            <a:ext cx="35751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15800" y="1294560"/>
            <a:ext cx="460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должительность экзаме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астрономических ча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без учета инструктажа обучающихся, выдачи экзаменационных материалов, заполнения титульного лист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3673440" y="4960800"/>
            <a:ext cx="521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емы для эссе будут определяться Министерством образования и науки РК и будут опубликованы в открытой печа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зднее 10 марта (100 тем, включая 10 тем, выносимых на экзаме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Прямоугольник 3"/>
          <p:cNvGrpSpPr/>
          <p:nvPr/>
        </p:nvGrpSpPr>
        <p:grpSpPr>
          <a:xfrm>
            <a:off x="622440" y="281160"/>
            <a:ext cx="2736720" cy="614160"/>
            <a:chOff x="622440" y="281160"/>
            <a:chExt cx="2736720" cy="614160"/>
          </a:xfrm>
        </p:grpSpPr>
        <p:pic>
          <p:nvPicPr>
            <p:cNvPr id="135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22440" y="281160"/>
              <a:ext cx="273672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39720" y="295200"/>
              <a:ext cx="270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Э С С 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Прямоугольник 4"/>
          <p:cNvSpPr/>
          <p:nvPr/>
        </p:nvSpPr>
        <p:spPr>
          <a:xfrm>
            <a:off x="398520" y="4203720"/>
            <a:ext cx="8512200" cy="39888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нверты с темами эссе вскрываются за 15 минут до начала экзам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365040" y="3240000"/>
            <a:ext cx="8529840" cy="7038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а выбор выпускников будут предложе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тем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ять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итературных и </a:t>
            </a:r>
            <a:r>
              <a:rPr b="1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ять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свобод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Картинки по запросу картинки на тему эссе"/>
          <p:cNvPicPr/>
          <p:nvPr/>
        </p:nvPicPr>
        <p:blipFill>
          <a:blip r:embed="rId2"/>
          <a:stretch/>
        </p:blipFill>
        <p:spPr>
          <a:xfrm>
            <a:off x="5167440" y="190440"/>
            <a:ext cx="3768480" cy="28274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9"/>
          <p:cNvSpPr/>
          <p:nvPr/>
        </p:nvSpPr>
        <p:spPr>
          <a:xfrm>
            <a:off x="771480" y="5302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мая 2017 года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ориентировоч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388800" y="1610280"/>
            <a:ext cx="8467920" cy="454356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Эссе оценивается </a:t>
            </a:r>
            <a:r>
              <a:rPr b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вумя оценками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ценивается уровень сформированности следующих ум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создавать текст в соответствии с заданной тем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логично излагать мысли, выстраивая тезисно-доказательную часть эссе- рассу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подбирать убедительные аргументы, создавая аргументированное высказывание; выявлять отношение автора к поставленным проблемам,  сопоставлять свою позицию с другой точкой зр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осуществлять выбор языковых средств в соответствии с родом, жанром и темой эсс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оформлять текст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 соответствии с нормами литературного язы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Прямоугольник 2"/>
          <p:cNvGrpSpPr/>
          <p:nvPr/>
        </p:nvGrpSpPr>
        <p:grpSpPr>
          <a:xfrm>
            <a:off x="1274760" y="480960"/>
            <a:ext cx="6662880" cy="866880"/>
            <a:chOff x="1274760" y="480960"/>
            <a:chExt cx="6662880" cy="866880"/>
          </a:xfrm>
        </p:grpSpPr>
        <p:pic>
          <p:nvPicPr>
            <p:cNvPr id="14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74760" y="480960"/>
              <a:ext cx="66628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287360" y="498600"/>
              <a:ext cx="663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Оценивани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Родной язык и литература (эссе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98440" y="1541160"/>
            <a:ext cx="8686800" cy="3141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езультирующие  баллы  за экзаменационную  работу   определяются,   исходя  из следующих полож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если баллы, выставленные как минимум двумя экзаменаторами, совпали, то эти баллы являются окончательны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если установлено несущественное расхождение в баллах, выставленных двумя экзаменаторами, то окончательные баллы определяются как среднее арифметическое баллов двух экзаменаторов с округлением в соответствии с правилами округления чисе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если установлено существенное расхождение в баллах, выставленных двумя экзаменаторами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то назначается дополнительная (третья) провер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423720" y="5027760"/>
            <a:ext cx="8561520" cy="7038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енным расхождением в баллах, выставленных двумя экзаменаторами, является расхождение в 7 и более бал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298440" y="262080"/>
            <a:ext cx="8686800" cy="7038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Calibri"/>
              </a:rPr>
              <a:t>Экзаменационная  работа оценивается путем сложения баллов по всем критериям и их перевода в пятибалльную систему оцени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2"/>
          <p:cNvGrpSpPr/>
          <p:nvPr/>
        </p:nvGrpSpPr>
        <p:grpSpPr>
          <a:xfrm>
            <a:off x="103320" y="262080"/>
            <a:ext cx="8723160" cy="738000"/>
            <a:chOff x="103320" y="262080"/>
            <a:chExt cx="8723160" cy="738000"/>
          </a:xfrm>
        </p:grpSpPr>
        <p:pic>
          <p:nvPicPr>
            <p:cNvPr id="149" name="Rectangle 2" descr=""/>
            <p:cNvPicPr/>
            <p:nvPr/>
          </p:nvPicPr>
          <p:blipFill>
            <a:blip r:embed="rId1"/>
            <a:stretch/>
          </p:blipFill>
          <p:spPr>
            <a:xfrm>
              <a:off x="103320" y="262080"/>
              <a:ext cx="8723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19160" y="281520"/>
              <a:ext cx="869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Шкала пересчета балла за эссе в отметку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по пятибалльной систем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Прямая соединительная линия 9"/>
          <p:cNvSpPr/>
          <p:nvPr/>
        </p:nvSpPr>
        <p:spPr>
          <a:xfrm>
            <a:off x="193680" y="3683160"/>
            <a:ext cx="8694720" cy="25200"/>
          </a:xfrm>
          <a:prstGeom prst="line">
            <a:avLst/>
          </a:prstGeom>
          <a:ln w="381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182520" y="1770120"/>
            <a:ext cx="8696520" cy="1465560"/>
          </a:xfrm>
          <a:prstGeom prst="rect">
            <a:avLst/>
          </a:prstGeom>
          <a:noFill/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лучае несогласия с оценкой, выставленной за экзамен, обучающийся имеет возможность обратиться до 13 часов следующего дня после объявления экзаменационной оценки в Экзаменационную комиссию по итоговой аттестации обучающихся </a:t>
            </a:r>
            <a:r>
              <a:rPr b="1" i="1" lang="kk-KZ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алее – Комиссия)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созданную при районных, городских отделах образования и областных управлениях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290840"/>
          <a:ext cx="8609040" cy="946440"/>
        </p:xfrm>
        <a:graphic>
          <a:graphicData uri="http://schemas.openxmlformats.org/drawingml/2006/table">
            <a:tbl>
              <a:tblPr/>
              <a:tblGrid>
                <a:gridCol w="5102280"/>
                <a:gridCol w="876240"/>
                <a:gridCol w="878040"/>
                <a:gridCol w="874800"/>
                <a:gridCol w="87768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по пятибалльной системе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Грам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3645000" y="1807560"/>
            <a:ext cx="5499000" cy="161856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личество задан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й дл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й дл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Н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классов физико-математических школ (углубленное изучение математики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38160" y="34614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адания направлены на выявление степени усвоения теоретического материала, понятий и приемов, умения решать задачи, уровня функциональной грамо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Экзаменационные задания составлены согласно направлению обучения (естественно-математического направление, общественно-гуманитарное направление, углубленное изучение математи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держание экзаменационных заданий охватывает все главы учебной программы для 10-11 классов по алгебре и началам анализа соответственно направлению обу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Прямоугольник 3"/>
          <p:cNvGrpSpPr/>
          <p:nvPr/>
        </p:nvGrpSpPr>
        <p:grpSpPr>
          <a:xfrm>
            <a:off x="414360" y="353880"/>
            <a:ext cx="8059680" cy="493920"/>
            <a:chOff x="414360" y="353880"/>
            <a:chExt cx="8059680" cy="493920"/>
          </a:xfrm>
        </p:grpSpPr>
        <p:pic>
          <p:nvPicPr>
            <p:cNvPr id="15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14360" y="353880"/>
              <a:ext cx="80596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31640" y="368280"/>
              <a:ext cx="80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Письменный экзамен по</a:t>
              </a:r>
              <a:r>
                <a:rPr b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алгебре и началам анализа</a:t>
              </a:r>
              <a:r>
                <a:rPr b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Прямоугольник 4"/>
          <p:cNvSpPr/>
          <p:nvPr/>
        </p:nvSpPr>
        <p:spPr>
          <a:xfrm>
            <a:off x="406440" y="1028880"/>
            <a:ext cx="3695760" cy="7038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должительность экзамена –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астрономических ча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Похожее изображение"/>
          <p:cNvPicPr/>
          <p:nvPr/>
        </p:nvPicPr>
        <p:blipFill>
          <a:blip r:embed="rId2"/>
          <a:stretch/>
        </p:blipFill>
        <p:spPr>
          <a:xfrm>
            <a:off x="1008000" y="2052720"/>
            <a:ext cx="18669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127080" y="222120"/>
            <a:ext cx="8940600" cy="173988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заменационные задания </a:t>
            </a:r>
            <a:r>
              <a:rPr b="0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нтрольной работы составлены по разделам «Вычисления», «Тождественные преобразования», «Уравнения и их системы», «Неравенства и их системы», «Функция и ее график», «Текстовые задачи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стовые задачи </a:t>
            </a:r>
            <a:r>
              <a:rPr b="0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ключают задачи на нахождение площади плоских фигур и объема тел, нахождение наибольшего и наименьшего значения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27080" y="4186080"/>
            <a:ext cx="8940600" cy="256284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аспределение экзменационных зад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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ГН – 5 заданий: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я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одно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,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дно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(3А + 1В+1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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ЕМН – 6 заданий: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я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е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(3А + 2В + 1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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лассы физико-математических школ –  6 заданий: одно 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,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три 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два 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1А + 3В + 2С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исунки, графики, таблицы и пр. выполняются руч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127080" y="2193840"/>
            <a:ext cx="8940600" cy="20142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се задания делятся на  уровни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, В, С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выполнения заданий уровня А ученики должны владеть базовыми знаниями и навыками несложных вычислений и преобразований, стандартными приемами решения зад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ровень В – задания среднего уровня слож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выполнения заданий уровня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С ученики должны владеть  глубокими и прочными теоретическими знаниями в объеме, предусмотрен­ном учебной программ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19160" y="906480"/>
          <a:ext cx="8915400" cy="5624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8760"/>
                <a:gridCol w="2230560"/>
              </a:tblGrid>
              <a:tr h="28080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«</a:t>
                      </a:r>
                      <a:r>
                        <a:rPr b="1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«</a:t>
                      </a:r>
                      <a:r>
                        <a:rPr b="1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«</a:t>
                      </a:r>
                      <a:r>
                        <a:rPr b="1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абота выполнена полностью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 (ОГН), 6(ЕМН, углубленное изучение)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В работе выполнено правильно 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 (ОГН), 4 или 5 (ЕМН, углубленное изучение) заданий (вне зависимости от уровня слож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В р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аботе выполнено </a:t>
                      </a: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правильно не менее 3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вне зависимости от уровня слож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е выполнено больше половины зад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решении нет математических ошибо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пущена одна ошибка или два-три недочета в преобразованиях и вычислениях, рисунках, чертежах или графи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пущены </a:t>
                      </a: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две-три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ошибки или три-четыре недочета в выкладках, чертежах или графиках, но учащийся владеет обязательными знаниями и умени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пущено более трех ошибок, показывающих, что учащийся не владее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бязательными знаниями и умениями по данной теме в полной м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Логичность и полнота изложения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дельные неточности в изложении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дельные нарушения логики изложения материала, неполнота раскрытия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арушена логика изложения матери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Rectangle 1"/>
          <p:cNvGrpSpPr/>
          <p:nvPr/>
        </p:nvGrpSpPr>
        <p:grpSpPr>
          <a:xfrm>
            <a:off x="103320" y="249120"/>
            <a:ext cx="8759520" cy="433440"/>
            <a:chOff x="103320" y="249120"/>
            <a:chExt cx="8759520" cy="433440"/>
          </a:xfrm>
        </p:grpSpPr>
        <p:pic>
          <p:nvPicPr>
            <p:cNvPr id="166" name="Rectangle 1" descr=""/>
            <p:cNvPicPr/>
            <p:nvPr/>
          </p:nvPicPr>
          <p:blipFill>
            <a:blip r:embed="rId1"/>
            <a:stretch/>
          </p:blipFill>
          <p:spPr>
            <a:xfrm>
              <a:off x="103320" y="249120"/>
              <a:ext cx="87595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19160" y="265680"/>
              <a:ext cx="87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85723"/>
                  </a:solidFill>
                  <a:latin typeface="Times New Roman"/>
                  <a:ea typeface="Times New Roman"/>
                </a:rPr>
                <a:t>«Алгебра и начала анализа» </a:t>
              </a:r>
              <a:r>
                <a:rPr b="1" i="1" lang="kk-KZ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 критериии оценивани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200400" y="1005840"/>
            <a:ext cx="579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0 билетов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вопроса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-й и 2-й  вопросы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держат материалы курса истории Казахстана с древнейших времен до сегодняшнего д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-й  вопрос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– задания практического  характера (работа с исторической картой,  терминологией, характеристика исторической лично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0" y="4425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e79"/>
                </a:solidFill>
                <a:uFillTx/>
                <a:latin typeface="Times New Roman"/>
                <a:ea typeface="Times New Roman"/>
              </a:rPr>
              <a:t>Если обучающийся не ответил на вопросы по билету, Комиссия разрешает ему взять второй билет (оценка в данном случае снижается на 1 бал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241200" y="311040"/>
            <a:ext cx="867420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стный экзамен по истории Казахст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241200" y="5486400"/>
            <a:ext cx="8750520" cy="100872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пользование на экзамене современных технических средств и приспособлений запрещается. Все необходимые дополнительные материалы (карты, схемы, таблицы и т.д.) готовит 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469800" y="3807000"/>
            <a:ext cx="852192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аждому выпускнику отводитс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минут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а подготовку отв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Картинки по запросу картинки на тему экзамены по истории Казахстана"/>
          <p:cNvPicPr/>
          <p:nvPr/>
        </p:nvPicPr>
        <p:blipFill>
          <a:blip r:embed="rId1"/>
          <a:stretch/>
        </p:blipFill>
        <p:spPr>
          <a:xfrm>
            <a:off x="330120" y="1224000"/>
            <a:ext cx="28702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827440" y="2376360"/>
            <a:ext cx="6146640" cy="3111480"/>
          </a:xfrm>
          <a:prstGeom prst="rect">
            <a:avLst/>
          </a:prstGeom>
          <a:noFill/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азовый уровень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нание основных фактов, процессо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 явлений, событий истории Казахстана, периодизации истории Казахст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вышенный уровен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мение анализировать, систематизировать устанавливать причинно-следственные связи событий, характеризовать общественно-политическую ситуацию на основе дополнительных исторических, картографических хронологических источник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бобщать, делать выводы и умозаключ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Картинки по запросу картинки на тему экзамены по истории Казахстана"/>
          <p:cNvPicPr/>
          <p:nvPr/>
        </p:nvPicPr>
        <p:blipFill>
          <a:blip r:embed="rId1"/>
          <a:stretch/>
        </p:blipFill>
        <p:spPr>
          <a:xfrm>
            <a:off x="338040" y="2381400"/>
            <a:ext cx="209556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77" name="Прямоугольник 3"/>
          <p:cNvGrpSpPr/>
          <p:nvPr/>
        </p:nvGrpSpPr>
        <p:grpSpPr>
          <a:xfrm>
            <a:off x="1450800" y="324000"/>
            <a:ext cx="5821560" cy="395280"/>
            <a:chOff x="1450800" y="324000"/>
            <a:chExt cx="5821560" cy="395280"/>
          </a:xfrm>
        </p:grpSpPr>
        <p:pic>
          <p:nvPicPr>
            <p:cNvPr id="17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450800" y="324000"/>
              <a:ext cx="5821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463760" y="336600"/>
              <a:ext cx="57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Оценивание. История Казахстана</a:t>
              </a:r>
              <a:r>
                <a:rPr b="0" lang="ru-RU" sz="18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Прямоугольник 5"/>
          <p:cNvSpPr/>
          <p:nvPr/>
        </p:nvSpPr>
        <p:spPr>
          <a:xfrm>
            <a:off x="262080" y="942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ребования к оцениванию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го и 2-го вопросо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каждый из которых оценивается максимально в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балло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азовый уровень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твета – 1-6 балл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вышенный уровень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твета – 7-10 б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595440" y="480600"/>
            <a:ext cx="809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ритерии оценивания ответа на 3-й вопрос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окализация объектов и событий на исторической кар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мение отображать исторические факты и события в схемах и составление хронологических таблиц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торическая характеристика личности и оценка его рол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мение рассказывать об историческом событии, опираясь на иллюстративный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14360" y="2349360"/>
          <a:ext cx="8340840" cy="2840040"/>
        </p:xfrm>
        <a:graphic>
          <a:graphicData uri="http://schemas.openxmlformats.org/drawingml/2006/table">
            <a:tbl>
              <a:tblPr/>
              <a:tblGrid>
                <a:gridCol w="731880"/>
                <a:gridCol w="5838840"/>
                <a:gridCol w="177012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Б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бщий уровень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Знание конкретной проблемы и использование исторических источ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Логическое и аналитическое мышление, стройность и стиль и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авыки по раскрытию историческ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пособность к конструктивным выводам и умозаключ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06440" y="5581800"/>
          <a:ext cx="8389800" cy="561960"/>
        </p:xfrm>
        <a:graphic>
          <a:graphicData uri="http://schemas.openxmlformats.org/drawingml/2006/table">
            <a:tbl>
              <a:tblPr/>
              <a:tblGrid>
                <a:gridCol w="3809880"/>
                <a:gridCol w="1144800"/>
                <a:gridCol w="1145880"/>
                <a:gridCol w="1144800"/>
                <a:gridCol w="1144440"/>
              </a:tblGrid>
              <a:tr h="280800"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по пятибал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ьной шка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бщ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0–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–2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9"/>
          <p:cNvSpPr/>
          <p:nvPr/>
        </p:nvSpPr>
        <p:spPr>
          <a:xfrm>
            <a:off x="4334040" y="803160"/>
            <a:ext cx="436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Arial"/>
              </a:rPr>
              <a:t>Итоговая аттестация обучающихся</a:t>
            </a:r>
            <a:r>
              <a:rPr b="0" lang="ru-RU" sz="1800" spc="-1" strike="noStrike">
                <a:solidFill>
                  <a:srgbClr val="1f4e79"/>
                </a:solidFill>
                <a:latin typeface="Arial"/>
              </a:rPr>
              <a:t> – это  процедура, проводимая с целью определения степени освоения ими объема учебных дисциплин, предусмотренных государственным общеобязательным стандартом соответствующего уровня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Прямоугольник 49"/>
          <p:cNvGrpSpPr/>
          <p:nvPr/>
        </p:nvGrpSpPr>
        <p:grpSpPr>
          <a:xfrm>
            <a:off x="311040" y="3584520"/>
            <a:ext cx="8425080" cy="689040"/>
            <a:chOff x="311040" y="3584520"/>
            <a:chExt cx="8425080" cy="689040"/>
          </a:xfrm>
        </p:grpSpPr>
        <p:pic>
          <p:nvPicPr>
            <p:cNvPr id="96" name="Прямоугольник 49" descr=""/>
            <p:cNvPicPr/>
            <p:nvPr/>
          </p:nvPicPr>
          <p:blipFill>
            <a:blip r:embed="rId1"/>
            <a:stretch/>
          </p:blipFill>
          <p:spPr>
            <a:xfrm>
              <a:off x="311040" y="3584520"/>
              <a:ext cx="8425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3360" y="3606840"/>
              <a:ext cx="838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4e79"/>
                  </a:solidFill>
                  <a:latin typeface="Arial"/>
                </a:rPr>
                <a:t>Выпускники школ 2017 года сдают</a:t>
              </a:r>
              <a:r>
                <a:rPr b="0" lang="kk-KZ" sz="1800" spc="-1" strike="noStrike">
                  <a:solidFill>
                    <a:srgbClr val="1f4e79"/>
                  </a:solidFill>
                  <a:latin typeface="Arial"/>
                </a:rPr>
                <a:t> итоговую аттестацию в виде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800" spc="-1" strike="noStrike">
                  <a:solidFill>
                    <a:srgbClr val="ff0000"/>
                  </a:solidFill>
                  <a:latin typeface="Arial"/>
                </a:rPr>
                <a:t>пяти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 экзамен</a:t>
              </a:r>
              <a:r>
                <a:rPr b="1" i="1" lang="kk-KZ" sz="1800" spc="-1" strike="noStrike">
                  <a:solidFill>
                    <a:srgbClr val="ff0000"/>
                  </a:solidFill>
                  <a:latin typeface="Arial"/>
                </a:rPr>
                <a:t>ов</a:t>
              </a:r>
              <a:r>
                <a:rPr b="0" lang="kk-KZ" sz="1800" spc="-1" strike="noStrike">
                  <a:solidFill>
                    <a:srgbClr val="1f4e79"/>
                  </a:solidFill>
                  <a:latin typeface="Arial"/>
                </a:rPr>
                <a:t>, </a:t>
              </a:r>
              <a:r>
                <a:rPr b="1" i="1" lang="kk-KZ" sz="1800" spc="-1" strike="noStrike">
                  <a:solidFill>
                    <a:srgbClr val="1f4e79"/>
                  </a:solidFill>
                  <a:latin typeface="Arial"/>
                </a:rPr>
                <a:t>один </a:t>
              </a:r>
              <a:r>
                <a:rPr b="0" lang="kk-KZ" sz="1800" spc="-1" strike="noStrike">
                  <a:solidFill>
                    <a:srgbClr val="1f4e79"/>
                  </a:solidFill>
                  <a:latin typeface="Arial"/>
                </a:rPr>
                <a:t>из них –</a:t>
              </a:r>
              <a:r>
                <a:rPr b="0" lang="ru-RU" sz="1800" spc="-1" strike="noStrike">
                  <a:solidFill>
                    <a:srgbClr val="1f4e79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1f4e79"/>
                  </a:solidFill>
                  <a:latin typeface="Arial"/>
                </a:rPr>
                <a:t>по выбору</a:t>
              </a:r>
              <a:r>
                <a:rPr b="0" lang="ru-RU" sz="1800" spc="-1" strike="noStrike">
                  <a:solidFill>
                    <a:srgbClr val="1f4e79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2" descr="Картинки по запросу картинки выпускные экзамены школьников в Казахстане"/>
          <p:cNvPicPr/>
          <p:nvPr/>
        </p:nvPicPr>
        <p:blipFill>
          <a:blip r:embed="rId2"/>
          <a:stretch/>
        </p:blipFill>
        <p:spPr>
          <a:xfrm>
            <a:off x="365040" y="797040"/>
            <a:ext cx="3733920" cy="2436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274680" y="5094720"/>
            <a:ext cx="84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1f4e79"/>
                </a:solidFill>
                <a:latin typeface="Arial"/>
                <a:ea typeface="Arial"/>
              </a:rPr>
              <a:t>Сроки итоговой аттестации будут устанавлива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1f4e79"/>
                </a:solidFill>
                <a:latin typeface="Arial"/>
                <a:ea typeface="Arial"/>
              </a:rPr>
              <a:t>приказом Министер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1f4e79"/>
                </a:solidFill>
                <a:latin typeface="Arial"/>
                <a:ea typeface="Arial"/>
              </a:rPr>
              <a:t>«</a:t>
            </a:r>
            <a:r>
              <a:rPr b="0" lang="ru-RU" sz="1800" spc="-1" strike="noStrike">
                <a:solidFill>
                  <a:srgbClr val="1f4e79"/>
                </a:solidFill>
                <a:latin typeface="Arial"/>
                <a:ea typeface="Arial"/>
              </a:rPr>
              <a:t>О завершении 2015-2016 учебного года в организаци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Arial"/>
                <a:ea typeface="Arial"/>
              </a:rPr>
              <a:t>среднего образования</a:t>
            </a:r>
            <a:r>
              <a:rPr b="0" lang="kk-KZ" sz="1800" spc="-1" strike="noStrike">
                <a:solidFill>
                  <a:srgbClr val="1f4e79"/>
                </a:solidFill>
                <a:latin typeface="Arial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15"/>
          <p:cNvSpPr/>
          <p:nvPr/>
        </p:nvSpPr>
        <p:spPr>
          <a:xfrm>
            <a:off x="365040" y="4622760"/>
            <a:ext cx="8321760" cy="33480"/>
          </a:xfrm>
          <a:prstGeom prst="line">
            <a:avLst/>
          </a:prstGeom>
          <a:ln w="648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17"/>
          <p:cNvSpPr/>
          <p:nvPr/>
        </p:nvSpPr>
        <p:spPr>
          <a:xfrm>
            <a:off x="365040" y="6499080"/>
            <a:ext cx="8380440" cy="39960"/>
          </a:xfrm>
          <a:prstGeom prst="line">
            <a:avLst/>
          </a:prstGeom>
          <a:ln w="648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304920" y="2775240"/>
            <a:ext cx="8610480" cy="22284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вопросов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разделенных на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и блока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лексико-грамматический блок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Calibri"/>
              </a:rPr>
              <a:t>–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0 тестовых заданий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Calibri"/>
              </a:rPr>
              <a:t>с выбором одного правильного отве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блок «Аудирование»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Arial"/>
              </a:rPr>
              <a:t>– 2 текста по 200-250 слов,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10 тестовых заданий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Arial"/>
              </a:rPr>
              <a:t>, которые имеют один правильный отв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блок «Чтение»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Arial"/>
              </a:rPr>
              <a:t>– 2 текста по 200-250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слов,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10 тестовых заданий </a:t>
            </a:r>
            <a:r>
              <a:rPr b="1" i="1" lang="ru-RU" sz="2000" spc="-1" strike="noStrike">
                <a:solidFill>
                  <a:srgbClr val="528cc1"/>
                </a:solidFill>
                <a:latin typeface="Times New Roman"/>
                <a:ea typeface="Arial"/>
              </a:rPr>
              <a:t>с одним правильным ответом</a:t>
            </a:r>
            <a:r>
              <a:rPr b="0" lang="ru-RU" sz="2000" spc="-1" strike="noStrike">
                <a:solidFill>
                  <a:srgbClr val="528cc1"/>
                </a:solidFill>
                <a:latin typeface="Times New Roman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317520" y="5359320"/>
            <a:ext cx="5715000" cy="9144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должительност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80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Прямоугольник 3"/>
          <p:cNvGrpSpPr/>
          <p:nvPr/>
        </p:nvGrpSpPr>
        <p:grpSpPr>
          <a:xfrm>
            <a:off x="225360" y="615960"/>
            <a:ext cx="5072040" cy="1657440"/>
            <a:chOff x="225360" y="615960"/>
            <a:chExt cx="5072040" cy="1657440"/>
          </a:xfrm>
        </p:grpSpPr>
        <p:pic>
          <p:nvPicPr>
            <p:cNvPr id="18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25360" y="615960"/>
              <a:ext cx="50720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41200" y="630360"/>
              <a:ext cx="50421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Тестировани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Казахский язык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в школах с неказахским  языком обучения/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Русский язык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в школах с нерусским языком обучени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9" name="Picture 3" descr="Картинки по запросу картинки выпускные экзамены школьников в Казахстане"/>
          <p:cNvPicPr/>
          <p:nvPr/>
        </p:nvPicPr>
        <p:blipFill>
          <a:blip r:embed="rId2"/>
          <a:stretch/>
        </p:blipFill>
        <p:spPr>
          <a:xfrm>
            <a:off x="5416560" y="254160"/>
            <a:ext cx="35114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5031000"/>
            <a:ext cx="5529240" cy="15858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остранный язы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ексико-грамматический –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опросов с одним возможным ответ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лок «Аудирование» –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опросов на основании двух текстов объемом каждый 200-250 слов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лок «Чтение» –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текста ,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200-250 слов каждый,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тестов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текс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236520" y="3610440"/>
            <a:ext cx="8678880" cy="94644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естирование по предметам по выбору (кроме предметов «Иностранный язык» и «Информатика») содержит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тестовых заданий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 </a:t>
            </a:r>
            <a:r>
              <a:rPr b="1" i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0 баллов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заданий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удут  с выбором одного правильного ответа (это </a:t>
            </a:r>
            <a:r>
              <a:rPr b="1" i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 баллов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заданий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– с одним и более правильными ответами (это </a:t>
            </a:r>
            <a:r>
              <a:rPr b="1" i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0 баллов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5554800" y="5219640"/>
            <a:ext cx="3403440" cy="115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ти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тестирование и практические задани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тестовых заданий с одним правильным ответо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практических зада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0" y="781920"/>
            <a:ext cx="5148360" cy="243828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едметы на выбор</a:t>
            </a:r>
            <a:r>
              <a:rPr b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Физи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Хим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иолог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Географ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Геометр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семирная истор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итератур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ностранный язык (английский, французский, немецкий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нформат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5283360" y="878040"/>
            <a:ext cx="3665520" cy="137268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должительность тест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предметам  </a:t>
            </a:r>
            <a:r>
              <a:rPr b="0" i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иология, География, Всемирная история, Литература, Иностранный язык, Информатика ,Физика, Химия, Геометрия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 мин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Прямоугольник 6"/>
          <p:cNvGrpSpPr/>
          <p:nvPr/>
        </p:nvGrpSpPr>
        <p:grpSpPr>
          <a:xfrm>
            <a:off x="2249640" y="268200"/>
            <a:ext cx="4346280" cy="397080"/>
            <a:chOff x="2249640" y="268200"/>
            <a:chExt cx="4346280" cy="397080"/>
          </a:xfrm>
        </p:grpSpPr>
        <p:pic>
          <p:nvPicPr>
            <p:cNvPr id="196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2249640" y="268200"/>
              <a:ext cx="43462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88160" y="281160"/>
              <a:ext cx="427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Тестирование по предметам по выбору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0" y="-432000"/>
            <a:ext cx="9016920" cy="7107120"/>
          </a:xfrm>
          <a:prstGeom prst="rect">
            <a:avLst/>
          </a:prstGeom>
          <a:solidFill>
            <a:srgbClr val="deebf7"/>
          </a:solidFill>
          <a:ln w="9360">
            <a:solidFill>
              <a:srgbClr val="52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исьменные экзамены проводятся в просторных классных помещениях, где обучающиеся 11 (12) класса садятся по одному, а обучающиеся 9 (10) класса – по одному или по дв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выполнения письменных работ и подготовки к устным ответам обучающимся выдается бумага со штампом школы. Обучающиеся, выполнившие работу, сдают ее Комиссии вместе с черновик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детей с особыми образовательными потребностями предоставляется более продолжительное время для переры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окончании письменного экзамена и тестирования члены Комиссии проверяют работы обучающихся в здании школы. Непроверенные работы сдаются на хранение руководителю школ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а письменные работы по математике, оцененные на «2» и «5», Комиссией школы даются рецен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вторный письменный экзамен по языку обучения устанавливает Комиссия школ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верка результатов теста осуществляется в школе Комиссией, формируемой при школе тот же день на основании предоставленных им кодов правильных отве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1771560" y="122400"/>
            <a:ext cx="596124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и проведении итоговой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Выгнутая вправо стрелка 7"/>
          <p:cNvSpPr/>
          <p:nvPr/>
        </p:nvSpPr>
        <p:spPr>
          <a:xfrm>
            <a:off x="8166240" y="200160"/>
            <a:ext cx="730080" cy="6083280"/>
          </a:xfrm>
          <a:custGeom>
            <a:avLst/>
            <a:gdLst>
              <a:gd name="textAreaLeft" fmla="*/ 97560 w 730080"/>
              <a:gd name="textAreaRight" fmla="*/ 632520 w 730080"/>
              <a:gd name="textAreaTop" fmla="*/ 1452240 h 6083280"/>
              <a:gd name="textAreaBottom" fmla="*/ 4539600 h 608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14" stAng="-5400000" swAng="5400000"/>
                <a:lnTo>
                  <a:pt x="21600" y="10962"/>
                </a:lnTo>
                <a:arcTo wR="21600" hR="10314" stAng="0" swAng="3695913"/>
                <a:lnTo>
                  <a:pt x="5400" y="21272"/>
                </a:lnTo>
                <a:lnTo>
                  <a:pt x="0" y="20952"/>
                </a:lnTo>
                <a:lnTo>
                  <a:pt x="5400" y="19976"/>
                </a:lnTo>
                <a:lnTo>
                  <a:pt x="5400" y="20300"/>
                </a:lnTo>
                <a:arcTo wR="21600" hR="10314" stAng="3695913" swAng="-3644325"/>
                <a:lnTo>
                  <a:pt x="21589" y="10638"/>
                </a:lnTo>
                <a:arcTo wR="21600" hR="10314" stAng="-51588" swAng="-5348412"/>
                <a:close/>
              </a:path>
              <a:path fill="darkenLess" w="21600" h="21600">
                <a:moveTo>
                  <a:pt x="0" y="0"/>
                </a:moveTo>
                <a:arcTo wR="21600" hR="10314" stAng="-5400000" swAng="5400000"/>
                <a:lnTo>
                  <a:pt x="21600" y="10962"/>
                </a:lnTo>
                <a:arcTo wR="21600" hR="10314" stAng="0" swAng="-51588"/>
                <a:lnTo>
                  <a:pt x="21589" y="10638"/>
                </a:lnTo>
                <a:arcTo wR="21600" hR="10314" stAng="-51588" swAng="-5348412"/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ашивка 8"/>
          <p:cNvSpPr/>
          <p:nvPr/>
        </p:nvSpPr>
        <p:spPr>
          <a:xfrm>
            <a:off x="223920" y="14461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ашивка 11"/>
          <p:cNvSpPr/>
          <p:nvPr/>
        </p:nvSpPr>
        <p:spPr>
          <a:xfrm>
            <a:off x="223920" y="5223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ашивка 12"/>
          <p:cNvSpPr/>
          <p:nvPr/>
        </p:nvSpPr>
        <p:spPr>
          <a:xfrm>
            <a:off x="223920" y="24703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ашивка 13"/>
          <p:cNvSpPr/>
          <p:nvPr/>
        </p:nvSpPr>
        <p:spPr>
          <a:xfrm>
            <a:off x="217440" y="2978280"/>
            <a:ext cx="358920" cy="349200"/>
          </a:xfrm>
          <a:custGeom>
            <a:avLst/>
            <a:gdLst>
              <a:gd name="textAreaLeft" fmla="*/ 0 w 358920"/>
              <a:gd name="textAreaRight" fmla="*/ 359280 w 3589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ашивка 9"/>
          <p:cNvSpPr/>
          <p:nvPr/>
        </p:nvSpPr>
        <p:spPr>
          <a:xfrm>
            <a:off x="217440" y="4511520"/>
            <a:ext cx="357120" cy="34956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ашивка 10"/>
          <p:cNvSpPr/>
          <p:nvPr/>
        </p:nvSpPr>
        <p:spPr>
          <a:xfrm>
            <a:off x="219240" y="38815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ашивка 14"/>
          <p:cNvSpPr/>
          <p:nvPr/>
        </p:nvSpPr>
        <p:spPr>
          <a:xfrm>
            <a:off x="217440" y="51195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0" y="-126720"/>
            <a:ext cx="9016920" cy="6497280"/>
          </a:xfrm>
          <a:prstGeom prst="rect">
            <a:avLst/>
          </a:prstGeom>
          <a:solidFill>
            <a:srgbClr val="deebf7"/>
          </a:solidFill>
          <a:ln w="9360">
            <a:solidFill>
              <a:srgbClr val="52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детей с особыми образовательными потребностями, которые проходят итоговую аттестацию, предоставляется возможность дополнительного времени при сдаче экзамена согласно решению Комиссии в соответствии с рекомендациями школ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бучающийся 9 (10)  и 11 </a:t>
            </a:r>
            <a:r>
              <a:rPr b="0" lang="en-US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12)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лассов, заболевший в период итоговой аттестации, сдает пропущенные экзамены после выздоро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осрочная итоговая аттестация выпускников 9 (10), 11 (12) классов допускается в случае выезда обучающихся за границу для поступления на учебу или на постоянное место жительства и проводится в форме итоговых выпускных экзаменов или государственных выпускных экзаменов не ранее, чем за 2 месяца до окончания учебного г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ыпускники 11 (12) класса, выезжавшие на учебу за рубеж по линии международного обмена обучающимися и окончившие там образовательные учреждения, итоговую аттестацию за 11 (12) класс проходят в школах Республики Казахстан. После прохождения итоговой аттестации им выдается аттестат об общем среднем образов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1677960" y="361800"/>
            <a:ext cx="596124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и проведении итоговой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Выгнутая вправо стрелка 7"/>
          <p:cNvSpPr/>
          <p:nvPr/>
        </p:nvSpPr>
        <p:spPr>
          <a:xfrm>
            <a:off x="8147160" y="557280"/>
            <a:ext cx="730080" cy="5524560"/>
          </a:xfrm>
          <a:custGeom>
            <a:avLst/>
            <a:gdLst>
              <a:gd name="textAreaLeft" fmla="*/ 97560 w 730080"/>
              <a:gd name="textAreaRight" fmla="*/ 632520 w 730080"/>
              <a:gd name="textAreaTop" fmla="*/ 1312560 h 5524560"/>
              <a:gd name="textAreaBottom" fmla="*/ 4120560 h 552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65" stAng="-5400000" swAng="5400000"/>
                <a:lnTo>
                  <a:pt x="21600" y="10979"/>
                </a:lnTo>
                <a:arcTo wR="21600" hR="10265" stAng="0" swAng="3688984"/>
                <a:lnTo>
                  <a:pt x="5400" y="21274"/>
                </a:lnTo>
                <a:lnTo>
                  <a:pt x="0" y="20886"/>
                </a:lnTo>
                <a:lnTo>
                  <a:pt x="5400" y="19846"/>
                </a:lnTo>
                <a:lnTo>
                  <a:pt x="5400" y="20203"/>
                </a:lnTo>
                <a:arcTo wR="21600" hR="10265" stAng="3688984" swAng="-3632137"/>
                <a:lnTo>
                  <a:pt x="21587" y="10622"/>
                </a:lnTo>
                <a:arcTo wR="21600" hR="10265" stAng="-56848" swAng="-5343152"/>
                <a:close/>
              </a:path>
              <a:path fill="darkenLess" w="21600" h="21600">
                <a:moveTo>
                  <a:pt x="0" y="0"/>
                </a:moveTo>
                <a:arcTo wR="21600" hR="10265" stAng="-5400000" swAng="5400000"/>
                <a:lnTo>
                  <a:pt x="21600" y="10979"/>
                </a:lnTo>
                <a:arcTo wR="21600" hR="10265" stAng="0" swAng="-56848"/>
                <a:lnTo>
                  <a:pt x="21587" y="10622"/>
                </a:lnTo>
                <a:arcTo wR="21600" hR="10265" stAng="-56848" swAng="-5343152"/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ашивка 8"/>
          <p:cNvSpPr/>
          <p:nvPr/>
        </p:nvSpPr>
        <p:spPr>
          <a:xfrm>
            <a:off x="403200" y="207504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ашивка 11"/>
          <p:cNvSpPr/>
          <p:nvPr/>
        </p:nvSpPr>
        <p:spPr>
          <a:xfrm>
            <a:off x="406440" y="8715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ашивка 12"/>
          <p:cNvSpPr/>
          <p:nvPr/>
        </p:nvSpPr>
        <p:spPr>
          <a:xfrm>
            <a:off x="403200" y="26845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ашивка 13"/>
          <p:cNvSpPr/>
          <p:nvPr/>
        </p:nvSpPr>
        <p:spPr>
          <a:xfrm>
            <a:off x="401760" y="4237200"/>
            <a:ext cx="358560" cy="349200"/>
          </a:xfrm>
          <a:custGeom>
            <a:avLst/>
            <a:gdLst>
              <a:gd name="textAreaLeft" fmla="*/ 0 w 358560"/>
              <a:gd name="textAreaRight" fmla="*/ 358560 w 3585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468360" y="583560"/>
            <a:ext cx="7711920" cy="5277600"/>
          </a:xfrm>
          <a:prstGeom prst="rect">
            <a:avLst/>
          </a:prstGeom>
          <a:solidFill>
            <a:srgbClr val="deebf7"/>
          </a:solidFill>
          <a:ln w="9360">
            <a:solidFill>
              <a:srgbClr val="52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бучающимся 9 (10) и 11 (12) классов при получении неудовлетворительных оценок по одному или двум предметам разрешается прохождение в школе повторной итоговой аттестации по данным учебным предметам в форме экзам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учающиеся 9 (10) класса при получении неудовлетворительных оценок по трем и более предметам остаются на повторный год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окончании следующего учебного года обучающимся, получившим справку о прохождении полного курса общего среднего образования, разрешается повторная итоговая аттестация по соответствующим учебным предметам в форме экзамена в организации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Экзаменационные материалы повторной итоговой аттестации в виде тестирования или в письменной (эссе), устной форме разрабатываются школами самостояте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677960" y="361800"/>
            <a:ext cx="596124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результатам итоговой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араллелограмм 6"/>
          <p:cNvSpPr/>
          <p:nvPr/>
        </p:nvSpPr>
        <p:spPr>
          <a:xfrm>
            <a:off x="2976480" y="5560920"/>
            <a:ext cx="5977080" cy="997200"/>
          </a:xfrm>
          <a:prstGeom prst="parallelogram">
            <a:avLst>
              <a:gd name="adj" fmla="val 25002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3168720" y="5459400"/>
            <a:ext cx="56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обучающимся 11 (12) класса, сдавшим повторную итоговую аттестацию, выдается аттестат об общем среднем образов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Выгнутая вправо стрелка 7"/>
          <p:cNvSpPr/>
          <p:nvPr/>
        </p:nvSpPr>
        <p:spPr>
          <a:xfrm>
            <a:off x="8147160" y="557280"/>
            <a:ext cx="730080" cy="3382920"/>
          </a:xfrm>
          <a:custGeom>
            <a:avLst/>
            <a:gdLst>
              <a:gd name="textAreaLeft" fmla="*/ 97560 w 730080"/>
              <a:gd name="textAreaRight" fmla="*/ 632520 w 730080"/>
              <a:gd name="textAreaTop" fmla="*/ 777240 h 3382920"/>
              <a:gd name="textAreaBottom" fmla="*/ 2514240 h 33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26" stAng="-5400000" swAng="5400000"/>
                <a:lnTo>
                  <a:pt x="21600" y="11091"/>
                </a:lnTo>
                <a:arcTo wR="21600" hR="9926" stAng="0" swAng="3640187"/>
                <a:lnTo>
                  <a:pt x="5400" y="21285"/>
                </a:lnTo>
                <a:lnTo>
                  <a:pt x="0" y="20435"/>
                </a:lnTo>
                <a:lnTo>
                  <a:pt x="5400" y="18954"/>
                </a:lnTo>
                <a:lnTo>
                  <a:pt x="5400" y="19537"/>
                </a:lnTo>
                <a:arcTo wR="21600" hR="9926" stAng="3640187" swAng="-3547342"/>
                <a:lnTo>
                  <a:pt x="21563" y="10509"/>
                </a:lnTo>
                <a:arcTo wR="21600" hR="9926" stAng="-92845" swAng="-5307155"/>
                <a:close/>
              </a:path>
              <a:path fill="darkenLess" w="21600" h="21600">
                <a:moveTo>
                  <a:pt x="0" y="0"/>
                </a:moveTo>
                <a:arcTo wR="21600" hR="9926" stAng="-5400000" swAng="5400000"/>
                <a:lnTo>
                  <a:pt x="21600" y="11091"/>
                </a:lnTo>
                <a:arcTo wR="21600" hR="9926" stAng="0" swAng="-92845"/>
                <a:lnTo>
                  <a:pt x="21563" y="10509"/>
                </a:lnTo>
                <a:arcTo wR="21600" hR="9926" stAng="-92845" swAng="-5307155"/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ашивка 8"/>
          <p:cNvSpPr/>
          <p:nvPr/>
        </p:nvSpPr>
        <p:spPr>
          <a:xfrm>
            <a:off x="628560" y="20685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ашивка 10"/>
          <p:cNvSpPr/>
          <p:nvPr/>
        </p:nvSpPr>
        <p:spPr>
          <a:xfrm>
            <a:off x="628560" y="2946240"/>
            <a:ext cx="358920" cy="349560"/>
          </a:xfrm>
          <a:custGeom>
            <a:avLst/>
            <a:gdLst>
              <a:gd name="textAreaLeft" fmla="*/ 0 w 358920"/>
              <a:gd name="textAreaRight" fmla="*/ 359280 w 35892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ашивка 11"/>
          <p:cNvSpPr/>
          <p:nvPr/>
        </p:nvSpPr>
        <p:spPr>
          <a:xfrm>
            <a:off x="628560" y="8589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ашивка 13"/>
          <p:cNvSpPr/>
          <p:nvPr/>
        </p:nvSpPr>
        <p:spPr>
          <a:xfrm>
            <a:off x="635040" y="4556160"/>
            <a:ext cx="358560" cy="349200"/>
          </a:xfrm>
          <a:custGeom>
            <a:avLst/>
            <a:gdLst>
              <a:gd name="textAreaLeft" fmla="*/ 0 w 358560"/>
              <a:gd name="textAreaRight" fmla="*/ 358560 w 3585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ашивка 14"/>
          <p:cNvSpPr/>
          <p:nvPr/>
        </p:nvSpPr>
        <p:spPr>
          <a:xfrm>
            <a:off x="217440" y="4511520"/>
            <a:ext cx="357120" cy="34956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ашивка 15"/>
          <p:cNvSpPr/>
          <p:nvPr/>
        </p:nvSpPr>
        <p:spPr>
          <a:xfrm>
            <a:off x="369720" y="4664160"/>
            <a:ext cx="357480" cy="349200"/>
          </a:xfrm>
          <a:custGeom>
            <a:avLst/>
            <a:gdLst>
              <a:gd name="textAreaLeft" fmla="*/ 0 w 357480"/>
              <a:gd name="textAreaRight" fmla="*/ 357840 w 3574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304560"/>
            <a:ext cx="788688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75b6"/>
                </a:solidFill>
                <a:latin typeface="Calibri Light"/>
              </a:rPr>
              <a:t>Шкала перевода баллов тестирования в оценки аттестата об общем среднем образовании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25520" y="1073160"/>
          <a:ext cx="8272440" cy="5446800"/>
        </p:xfrm>
        <a:graphic>
          <a:graphicData uri="http://schemas.openxmlformats.org/drawingml/2006/table">
            <a:tbl>
              <a:tblPr/>
              <a:tblGrid>
                <a:gridCol w="569880"/>
                <a:gridCol w="2382840"/>
                <a:gridCol w="1668600"/>
                <a:gridCol w="1523880"/>
                <a:gridCol w="976320"/>
                <a:gridCol w="1150920"/>
              </a:tblGrid>
              <a:tr h="7398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неудовлетвор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удовлетвор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хорош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отлич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874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кий язык для школ с русским,   узбекским, уйгурским</a:t>
                      </a: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аджикским языкам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65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для школ с казахским языком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00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58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73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76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мирная 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58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ая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кая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76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58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уз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76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ец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– 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– 2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– 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228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5D30-14A4-4BE9-8F2A-E2F17AF972C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AAE-DB58-4EB6-9C71-BA827C6FA3F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12" descr="Картинки по запросу картинки выпускные экзамены школьников в Казахстане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7320" y="196560"/>
            <a:ext cx="8621640" cy="43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АВИЛА ПРОВЕДЕНИЯ ИТОГОВОЙ АТТЕСТАЦИ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7800" y="977400"/>
            <a:ext cx="8537760" cy="54486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огласно приказу Министра образования и науки РК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т 18.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03.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2008 года № 125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«Об утверждении Типовых правил проведения текущего контроля успеваемости, промежуточной и итоговой аттестации обучающихся» (внесен изменений и дополнений приказам № 660 от 16.11.2016 г.)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рок - до 1 феврал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риказом директора школы должна быть создана Экзаменационна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Комиссии </a:t>
            </a:r>
            <a:r>
              <a:rPr b="1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при школе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ключаются учителя-предметник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и заместители директора школы (при наличии), представител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щественных организаций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(при наличии) и родительских комитет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. </a:t>
            </a:r>
            <a:r>
              <a:rPr b="1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ю возглавляет директор школы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 или лицо, заменяющее 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Комисси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при районном, городском отделе образования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включаются также учителя-предметники,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ы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отделов образования,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представител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щественных организаций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и родительских комитет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, а также секретарь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назначаемый из числа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отрудника отдела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разования.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ю возглавляет руководитель отдела образования или лицо, заменяющее 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Комисси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при управлении образовани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ключаются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чителя-предметник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 специалисты управления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образования,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представител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щественных организаций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и родительских комитет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, средств массовой информации, а также секретарь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назначаемый из числа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отрудника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правления образования.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ю возглавляет руководитель управления образования или лицо, заменяющее 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4E2E-59C3-45DA-B721-20248AB08B95}" type="slidenum">
              <a:rPr b="0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Users\Stella.Ibraeva\Desktop\приказ на русс - копия_Страница_2.jpg"/>
          <p:cNvPicPr/>
          <p:nvPr/>
        </p:nvPicPr>
        <p:blipFill>
          <a:blip r:embed="rId1"/>
          <a:stretch/>
        </p:blipFill>
        <p:spPr>
          <a:xfrm>
            <a:off x="4834080" y="1405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3"/>
          <p:cNvSpPr/>
          <p:nvPr/>
        </p:nvSpPr>
        <p:spPr>
          <a:xfrm>
            <a:off x="691848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086C-5A49-486D-A2DA-FE0B8167D85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Stella.Ibraeva\Desktop\приказ на русс - копия_Страница_1.jpg"/>
          <p:cNvPicPr/>
          <p:nvPr/>
        </p:nvPicPr>
        <p:blipFill>
          <a:blip r:embed="rId2"/>
          <a:stretch/>
        </p:blipFill>
        <p:spPr>
          <a:xfrm>
            <a:off x="515880" y="1495440"/>
            <a:ext cx="3774960" cy="488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tella.Ibraeva\Desktop\приказ на русс - копия_Страница_3.jpg"/>
          <p:cNvPicPr/>
          <p:nvPr/>
        </p:nvPicPr>
        <p:blipFill>
          <a:blip r:embed="rId3"/>
          <a:stretch/>
        </p:blipFill>
        <p:spPr>
          <a:xfrm>
            <a:off x="5119560" y="2873520"/>
            <a:ext cx="2786040" cy="360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274680" y="124200"/>
            <a:ext cx="847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Приказ МОН РК № 45 от 1 февраля 2017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«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здании Экзаменационной комиссии по итоговой аттестации обучающихся республиканских школ</a:t>
            </a: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2640" y="196560"/>
            <a:ext cx="8574120" cy="43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 ЭКЗАМЕНАЦИОННОЙ КОМИССИ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8200" y="795240"/>
            <a:ext cx="8537760" cy="5764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Комиссией, формируемой при школе, осуществляю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До 1 марта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</a:t>
            </a: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и направление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в филиал НЦТ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списков обучающихся 11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(12)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класса, сдающих итоговую аттестацию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с указанием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перечня предметов, выбранных обучающим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и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ся 11 класса с учетом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рофиля их обуч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работы по проведению экзаменов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, а также тестирования, пробных экзаменов по примерным темам эссе, вопросам и задачам итоговой аттест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состава дежурных и обеспечение кабинетов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необходимым техническим оборудованием 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(для практического задания по истории Казахстана, для аудирования и.т)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на период проведения итоговой аттест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рассмотрение письменных экзаменационных работ и заслушивание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устных экзаменационных ответов, проверка результат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ов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тестировани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я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бучающихся 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9 (10) и 11 (12) классов, в том числе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ретендующих на получение аттестатов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с отличием и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«Алтын белгі»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осле завершения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исьменных экзаменационных работ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, тестирования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и заслушивания устных экзаменационных ответов </a:t>
            </a: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направляет электронный вариант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ротокола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в отделы или управления образ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еревод баллов результатов тестирования в оценки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 соответствии со Шкалой перевода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баллов тестирования в оценки аттестата о среднем общем образовании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рассмотрение обоснованности предложений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оступивших на апелляцию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и принятие реш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до конца мая </a:t>
            </a: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ка обучающихся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по пробным экзаменационным материал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робные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экзаменационны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е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материал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ы и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учебно-методические пособия размещаются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а сайте </a:t>
            </a:r>
            <a:r>
              <a:rPr b="0" i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testcenter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r>
              <a:rPr b="0" i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kz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 и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а портале </a:t>
            </a:r>
            <a:r>
              <a:rPr b="0" i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kundelik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r>
              <a:rPr b="0" i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kz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(срок – до 10 март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15F4-5EE3-4B34-B68F-AED60056DD5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196560"/>
            <a:ext cx="8139240" cy="43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 ЭКЗАМЕНАЦИОННОЙ КОМИССИ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9400" y="836640"/>
            <a:ext cx="8180280" cy="5764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Заключительное заседание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 подведению итогов работы и принятию решения об утверждении списка обучающихся, награждаемых знаком «Алтын белгі», проводится не позднее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12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июня текущего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писки обладателей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видетельства об основном среднем образовании с отличием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аттестат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об общем среднем образовани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с отличием 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 общем среднем образовании «Алтын белгі»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и знака «Алтын белгі»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тверждается приказом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а школы </a:t>
            </a:r>
            <a:r>
              <a:rPr b="1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(срок - 12 июн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ручение аттестатов срок – 13-14 ию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правления образования и республиканские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школы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предоставляют в Министерство итоговые данные о результатах итоговой аттестации обучающихся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(срок - не позднее 20 июн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езультаты итоговой аттестации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обучающис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суждаются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на педсовете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при участии всех членов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Комиссии по итогам работы за учебный год в августе месяце текущего года. Педсовет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принимает меры по улучшению качества учебно-воспитательн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0860-47AC-4F4B-8318-D29F766E211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1220400"/>
            <a:ext cx="7886880" cy="52326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се материалы экзаменационных работ будут разработаны  Министерством образования и науки РК в соответствии с действующим ГОСО и учебными программами и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о 23 мая  доставлены до управлений образования областей, городов Астаны и Алматы, республиканских шк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правления образования областей, городов Астаны и Алматы должны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о 27 мая т.г. доставить экзаменационные материалы до каждой школы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, где обучающиеся сдают итоговую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2060"/>
                </a:solidFill>
                <a:latin typeface="Arial"/>
                <a:ea typeface="Arial"/>
              </a:rPr>
              <a:t>в школах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акеты с темами </a:t>
            </a:r>
            <a:r>
              <a:rPr b="0" lang="kk-KZ" sz="2000" spc="-1" strike="noStrike">
                <a:solidFill>
                  <a:srgbClr val="002060"/>
                </a:solidFill>
                <a:latin typeface="Arial"/>
                <a:ea typeface="Arial"/>
              </a:rPr>
              <a:t>эссе, билетами по Истории Казахстан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скрываются за 15 минут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о начала экзамена, пакеты с материалами по математике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скрываются за 1 час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присутствии обучающихся и членов Комиссии</a:t>
            </a:r>
            <a:r>
              <a:rPr b="0" lang="kk-KZ" sz="2000" spc="-1" strike="noStrike">
                <a:solidFill>
                  <a:srgbClr val="002060"/>
                </a:solidFill>
                <a:latin typeface="Arial"/>
                <a:ea typeface="Arial"/>
              </a:rPr>
              <a:t> школы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для проверки правильности условий предложенных зад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2BFC-1428-4781-A471-E17C1C27E4E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6760" y="483840"/>
            <a:ext cx="7824600" cy="43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 ЭКЗАМЕНАЦИОННОЙ КОМИССИ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29A8-3C26-4A6A-B513-7000282A36E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33280" y="784080"/>
          <a:ext cx="8732880" cy="5837400"/>
        </p:xfrm>
        <a:graphic>
          <a:graphicData uri="http://schemas.openxmlformats.org/drawingml/2006/table">
            <a:tbl>
              <a:tblPr/>
              <a:tblGrid>
                <a:gridCol w="1847880"/>
                <a:gridCol w="1155600"/>
                <a:gridCol w="3173400"/>
                <a:gridCol w="2556000"/>
              </a:tblGrid>
              <a:tr h="297000"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то и форма пр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ата и время пр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астники в регион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ветственные за организаци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058760"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 рамках коллегии Министерства образования и науки Р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 филиале  Некоммерческого акционерного общества</a:t>
                      </a:r>
                      <a:r>
                        <a:rPr b="1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«Республиканская физико-математическая школа</a:t>
                      </a: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. Астана, ул: Туркестан 2/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ководители областных, гг. Астана, Алматы департаментов по контролю в сфере образования, руководители областных, гг. Астана, Алматы управлений образования, руководители Назарбаев интеллектуальных школ и республиканских школ, сотрудники АО «НЦПК «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Ө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леу», директора институтов повышения квалификации педагогических кадров областей, г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.А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на и 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лматы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представители издательств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ДСО, Национальный центр тестирования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О им. Ы. Алтынсар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480"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. Актоб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Ш № 56, мкр. 12 мкр.  д-37 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 одному специалисту и методисту управлений образования Атырауской, Актюбинской, Западно-Казахстанской, Жамбылской, Кызылординской, Мангистауской, Южно-Казахстанской обла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ДСО, Национальный центр тестирования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О им. Ы. Алтынсар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ветственный за организацию из региона - руководитель школьного отдела Управления образования Актюбинской области Гүлжан Құлыбекқызы,  тел: (8713) 56-04-61, 8702407787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0560"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. Костана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мназия им. М. Горького, ул. Баймағанбетова, 154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 одному специалисту и методисту  управлений Акмолинской, Алматинской, Восточно-Казахстанской, Карагандинской, Костанайской, Павлодарской, Северо-Казахстанской  обла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ДСО, Национальный центр тестирования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О им. Ы. Алтынсар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ветственный за организации из региона - заместитель руководителя Управления образования Костанайской обласи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кина Гүлнар Көшкенқызы,   тел: (8714) 2 575-313, 8777 900 99 45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 rowSpan="5"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инансовый центр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 онлайн режиме чере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ртал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bak</a:t>
                      </a:r>
                      <a:r>
                        <a:rPr b="1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k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абинет министерства»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чание: школы района/города должны  подключаться к онлайн-конференции с одного сервера, чтобы избежать перегрузки в сети (не более 35 точек из одной област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истории Казахстана 11 классов, методисты, директора школ, заместители директоров школ по учебн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15840" rIns="15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ДСО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О им. Ы. Алтынсарина, Национальный центр тест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ветственный з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хническую част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Ергали Молдабаев, 870292087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изик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химии, биологи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географи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геометри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всемирн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й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истори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литератур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ы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иностранных языков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информатик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  11 классов, методисты, директора школ, заместители директоров школ по учебной работе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казахского языка и литературы 11 классов, методисты, директора школ, заместители директоров школ по учебной работе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русского языка и литературы 11 классов, методисты, директора школ, заместители директоров школ по учебной работе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1.03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математики 11 клас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тодисты, директора школ, заместители директоров школ по учебной работе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Прямоугольник 6"/>
          <p:cNvSpPr/>
          <p:nvPr/>
        </p:nvSpPr>
        <p:spPr>
          <a:xfrm>
            <a:off x="233280" y="169920"/>
            <a:ext cx="8742600" cy="45900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Граф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проведения семинаров по разъяснению нового формата итоговой аттестации и ЕНТ 201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57200" y="1092600"/>
            <a:ext cx="7723080" cy="4057920"/>
          </a:xfrm>
          <a:prstGeom prst="rect">
            <a:avLst/>
          </a:prstGeom>
          <a:solidFill>
            <a:srgbClr val="deebf7"/>
          </a:solidFill>
          <a:ln w="9360">
            <a:solidFill>
              <a:srgbClr val="52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) письменный экзамен по родному языку и литературе (язык обучения) в форме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э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1f4e7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)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исьменный экзамен по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гебр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началам анали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)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стный экзамен по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тори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Казахст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4) тестирование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по казахскому языку в школах с русским, узбекским, уйгурским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таджикским языками обучения и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естирование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по русскому языку в школах с казахским языком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) тестирование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предметам по выб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677960" y="361800"/>
            <a:ext cx="596124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Формы проведения итоговой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араллелограмм 6"/>
          <p:cNvSpPr/>
          <p:nvPr/>
        </p:nvSpPr>
        <p:spPr>
          <a:xfrm>
            <a:off x="2976480" y="5319720"/>
            <a:ext cx="5977080" cy="1238400"/>
          </a:xfrm>
          <a:prstGeom prst="parallelogram">
            <a:avLst>
              <a:gd name="adj" fmla="val 25004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3241800" y="5459400"/>
            <a:ext cx="53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В музыкальных, художественных школах, а также в школах искусств допускается </a:t>
            </a:r>
            <a:r>
              <a:rPr b="1" i="1" lang="kk-KZ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дополнительный экзамен творческого харак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Выгнутая вправо стрелка 7"/>
          <p:cNvSpPr/>
          <p:nvPr/>
        </p:nvSpPr>
        <p:spPr>
          <a:xfrm>
            <a:off x="8147160" y="557280"/>
            <a:ext cx="730080" cy="3382920"/>
          </a:xfrm>
          <a:custGeom>
            <a:avLst/>
            <a:gdLst>
              <a:gd name="textAreaLeft" fmla="*/ 97560 w 730080"/>
              <a:gd name="textAreaRight" fmla="*/ 632520 w 730080"/>
              <a:gd name="textAreaTop" fmla="*/ 777240 h 3382920"/>
              <a:gd name="textAreaBottom" fmla="*/ 2514240 h 33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26" stAng="-5400000" swAng="5400000"/>
                <a:lnTo>
                  <a:pt x="21600" y="11091"/>
                </a:lnTo>
                <a:arcTo wR="21600" hR="9926" stAng="0" swAng="3640187"/>
                <a:lnTo>
                  <a:pt x="5400" y="21285"/>
                </a:lnTo>
                <a:lnTo>
                  <a:pt x="0" y="20435"/>
                </a:lnTo>
                <a:lnTo>
                  <a:pt x="5400" y="18954"/>
                </a:lnTo>
                <a:lnTo>
                  <a:pt x="5400" y="19537"/>
                </a:lnTo>
                <a:arcTo wR="21600" hR="9926" stAng="3640187" swAng="-3547342"/>
                <a:lnTo>
                  <a:pt x="21563" y="10509"/>
                </a:lnTo>
                <a:arcTo wR="21600" hR="9926" stAng="-92845" swAng="-5307155"/>
                <a:close/>
              </a:path>
              <a:path fill="darkenLess" w="21600" h="21600">
                <a:moveTo>
                  <a:pt x="0" y="0"/>
                </a:moveTo>
                <a:arcTo wR="21600" hR="9926" stAng="-5400000" swAng="5400000"/>
                <a:lnTo>
                  <a:pt x="21600" y="11091"/>
                </a:lnTo>
                <a:arcTo wR="21600" hR="9926" stAng="0" swAng="-92845"/>
                <a:lnTo>
                  <a:pt x="21563" y="10509"/>
                </a:lnTo>
                <a:arcTo wR="21600" hR="9926" stAng="-92845" swAng="-5307155"/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ашивка 8"/>
          <p:cNvSpPr/>
          <p:nvPr/>
        </p:nvSpPr>
        <p:spPr>
          <a:xfrm>
            <a:off x="955800" y="201924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ашивка 10"/>
          <p:cNvSpPr/>
          <p:nvPr/>
        </p:nvSpPr>
        <p:spPr>
          <a:xfrm>
            <a:off x="941400" y="3219480"/>
            <a:ext cx="358920" cy="349200"/>
          </a:xfrm>
          <a:custGeom>
            <a:avLst/>
            <a:gdLst>
              <a:gd name="textAreaLeft" fmla="*/ 0 w 358920"/>
              <a:gd name="textAreaRight" fmla="*/ 359280 w 3589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ашивка 11"/>
          <p:cNvSpPr/>
          <p:nvPr/>
        </p:nvSpPr>
        <p:spPr>
          <a:xfrm>
            <a:off x="950760" y="1149480"/>
            <a:ext cx="357480" cy="349200"/>
          </a:xfrm>
          <a:custGeom>
            <a:avLst/>
            <a:gdLst>
              <a:gd name="textAreaLeft" fmla="*/ 0 w 357480"/>
              <a:gd name="textAreaRight" fmla="*/ 357840 w 3574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ашивка 12"/>
          <p:cNvSpPr/>
          <p:nvPr/>
        </p:nvSpPr>
        <p:spPr>
          <a:xfrm>
            <a:off x="966960" y="26719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ашивка 13"/>
          <p:cNvSpPr/>
          <p:nvPr/>
        </p:nvSpPr>
        <p:spPr>
          <a:xfrm>
            <a:off x="974880" y="4724280"/>
            <a:ext cx="358560" cy="349200"/>
          </a:xfrm>
          <a:custGeom>
            <a:avLst/>
            <a:gdLst>
              <a:gd name="textAreaLeft" fmla="*/ 0 w 358560"/>
              <a:gd name="textAreaRight" fmla="*/ 358560 w 3585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14:42:11Z</dcterms:created>
  <dc:creator>Елдос Нурланов</dc:creator>
  <dc:description/>
  <dc:language>en-US</dc:language>
  <cp:lastModifiedBy>Кабатова Ботагоз Амантаевна</cp:lastModifiedBy>
  <cp:lastPrinted>2017-02-22T10:40:35Z</cp:lastPrinted>
  <dcterms:modified xsi:type="dcterms:W3CDTF">2017-02-22T10:41:32Z</dcterms:modified>
  <cp:revision>1331</cp:revision>
  <dc:subject/>
  <dc:title>Презентация PowerPoint</dc:title>
</cp:coreProperties>
</file>