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1768-C056-4BCE-95A7-CD4A8DEA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8C94-0A68-4485-A938-F532CDC1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D44-2417-4066-813A-4B12ED1E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72F-40DB-44CB-A43F-2DEFB9F6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0F10-3BE4-4C73-ADC7-81DB53AF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4B2-8099-4BEC-B0A1-42A7187F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2BD2-7471-403E-AD57-259C7D33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5534-B645-4231-A287-1A2A602A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884-C620-4CF9-BBF2-2402D3FD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200F-9739-4922-AE32-C3604A97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12F-15B2-4B7D-B9D8-124F436E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202B-9F64-41A4-B53C-44783610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C889-4722-487C-98BE-97B6F708ADA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kk-KZ" sz="3200" spc="-1" strike="noStrike">
                <a:solidFill>
                  <a:srgbClr val="ff0000"/>
                </a:solidFill>
                <a:latin typeface="Calibri"/>
              </a:rPr>
              <a:t>Сөйлемдерді көшіріп ж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 KZ"/>
                <a:ea typeface="Times New Roman KZ"/>
              </a:rPr>
              <a:t>1. Ботасы өлген інгендей боздайды да жылай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 KZ"/>
                <a:ea typeface="Times New Roman KZ"/>
              </a:rPr>
              <a:t>2. Бір кезде төрдегілер қойдай дүрлігіп, есікке келд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 KZ"/>
                <a:ea typeface="Times New Roman KZ"/>
              </a:rPr>
              <a:t>3. Үріккен еліктей елегізе қалған ол төмен қар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00"/>
                </a:solidFill>
                <a:latin typeface="Times New Roman"/>
              </a:rPr>
              <a:t>Тұрақты сөз тіркестерін көшіріп жа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Үріп ауызға салғанда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Ит арқасы қиян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Зәре-құты қалма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мұрнынан шаншылып жүр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жүрегінің түгі ба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аузы-аузына жұқпа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құйып қойғанда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7:08:49Z</dcterms:created>
  <dc:creator>UserXP</dc:creator>
  <dc:description/>
  <dc:language>en-US</dc:language>
  <cp:lastModifiedBy>Admin</cp:lastModifiedBy>
  <dcterms:modified xsi:type="dcterms:W3CDTF">2017-03-12T17:37:24Z</dcterms:modified>
  <cp:revision>6</cp:revision>
  <dc:subject/>
  <dc:title>Слайд 1</dc:title>
</cp:coreProperties>
</file>