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0FD-1DA1-463F-BFD0-A60DAEAA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0B9-C4D0-4F82-B8A2-519EDAF2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A9D-E842-43BD-85FE-A097C823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C3D-BDAE-4E81-9D19-B385D90B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B8802-0E63-4483-8CA4-0DE9EB50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A29BE-EE34-4E3E-B19D-94E4CBFE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A0DB8-2A47-4C0B-AEEB-DC5B20E7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67178-BD14-41E4-B813-A6125E6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DCD24-8537-4865-BCB0-AD1ACA43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16DFD-9E52-4ABF-8068-2168FD60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35429-AC87-4BB6-9EAC-8F546C9F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A87-AFB6-4E5E-A495-8FDE2BA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2A6A5-B574-4292-9D66-7324A21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B08F0-F54C-458F-BD9F-BE9D122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21658-B663-441D-B1E4-01AC444D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0CA33-63FC-4D9E-80B4-F5ED14DF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73FE7-0BD1-466E-AD62-BE50AFDE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348-4852-4F46-A1A6-EF51DE32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F17-2911-4FC9-8722-50E018BB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088-D0F1-417C-8A25-649FFFA0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E70-E3F0-49FB-AF5E-18FCAEA2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D21-80FB-4F8D-9861-BAD1FFB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EF0-30E3-4C02-877D-3382AFC0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2C0-A16C-4247-BC8C-369A146A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E2D0-7757-4849-B919-6DD0AF75D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07E2-5254-488A-BDC3-9387388E18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77360" y="2664000"/>
            <a:ext cx="7931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Сабақтың тақырыб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Дыбыс үндестіг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       </a:t>
            </a: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ілгерінді ықп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3. Дыбыс үндестіг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</a:t>
            </a: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кейінді ықп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а) ілгерінді ықпал- көрші дыбыстардың  алғашқысы соңғысын өзіне ұқсата әсер етуі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Мысал: бала –дан, қала +ға, әке+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Ә) кейінді ықпал- сөз бен қосымшаның, сөз бен сөздің аралығында кейінгі дыбыстың алғашқы дыбысқа әсер ет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Мысалы: сабақ –сабағы, кітап –кітабы, есік-есігі, теп-теуіп т.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851280" y="1267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3780000" y="1844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630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ahoma"/>
              </a:rPr>
              <a:t>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476280"/>
          <a:ext cx="8569080" cy="6310440"/>
        </p:xfrm>
        <a:graphic>
          <a:graphicData uri="http://schemas.openxmlformats.org/drawingml/2006/table">
            <a:tbl>
              <a:tblPr/>
              <a:tblGrid>
                <a:gridCol w="3179520"/>
                <a:gridCol w="53895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Қосымшала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ын үндестігіне бағынбайтын қосымшаны та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ш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па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нікі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ла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да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қ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ды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ты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ке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ха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5:29:13Z</dcterms:created>
  <dc:creator>Анар</dc:creator>
  <dc:description/>
  <dc:language>en-US</dc:language>
  <cp:lastModifiedBy>Admin</cp:lastModifiedBy>
  <dcterms:modified xsi:type="dcterms:W3CDTF">2017-03-12T17:14:58Z</dcterms:modified>
  <cp:revision>17</cp:revision>
  <dc:subject/>
  <dc:title>Слайд 1</dc:title>
</cp:coreProperties>
</file>