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5CF1-F021-47BC-A6EA-C5309E90B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B641-0756-45FC-922E-4CD86CF1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E3CA-E1F0-40FE-AAE2-FC213EFA3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1A05-1206-47E2-ADF1-C88511EAF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DB2F9-0ABD-4034-9262-BDD08C64D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2DD04-7D1C-4ACB-9655-81F5D729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DFC8F-C610-4B50-A71F-A1AED61F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62C7-92E4-4456-9EE2-FF1BF3EA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1C13-E818-45F1-87F4-F9C47B51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1BACE-663E-4663-AE96-B33E675D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6C8A-65AA-451A-B132-AEBD83C3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511E-4901-4DCA-948B-075A0330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7F5E-97B2-48A3-9440-D4D0629F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45B7-CE52-43BF-BF4D-EA35E7C6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05D8-DE82-4303-B77B-76EE05B0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0A8C-3F85-4122-A7D3-8378222CE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CC3F-5DAE-4CBF-9764-96405AFF7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ED41A-1E07-4444-A424-28CB83DB4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48060-9787-437B-A4C2-86101AE4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4A1A1-99FA-48EE-BE56-735CB154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EB8DC-2F20-4518-AC7D-1EB045FA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B6358-C5E1-496B-927C-A1B2999B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69E7-7113-4FB5-982C-5493A0C5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D2058-F457-4253-A9E6-9FA1C25B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D4B1C-C0B5-4866-A0B6-538C412E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05852-7297-4F54-A12F-C8B6D2A9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5DC79-8D1E-40C8-BC91-A02CB579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083AF-F950-4D1B-B20D-855A1AC8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F2CD4-FD08-4511-8368-227692AC9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D53D0-15A7-44DC-B4D5-D33031DF5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3AC6E1-9497-468C-AD73-BA1224427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AE6AA1-693D-483B-871C-3B4B684F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AA0EB4-BF83-4200-A4F3-F5A61FED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96B6-43D7-4482-964C-299FA78A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E19700-6C55-4445-9EAC-C435FD35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A16BBF-1B08-4822-8253-4A980488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D8E606-E73F-4674-92A2-709B5304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0D4C61-2767-4BF3-AE35-588675CB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BD2402-F2AD-41CB-9352-9804C56F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F52AAE-AC24-4BE8-A868-627ABE46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0B46F8-7564-4571-A108-0FFD9F2A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1A89D0-AFE7-435B-AC14-87FA1212A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612E98-7137-4642-B849-0CEAAFD5E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A71D-2A91-455D-A3C6-BA2C1E83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A655-78A1-4B5B-B05C-FC5C8CA9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CEFD-76EE-4B19-A9BD-22EE8949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3C8B-E0D2-44CC-8639-CCF8529F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0F4C-1CB5-484F-AC69-FA2D5706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22E3-FC90-45B7-B97F-D0B321E3C59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7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99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00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01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2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03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4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5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6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7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108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109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0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1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2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3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4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5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7475-582C-4A7F-B6BF-4D5B100256F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58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9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60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61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62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63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64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65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7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7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81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8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01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2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3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4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5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6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7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8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9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0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1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A305-CF99-4CBA-9DAF-EAA8F2CEE40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54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5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56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257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58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59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60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61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62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63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64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265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66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67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8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9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0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1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2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CCD2-342B-4A35-BE88-693F91CEC1B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125892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00ffcc"/>
                </a:solidFill>
                <a:latin typeface="Monotype Corsiva"/>
              </a:rPr>
              <a:t>Ыбырай Алтынсар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00ffcc"/>
                </a:solidFill>
                <a:latin typeface="Monotype Corsiva"/>
              </a:rPr>
              <a:t>1841-188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2771640" y="549360"/>
            <a:ext cx="3456000" cy="3527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8" name="AutoShape 4"/>
          <p:cNvSpPr/>
          <p:nvPr/>
        </p:nvSpPr>
        <p:spPr>
          <a:xfrm>
            <a:off x="179280" y="260280"/>
            <a:ext cx="7561440" cy="6193080"/>
          </a:xfrm>
          <a:prstGeom prst="vertic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Үміт еткен көзімнің нұры – балам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Жаныңа жәрдем берсін хақ тағала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Атаң мұнда анаң мен есен – аман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Сүйіп сәлем жазады бүгін саған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	</a:t>
            </a: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	</a:t>
            </a: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	</a:t>
            </a: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	</a:t>
            </a: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Балқож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1" name="AutoShape 4"/>
          <p:cNvSpPr/>
          <p:nvPr/>
        </p:nvSpPr>
        <p:spPr>
          <a:xfrm>
            <a:off x="250920" y="260280"/>
            <a:ext cx="7740720" cy="6264360"/>
          </a:xfrm>
          <a:prstGeom prst="vertic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Өнер – білім бар жұрттар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Тастан сарай салғызды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Айшылық алыс жерлерден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Көзіңді ашып – жұмғанша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Жылдам хабар алғызды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...Отынсыз тамақ пісірді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Сусыздан сусын ішірді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Теңізге жүзді балықтай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Дұниені кезді жалықпа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	</a:t>
            </a: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	</a:t>
            </a: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	</a:t>
            </a: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	</a:t>
            </a: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Ыбырай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9af7d"/>
                                      </p:to>
                                    </p:animClr>
                                    <p:animClr clrSpc="rgb">
                                      <p:cBhvr>
                                        <p:cTn id="3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9af7d"/>
                                      </p:to>
                                    </p:animClr>
                                    <p:set>
                                      <p:cBhvr>
                                        <p:cTn id="3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179280" y="260280"/>
            <a:ext cx="7561440" cy="6193080"/>
          </a:xfrm>
          <a:prstGeom prst="verticalScroll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2f1311"/>
                </a:solidFill>
                <a:latin typeface="Monotype Corsiva"/>
              </a:rPr>
              <a:t>Біз надан боп өсірдік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2f1311"/>
                </a:solidFill>
                <a:latin typeface="Monotype Corsiva"/>
              </a:rPr>
              <a:t>Иектегі сақалды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2f1311"/>
                </a:solidFill>
                <a:latin typeface="Monotype Corsiva"/>
              </a:rPr>
              <a:t>“</a:t>
            </a:r>
            <a:r>
              <a:rPr b="0" i="1" lang="kk-KZ" sz="3200" spc="-1" strike="noStrike">
                <a:solidFill>
                  <a:srgbClr val="2f1311"/>
                </a:solidFill>
                <a:latin typeface="Monotype Corsiva"/>
              </a:rPr>
              <a:t>Өнер – жігіт көркі” деп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2f1311"/>
                </a:solidFill>
                <a:latin typeface="Monotype Corsiva"/>
              </a:rPr>
              <a:t>Ескермедік мақалды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2f1311"/>
                </a:solidFill>
                <a:latin typeface="Monotype Corsiva"/>
              </a:rPr>
              <a:t>Біз болмасақ, сіз барсыз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2f1311"/>
                </a:solidFill>
                <a:latin typeface="Monotype Corsiva"/>
              </a:rPr>
              <a:t>Үміт еткен достарым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2f1311"/>
                </a:solidFill>
                <a:latin typeface="Monotype Corsiva"/>
              </a:rPr>
              <a:t>Сіздерге бердім батамды</a:t>
            </a:r>
            <a:r>
              <a:rPr b="0" i="1" lang="ru-RU" sz="3200" spc="-1" strike="noStrike">
                <a:solidFill>
                  <a:srgbClr val="2f1311"/>
                </a:solidFill>
                <a:latin typeface="Monotype Corsiva"/>
              </a:rPr>
              <a:t>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f1311"/>
                </a:solidFill>
                <a:latin typeface="Monotype Corsiva"/>
              </a:rPr>
              <a:t>	</a:t>
            </a:r>
            <a:r>
              <a:rPr b="0" i="1" lang="ru-RU" sz="3200" spc="-1" strike="noStrike">
                <a:solidFill>
                  <a:srgbClr val="2f1311"/>
                </a:solidFill>
                <a:latin typeface="Monotype Corsiva"/>
              </a:rPr>
              <a:t>	</a:t>
            </a:r>
            <a:r>
              <a:rPr b="0" i="1" lang="ru-RU" sz="3200" spc="-1" strike="noStrike">
                <a:solidFill>
                  <a:srgbClr val="2f1311"/>
                </a:solidFill>
                <a:latin typeface="Monotype Corsiva"/>
              </a:rPr>
              <a:t>	</a:t>
            </a:r>
            <a:r>
              <a:rPr b="0" i="1" lang="ru-RU" sz="3200" spc="-1" strike="noStrike">
                <a:solidFill>
                  <a:srgbClr val="2f1311"/>
                </a:solidFill>
                <a:latin typeface="Monotype Corsiva"/>
              </a:rPr>
              <a:t>	</a:t>
            </a:r>
            <a:r>
              <a:rPr b="0" i="1" lang="ru-RU" sz="3200" spc="-1" strike="noStrike">
                <a:solidFill>
                  <a:srgbClr val="2f1311"/>
                </a:solidFill>
                <a:latin typeface="Monotype Corsiva"/>
              </a:rPr>
              <a:t>Ыбыра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9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7" name="AutoShape 4"/>
          <p:cNvSpPr/>
          <p:nvPr/>
        </p:nvSpPr>
        <p:spPr>
          <a:xfrm>
            <a:off x="179280" y="260280"/>
            <a:ext cx="7561440" cy="6193080"/>
          </a:xfrm>
          <a:prstGeom prst="vertic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Бір аллаға сыйынып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Кел, балалар, оқылық</a:t>
            </a:r>
            <a:r>
              <a:rPr b="0" i="1" lang="ru-RU" sz="2800" spc="-1" strike="noStrike">
                <a:solidFill>
                  <a:srgbClr val="2f1311"/>
                </a:solidFill>
                <a:latin typeface="Monotype Corsiva"/>
              </a:rPr>
              <a:t>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Оқығанды көңілг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Ықыласпен тоқылық</a:t>
            </a:r>
            <a:r>
              <a:rPr b="0" i="1" lang="ru-RU" sz="2800" spc="-1" strike="noStrike">
                <a:solidFill>
                  <a:srgbClr val="2f1311"/>
                </a:solidFill>
                <a:latin typeface="Monotype Corsiva"/>
              </a:rPr>
              <a:t>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Оқысаңдар, балалар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Шамнан шырақ жағылар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Тілегенің алдыңнан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Іздемей – ақ табылар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	</a:t>
            </a: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	</a:t>
            </a: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	</a:t>
            </a: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	</a:t>
            </a: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Ыбырай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0" name="AutoShape 4"/>
          <p:cNvSpPr/>
          <p:nvPr/>
        </p:nvSpPr>
        <p:spPr>
          <a:xfrm>
            <a:off x="179280" y="260280"/>
            <a:ext cx="7632720" cy="1081080"/>
          </a:xfrm>
          <a:custGeom>
            <a:avLst/>
            <a:gdLst>
              <a:gd name="textAreaLeft" fmla="*/ 1908000 w 7632720"/>
              <a:gd name="textAreaRight" fmla="*/ 5724720 w 7632720"/>
              <a:gd name="textAreaTop" fmla="*/ 0 h 1081080"/>
              <a:gd name="textAreaBottom" fmla="*/ 946080 h 10810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300" spc="-1" strike="noStrike">
                <a:solidFill>
                  <a:srgbClr val="2f1311"/>
                </a:solidFill>
                <a:latin typeface="Monotype Corsiva"/>
              </a:rPr>
              <a:t>Ыбырайдың Алтынсариннің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300" spc="-1" strike="noStrike">
                <a:solidFill>
                  <a:srgbClr val="2f1311"/>
                </a:solidFill>
                <a:latin typeface="Monotype Corsiva"/>
              </a:rPr>
              <a:t>өлеңдері мен шығармалары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1" name="AutoShape 6"/>
          <p:cNvSpPr/>
          <p:nvPr/>
        </p:nvSpPr>
        <p:spPr>
          <a:xfrm>
            <a:off x="250920" y="1628640"/>
            <a:ext cx="7416720" cy="4753080"/>
          </a:xfrm>
          <a:prstGeom prst="wedgeRoundRectCallout">
            <a:avLst>
              <a:gd name="adj1" fmla="val -2611"/>
              <a:gd name="adj2" fmla="val 13893"/>
              <a:gd name="adj3" fmla="val 16667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600" spc="-1" strike="noStrike">
                <a:solidFill>
                  <a:srgbClr val="2f1311"/>
                </a:solidFill>
                <a:latin typeface="Monotype Corsiva"/>
              </a:rPr>
              <a:t>Өлеңдері: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2f1311"/>
                </a:solidFill>
                <a:latin typeface="Monotype Corsiva"/>
              </a:rPr>
              <a:t>“</a:t>
            </a:r>
            <a:r>
              <a:rPr b="0" i="1" lang="kk-KZ" sz="2400" spc="-1" strike="noStrike">
                <a:solidFill>
                  <a:srgbClr val="2f1311"/>
                </a:solidFill>
                <a:latin typeface="Monotype Corsiva"/>
              </a:rPr>
              <a:t>Кел,, балалар, оқылық”, “Өнер – білім бар жұрттар”, “Өзен”, “Жаз”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2f1311"/>
                </a:solidFill>
                <a:latin typeface="Monotype Corsiva"/>
              </a:rPr>
              <a:t> “</a:t>
            </a:r>
            <a:r>
              <a:rPr b="0" i="1" lang="kk-KZ" sz="2400" spc="-1" strike="noStrike">
                <a:solidFill>
                  <a:srgbClr val="2f1311"/>
                </a:solidFill>
                <a:latin typeface="Monotype Corsiva"/>
              </a:rPr>
              <a:t>Әй, жігіттер”, “Залым төреге” т.б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600" spc="-1" strike="noStrike">
                <a:solidFill>
                  <a:srgbClr val="2f1311"/>
                </a:solidFill>
                <a:latin typeface="Monotype Corsiva"/>
              </a:rPr>
              <a:t>Әңгімелері: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600" spc="-1" strike="noStrike">
                <a:solidFill>
                  <a:srgbClr val="2f1311"/>
                </a:solidFill>
                <a:latin typeface="Monotype Corsiva"/>
              </a:rPr>
              <a:t>“</a:t>
            </a:r>
            <a:r>
              <a:rPr b="0" i="1" lang="kk-KZ" sz="2600" spc="-1" strike="noStrike">
                <a:solidFill>
                  <a:srgbClr val="2f1311"/>
                </a:solidFill>
                <a:latin typeface="Monotype Corsiva"/>
              </a:rPr>
              <a:t>Ағаш үй мен киіз үй”, “Қыпшақ Сейітқұл”, 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600" spc="-1" strike="noStrike">
                <a:solidFill>
                  <a:srgbClr val="2f1311"/>
                </a:solidFill>
                <a:latin typeface="Monotype Corsiva"/>
              </a:rPr>
              <a:t>“</a:t>
            </a:r>
            <a:r>
              <a:rPr b="0" i="1" lang="kk-KZ" sz="2600" spc="-1" strike="noStrike">
                <a:solidFill>
                  <a:srgbClr val="2f1311"/>
                </a:solidFill>
                <a:latin typeface="Monotype Corsiva"/>
              </a:rPr>
              <a:t>Асан мен Үсен” т.б.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</a:t>
            </a:r>
            <a:r>
              <a:rPr b="0" lang="kk-KZ" sz="3200" spc="-1" strike="noStrike">
                <a:solidFill>
                  <a:srgbClr val="2f1311"/>
                </a:solidFill>
                <a:latin typeface="Arial"/>
              </a:rPr>
              <a:t>өздікті көшіріп               жаз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4" name="AutoShape 4"/>
          <p:cNvSpPr/>
          <p:nvPr/>
        </p:nvSpPr>
        <p:spPr>
          <a:xfrm>
            <a:off x="250920" y="260280"/>
            <a:ext cx="7416720" cy="1081080"/>
          </a:xfrm>
          <a:prstGeom prst="flowChartOnlineStorage">
            <a:avLst/>
          </a:prstGeom>
          <a:solidFill>
            <a:srgbClr val="ccffcc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0000"/>
                </a:solidFill>
                <a:latin typeface="Monotype Corsiva"/>
              </a:rPr>
              <a:t>Сөздікпен жұмыс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5" name="AutoShape 5"/>
          <p:cNvSpPr/>
          <p:nvPr/>
        </p:nvSpPr>
        <p:spPr>
          <a:xfrm>
            <a:off x="250920" y="1628640"/>
            <a:ext cx="7416720" cy="4896000"/>
          </a:xfrm>
          <a:prstGeom prst="upArrowCallout">
            <a:avLst>
              <a:gd name="adj1" fmla="val 15949"/>
              <a:gd name="adj2" fmla="val 25128"/>
              <a:gd name="adj3" fmla="val 25551"/>
              <a:gd name="adj4" fmla="val 66660"/>
            </a:avLst>
          </a:prstGeom>
          <a:solidFill>
            <a:srgbClr val="ff99cc"/>
          </a:solidFill>
          <a:ln w="9360">
            <a:solidFill>
              <a:srgbClr val="f7d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2f1311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 </a:t>
            </a: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Өксіген – бұл жерде: шөлдеген мағынасынд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f1311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 </a:t>
            </a: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Қынарда – жағасында, маңынд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f1311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 </a:t>
            </a: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Жай – орын (жер), қоныс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f1311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 </a:t>
            </a: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Жанабында – жанында, маңында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5" dur="2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" dur="20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2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4" dur="20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" dur="2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" dur="2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" dur="2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" dur="2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7" name="AutoShape 4"/>
          <p:cNvSpPr/>
          <p:nvPr/>
        </p:nvSpPr>
        <p:spPr>
          <a:xfrm>
            <a:off x="250920" y="189000"/>
            <a:ext cx="7416720" cy="1224000"/>
          </a:xfrm>
          <a:prstGeom prst="irregularSeal1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000000"/>
                </a:solidFill>
                <a:latin typeface="Monotype Corsiva"/>
              </a:rPr>
              <a:t>Сөзжұмбақ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263520" y="1598760"/>
          <a:ext cx="7381800" cy="4497120"/>
        </p:xfrm>
        <a:graphic>
          <a:graphicData uri="http://schemas.openxmlformats.org/drawingml/2006/table">
            <a:tbl>
              <a:tblPr/>
              <a:tblGrid>
                <a:gridCol w="738360"/>
                <a:gridCol w="738000"/>
                <a:gridCol w="738360"/>
                <a:gridCol w="738000"/>
                <a:gridCol w="738360"/>
                <a:gridCol w="738000"/>
                <a:gridCol w="738360"/>
                <a:gridCol w="738000"/>
                <a:gridCol w="738360"/>
                <a:gridCol w="738000"/>
              </a:tblGrid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2f1311"/>
                      </a:solidFill>
                    </a:lnR>
                    <a:lnT>
                      <a:noFill/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0000"/>
                          </a:solidFill>
                          <a:latin typeface="Monotype Corsiva"/>
                        </a:rPr>
                        <a:t>Ы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7fed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9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0000"/>
                          </a:solidFill>
                          <a:latin typeface="Monotype Corsiva"/>
                        </a:rPr>
                        <a:t>Б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7fed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f13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0000"/>
                          </a:solidFill>
                          <a:latin typeface="Monotype Corsiva"/>
                        </a:rPr>
                        <a:t>Ы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7fed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9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0000"/>
                          </a:solidFill>
                          <a:latin typeface="Monotype Corsiva"/>
                        </a:rPr>
                        <a:t>Р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7fed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2f1311"/>
                      </a:solidFill>
                    </a:lnR>
                    <a:lnT>
                      <a:noFill/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0000"/>
                          </a:solidFill>
                          <a:latin typeface="Monotype Corsiva"/>
                        </a:rPr>
                        <a:t>А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7fed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>
                      <a:noFill/>
                    </a:lnR>
                    <a:lnT w="5760">
                      <a:solidFill>
                        <a:srgbClr val="2f1311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0000"/>
                          </a:solidFill>
                          <a:latin typeface="Monotype Corsiva"/>
                        </a:rPr>
                        <a:t>Й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solidFill>
                      <a:srgbClr val="7fed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>
                      <a:noFill/>
                    </a:lnR>
                    <a:lnT w="5760">
                      <a:solidFill>
                        <a:srgbClr val="2f13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f13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f13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0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1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2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03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" dur="20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04:34:51Z</dcterms:created>
  <dc:creator>User15</dc:creator>
  <dc:description/>
  <dc:language>en-US</dc:language>
  <cp:lastModifiedBy>Admin</cp:lastModifiedBy>
  <dcterms:modified xsi:type="dcterms:W3CDTF">2017-03-12T17:41:28Z</dcterms:modified>
  <cp:revision>15</cp:revision>
  <dc:subject/>
  <dc:title>Слайд 1</dc:title>
</cp:coreProperties>
</file>