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3A7D-BF5B-4AF9-91DB-C84DB6D4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F4C6-204F-42BD-BDD1-5F7401A2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5566-9187-41CF-AF1A-A881CCF0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5372-71E7-474C-9511-D91CAE55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997-43A3-4F58-AD88-C8DB7630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86C2-C7BF-4763-AB4B-F3A747E2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2F98-7CE9-4D37-8A2E-9DC69611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F24F-9976-4AF2-9E64-8BD77FA2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FBFC-BAA9-4F7B-8375-E4BF133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9A93-A426-4002-A77D-E0141EBE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5EAA-1289-42AB-902D-B1943404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7C42-C77B-48D8-8C7B-0B025C59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6546-3E96-477E-91F8-C098CC6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B4CE-AE7C-4BF9-9C8A-4770AF2D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70EC-D849-4546-A71E-ABA40C40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4033-02B6-4272-838C-D252F235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6CB4-C096-400D-886F-53AB217F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48F5-42D7-445B-AEE8-D13C163E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01B9-3CAE-47DC-8996-BD877CB4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6427-FE1C-4010-A8EF-92EB8095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F8F8-7174-436D-A525-BF223A06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F1F5-218A-44AA-8DBE-0DEF66EB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C300-15D6-4580-9E6E-C9186175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5A0D-446C-4C2B-BD00-6D324495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EE30-C45B-4DFC-8C3C-1FB7E63E3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Z 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8652-D8C6-4765-B9AD-5FB003E1CF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Z 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79280" y="469800"/>
            <a:ext cx="879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“</a:t>
            </a: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Жасырынған әріптер”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514"/>
                </a:solidFill>
                <a:latin typeface="KZ Times New Roman"/>
              </a:rPr>
              <a:t>Көп нүктенің орнына тиісті әріптерді қойып көшіріп жазу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00000"/>
                </a:solidFill>
                <a:latin typeface="KZ Times New Roman"/>
              </a:rPr>
              <a:t>...н... т...л...ң  ...р...ң  б...л, ( а; і; ы; ұ)</a:t>
            </a: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00000"/>
                </a:solidFill>
                <a:latin typeface="KZ Times New Roman"/>
              </a:rPr>
              <a:t>...т...ң б...п  т...р б...тт.... (ұ; я; ы; о; ұ; е)</a:t>
            </a: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0000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9280" y="469800"/>
            <a:ext cx="8790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“</a:t>
            </a: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Адасқан әріптер” ойыны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  “</a:t>
            </a: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Адасқан әріптерді” орнына қой және жуан дауыстылардың астын сызу. 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а,б,л,а,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ұ,а,з,т,с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к,н,ф,е,т,о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  “</a:t>
            </a: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Адасқан әріптерді” орнына қой және жіңішке  дауыстылардың астын сызу. 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е,т,р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д,у,а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к,і,е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41:42Z</dcterms:created>
  <dc:creator>ученик</dc:creator>
  <dc:description/>
  <dc:language>en-US</dc:language>
  <cp:lastModifiedBy>Admin</cp:lastModifiedBy>
  <dcterms:modified xsi:type="dcterms:W3CDTF">2017-03-12T17:13:55Z</dcterms:modified>
  <cp:revision>7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