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A90-1099-401E-A2C3-B44D1B72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07A-0288-43DF-87E6-2476AE39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6A7-FF43-4D62-990C-9870ED45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39B-6189-48D5-8242-ED625CFD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885-C0B8-4838-B4DB-5D581E2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EE8-C0FF-4EC6-9036-DE4F787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774-47CB-4AD9-81BE-9A40369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C5A-05DA-40AB-B1E7-86578DF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439560"/>
            <a:ext cx="131666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D43-502A-4F8C-B72C-7D30FAF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DF3-EE2F-4E9A-82B5-B647623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659-3C90-4C29-8536-640D3F3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67A-69CA-49C3-A29F-D2A3596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9991800"/>
            <a:ext cx="463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025-1B1B-4096-B2C1-7F5948A9F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753160" y="419040"/>
            <a:ext cx="4495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imes New Roman"/>
              </a:rPr>
              <a:t>Ой  шақыр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97160" y="1144440"/>
            <a:ext cx="1183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ұл суреттер НЕЛ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rot="1890000">
            <a:off x="2552400" y="3428640"/>
            <a:ext cx="252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лшылық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ету, сиын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empimage24"/>
          <p:cNvPicPr/>
          <p:nvPr/>
        </p:nvPicPr>
        <p:blipFill>
          <a:blip r:embed="rId2"/>
          <a:stretch/>
        </p:blipFill>
        <p:spPr>
          <a:xfrm>
            <a:off x="2768760" y="2577960"/>
            <a:ext cx="241272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543480" y="7365960"/>
            <a:ext cx="1777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мұсылм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empimage26"/>
          <p:cNvPicPr/>
          <p:nvPr/>
        </p:nvPicPr>
        <p:blipFill>
          <a:blip r:embed="rId3"/>
          <a:stretch/>
        </p:blipFill>
        <p:spPr>
          <a:xfrm>
            <a:off x="2971800" y="5118120"/>
            <a:ext cx="2502000" cy="2882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8204040" y="3365640"/>
            <a:ext cx="2959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ран, діни кіта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empimage28"/>
          <p:cNvPicPr/>
          <p:nvPr/>
        </p:nvPicPr>
        <p:blipFill>
          <a:blip r:embed="rId4"/>
          <a:stretch/>
        </p:blipFill>
        <p:spPr>
          <a:xfrm>
            <a:off x="7950240" y="2590920"/>
            <a:ext cx="346716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 rot="108000">
            <a:off x="8140320" y="6527520"/>
            <a:ext cx="2793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Алланың  үй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tempimage210"/>
          <p:cNvPicPr/>
          <p:nvPr/>
        </p:nvPicPr>
        <p:blipFill>
          <a:blip r:embed="rId5"/>
          <a:stretch/>
        </p:blipFill>
        <p:spPr>
          <a:xfrm>
            <a:off x="7759800" y="5473800"/>
            <a:ext cx="402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0" y="82440"/>
            <a:ext cx="14630400" cy="1097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tempimage51"/>
          <p:cNvPicPr/>
          <p:nvPr/>
        </p:nvPicPr>
        <p:blipFill>
          <a:blip r:embed="rId2"/>
          <a:stretch/>
        </p:blipFill>
        <p:spPr>
          <a:xfrm>
            <a:off x="5689440" y="1460520"/>
            <a:ext cx="254016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892160" y="4241880"/>
            <a:ext cx="104522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 Кәрім - мұсылман  қауымының  қасиетті кіта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да  Алла  тағаланың  атынан  айтылат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өсиет- өнегел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екі  дүниелік ереже -қағидалар  жинақталған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95560" y="7518240"/>
            <a:ext cx="11150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9:48:52Z</dcterms:created>
  <dc:creator>Admin</dc:creator>
  <dc:description/>
  <dc:language>en-US</dc:language>
  <cp:lastModifiedBy>Admin</cp:lastModifiedBy>
  <dcterms:modified xsi:type="dcterms:W3CDTF">2017-03-12T17:20:3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3000000000001024110</vt:lpwstr>
  </property>
</Properties>
</file>